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5009-D5B2-41A0-86FB-601BECA7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2C06-9CAC-4974-8E0D-A1F96B32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3D2F-6765-4CCD-8A12-3C34D57FA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8E09-D814-470D-B4FD-D4D8B305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770-A94D-4D7C-9F6C-A71355B0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431D-143C-4A6D-87EB-2ED6C75D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685-9A4A-467A-BFC9-33CF4BB9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630-8733-4AE8-94F3-940CCAC2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4D1A-9BD1-4371-B54D-A6399679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E0A-E614-4E7E-AF87-43C5FB78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CF9-1081-4168-9FF4-6F9DAF5C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1C0-0BEE-4712-9E18-2E33023D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F165-7D22-44AE-9C05-E1F38051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1"/>
          <a:stretch/>
        </p:blipFill>
        <p:spPr>
          <a:xfrm>
            <a:off x="1030320" y="2120760"/>
            <a:ext cx="6815160" cy="2318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estrella_fugaz"/>
          <p:cNvPicPr/>
          <p:nvPr/>
        </p:nvPicPr>
        <p:blipFill>
          <a:blip r:embed="rId2"/>
          <a:stretch/>
        </p:blipFill>
        <p:spPr>
          <a:xfrm>
            <a:off x="450720" y="5108400"/>
            <a:ext cx="152568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AutoShape 2"/>
          <p:cNvSpPr/>
          <p:nvPr/>
        </p:nvSpPr>
        <p:spPr>
          <a:xfrm>
            <a:off x="372960" y="251316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/>
          <p:cNvSpPr/>
          <p:nvPr/>
        </p:nvSpPr>
        <p:spPr>
          <a:xfrm>
            <a:off x="297000" y="33804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97000" y="1040040"/>
            <a:ext cx="9007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常用大写字母表示，元素常用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字母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72960" y="376200"/>
            <a:ext cx="56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79160" y="3353040"/>
            <a:ext cx="77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元素，就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属于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记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元素，就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记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010880" y="2513160"/>
            <a:ext cx="30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与元素的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1679400" y="5631840"/>
            <a:ext cx="481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如：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方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450720" y="37620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051200" y="37620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2"/>
          <p:cNvSpPr/>
          <p:nvPr/>
        </p:nvSpPr>
        <p:spPr>
          <a:xfrm>
            <a:off x="450720" y="37620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72960" y="1291680"/>
            <a:ext cx="1064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必须是确定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必居其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1051200" y="37620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AutoShape 2"/>
          <p:cNvSpPr/>
          <p:nvPr/>
        </p:nvSpPr>
        <p:spPr>
          <a:xfrm>
            <a:off x="450720" y="37620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372960" y="1291680"/>
            <a:ext cx="1064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必须是确定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必居其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互异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元素必须是互异不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51200" y="37620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AutoShape 2"/>
          <p:cNvSpPr/>
          <p:nvPr/>
        </p:nvSpPr>
        <p:spPr>
          <a:xfrm>
            <a:off x="450720" y="37620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72960" y="1291680"/>
            <a:ext cx="1064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必须是确定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必居其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互异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元素必须是互异不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无序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是无先后顺序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同一集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051200" y="37620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450720" y="37620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72960" y="1291680"/>
            <a:ext cx="1064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确定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必须是确定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必居其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⑵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互异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元素必须是互异不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而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}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无序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的元素是无先后顺序的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为同一集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632960" y="5459400"/>
            <a:ext cx="58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那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(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(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)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否为同一集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051200" y="37620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450720" y="52848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1149840" y="52812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方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450720" y="52848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149840" y="52812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方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3516480" y="15210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描述法、列举法、图表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>
            <a:off x="450720" y="52848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149840" y="528120"/>
            <a:ext cx="28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方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-297000" y="2413440"/>
            <a:ext cx="88398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用集合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;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大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小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奇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;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等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16480" y="1521000"/>
            <a:ext cx="87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描述法、列举法、图表法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595520" y="2208240"/>
            <a:ext cx="67546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正整数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1, 2, 3,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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中国古典四大名著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幼师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班的全体学生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我校篮球队的全体队员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到线段两端距离相等的点</a:t>
            </a:r>
            <a:r>
              <a:rPr b="1" lang="en-US" sz="3200" spc="-1" strike="noStrike">
                <a:solidFill>
                  <a:srgbClr val="000000"/>
                </a:solidFill>
                <a:latin typeface="仿宋"/>
                <a:ea typeface="仿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bi"/>
          <p:cNvPicPr/>
          <p:nvPr/>
        </p:nvPicPr>
        <p:blipFill>
          <a:blip r:embed="rId1"/>
          <a:stretch/>
        </p:blipFill>
        <p:spPr>
          <a:xfrm>
            <a:off x="179280" y="21744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1103760" y="223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仿宋"/>
                <a:ea typeface="仿宋"/>
              </a:rPr>
              <a:t>知识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179440" y="14446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"/>
                <a:ea typeface="仿宋"/>
              </a:rPr>
              <a:t>观察下面一些例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3700080" y="133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限集、无限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700080" y="133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限集、无限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854280" y="2131920"/>
            <a:ext cx="75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我们看这样一个集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有什么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j0088978"/>
          <p:cNvPicPr/>
          <p:nvPr/>
        </p:nvPicPr>
        <p:blipFill>
          <a:blip r:embed="rId2"/>
          <a:stretch/>
        </p:blipFill>
        <p:spPr>
          <a:xfrm>
            <a:off x="6556320" y="4192560"/>
            <a:ext cx="132084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297000" y="3428640"/>
            <a:ext cx="93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显然这个集合没有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把这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叫做空集，记作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3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700080" y="133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限集、无限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854280" y="2131920"/>
            <a:ext cx="75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我们看这样一个集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有什么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297000" y="3428640"/>
            <a:ext cx="93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显然这个集合没有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把这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叫做空集，记作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700080" y="133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限集、无限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854280" y="2131920"/>
            <a:ext cx="75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我们看这样一个集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有什么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454320" y="4956480"/>
            <a:ext cx="7390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填∈或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0 }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填＝或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297000" y="3428640"/>
            <a:ext cx="931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显然这个集合没有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把这样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叫做空集，记作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45072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95256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3700080" y="1336680"/>
            <a:ext cx="66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限集、无限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54280" y="2131920"/>
            <a:ext cx="752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问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我们看这样一个集合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它有什么特征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54320" y="4956480"/>
            <a:ext cx="7390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⑴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填∈或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⑵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0 }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     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填＝或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504960" y="4879800"/>
            <a:ext cx="50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761280" y="55656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2"/>
          <p:cNvSpPr/>
          <p:nvPr/>
        </p:nvSpPr>
        <p:spPr>
          <a:xfrm>
            <a:off x="449280" y="528480"/>
            <a:ext cx="41227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951120" y="57420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重要的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816200" y="1785960"/>
            <a:ext cx="6800760" cy="40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自然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正整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Z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整数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Q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有理数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buClr>
                <a:srgbClr val="ffff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：实数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36520" y="1596960"/>
            <a:ext cx="6640560" cy="442764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959760" y="1038240"/>
            <a:ext cx="693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元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满足什么条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bi"/>
          <p:cNvPicPr/>
          <p:nvPr/>
        </p:nvPicPr>
        <p:blipFill>
          <a:blip r:embed="rId1"/>
          <a:stretch/>
        </p:blipFill>
        <p:spPr>
          <a:xfrm>
            <a:off x="324000" y="698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1125000" y="7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959760" y="1038240"/>
            <a:ext cx="693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元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满足什么条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746640" y="3168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877760" y="317016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bi"/>
          <p:cNvPicPr/>
          <p:nvPr/>
        </p:nvPicPr>
        <p:blipFill>
          <a:blip r:embed="rId1"/>
          <a:stretch/>
        </p:blipFill>
        <p:spPr>
          <a:xfrm>
            <a:off x="324000" y="698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125000" y="7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959760" y="1038240"/>
            <a:ext cx="69350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数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}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元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应满足什么条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46640" y="3168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877760" y="3170160"/>
            <a:ext cx="42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∵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887400" y="4008600"/>
            <a:ext cx="433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∴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bi"/>
          <p:cNvPicPr/>
          <p:nvPr/>
        </p:nvPicPr>
        <p:blipFill>
          <a:blip r:embed="rId1"/>
          <a:stretch/>
        </p:blipFill>
        <p:spPr>
          <a:xfrm>
            <a:off x="324000" y="6984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7"/>
          <p:cNvSpPr/>
          <p:nvPr/>
        </p:nvSpPr>
        <p:spPr>
          <a:xfrm>
            <a:off x="1125000" y="763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例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349640" y="972000"/>
            <a:ext cx="6126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观察下面四个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 }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 }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 (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) |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它们表示含义相同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449280" y="87300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72960" y="2055960"/>
            <a:ext cx="97711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地，指定的某些对象的全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称为集合，简称“集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040040" y="906480"/>
            <a:ext cx="22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概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960120" y="3581280"/>
            <a:ext cx="6325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中每个对象叫做这个集合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1127520" y="910440"/>
            <a:ext cx="69494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方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和方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为元素的集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元素的个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09760" y="3627360"/>
            <a:ext cx="62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1         B.2          C.3         D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7092720" y="24066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  C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1127520" y="910440"/>
            <a:ext cx="694944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若方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　  和方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解为元素的集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元素的个数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09760" y="3627360"/>
            <a:ext cx="62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1         B.2          C.3         D.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092720" y="240660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  C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0720" y="453240"/>
            <a:ext cx="90061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一个元素，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与这个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0720" y="453240"/>
            <a:ext cx="90061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一个元素，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与这个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7466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644840" y="3049560"/>
            <a:ext cx="36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450720" y="453240"/>
            <a:ext cx="90061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一个元素，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与这个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7466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644840" y="3049560"/>
            <a:ext cx="36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929520" y="376560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×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552960" y="4452840"/>
            <a:ext cx="14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331720" y="445284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此时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50720" y="453240"/>
            <a:ext cx="90061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{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|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x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R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一个元素，求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值与这个元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7466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1644840" y="3049560"/>
            <a:ext cx="362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929520" y="3765600"/>
            <a:ext cx="53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当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≠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×4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552960" y="4452840"/>
            <a:ext cx="147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2331720" y="4452840"/>
            <a:ext cx="21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此时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1110600" y="5108400"/>
            <a:ext cx="41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这个元素为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1110600" y="5808600"/>
            <a:ext cx="41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时这个元素为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bi"/>
          <p:cNvPicPr/>
          <p:nvPr/>
        </p:nvPicPr>
        <p:blipFill>
          <a:blip r:embed="rId1"/>
          <a:stretch/>
        </p:blipFill>
        <p:spPr>
          <a:xfrm>
            <a:off x="620640" y="113976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1685520" y="11462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堂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136520" y="2055600"/>
            <a:ext cx="8550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4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1441440" y="1797120"/>
            <a:ext cx="6183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元素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与元素的关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bi"/>
          <p:cNvPicPr/>
          <p:nvPr/>
        </p:nvPicPr>
        <p:blipFill>
          <a:blip r:embed="rId1"/>
          <a:stretch/>
        </p:blipFill>
        <p:spPr>
          <a:xfrm>
            <a:off x="773280" y="83340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4"/>
          <p:cNvSpPr/>
          <p:nvPr/>
        </p:nvSpPr>
        <p:spPr>
          <a:xfrm>
            <a:off x="1837800" y="8398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bi"/>
          <p:cNvPicPr/>
          <p:nvPr/>
        </p:nvPicPr>
        <p:blipFill>
          <a:blip r:embed="rId1"/>
          <a:stretch/>
        </p:blipFill>
        <p:spPr>
          <a:xfrm>
            <a:off x="620640" y="1139760"/>
            <a:ext cx="792360" cy="7923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1685520" y="11462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365120" y="2284200"/>
            <a:ext cx="61833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书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P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第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463680" y="304200"/>
            <a:ext cx="80802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指定的对象，能构成一个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是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很小的数          ②不超过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非负实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坐标平面的横坐标与纵坐标相等的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近似值        ⑤高一年级优秀的学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无理数      ⑦大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整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正三角形全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253200" y="8334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  B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8400" y="4956120"/>
            <a:ext cx="9242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 ②③④⑥⑦⑧       B. ②③⑥⑦⑧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 ②③⑥⑦               D. ②③⑤⑥⑦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463680" y="304200"/>
            <a:ext cx="80802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指定的对象，能构成一个集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是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很小的数          ②不超过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非负实数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直角坐标平面的横坐标与纵坐标相等的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近似值        ⑤高一年级优秀的学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所有无理数      ⑦大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整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⑧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正三角形全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6253200" y="8334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(  B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8400" y="4956120"/>
            <a:ext cx="92422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 ②③④⑥⑦⑧       B. ②③⑥⑦⑧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 ②③⑥⑦               D. ②③⑤⑥⑦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297000" y="33804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372960" y="376200"/>
            <a:ext cx="56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97000" y="33804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97000" y="1040040"/>
            <a:ext cx="9007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常用大写字母表示，元素常用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字母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72960" y="376200"/>
            <a:ext cx="56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372960" y="251316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297000" y="33804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97000" y="1040040"/>
            <a:ext cx="9007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常用大写字母表示，元素常用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字母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372960" y="376200"/>
            <a:ext cx="56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1010880" y="2513160"/>
            <a:ext cx="30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与元素的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372960" y="2513160"/>
            <a:ext cx="4656240" cy="685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297000" y="338040"/>
            <a:ext cx="3894120" cy="685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7000" y="1040040"/>
            <a:ext cx="9007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常用大写字母表示，元素常用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写字母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72960" y="376200"/>
            <a:ext cx="564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的表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79160" y="3353040"/>
            <a:ext cx="774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是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元素，就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属于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记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是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元素，就说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不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于集合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记作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1010880" y="2513160"/>
            <a:ext cx="30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集合与元素的关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07:29:06Z</dcterms:created>
  <dc:creator>微软用户</dc:creator>
  <dc:description/>
  <dc:language>en-US</dc:language>
  <cp:lastModifiedBy>User</cp:lastModifiedBy>
  <dcterms:modified xsi:type="dcterms:W3CDTF">2021-08-19T07:29:15Z</dcterms:modified>
  <cp:revision>4</cp:revision>
  <dc:subject/>
  <dc:title>幻灯片 1</dc:title>
</cp:coreProperties>
</file>