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drumroll.wav" ContentType="audio/x-wav"/>
  <Override PartName="/ppt/media/laser.wav" ContentType="audio/x-wav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9E70-5703-44E2-BD63-4B10E293E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FC1-B60E-49C4-9412-6376F05B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AE46-D686-4A5E-BB48-44AAA0D9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CAA-5774-4EFE-A2F1-78B14CB1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0CE91-09B8-4164-92F5-8200C6FFC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026C-AC6A-4DBD-98E9-B89D8CAD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E98-26C0-4DE7-968A-21688725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CE52-E352-44DB-8558-C9F2E1DF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04BC-D130-460F-9AC7-BACA6E06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512A-8438-4E2C-933C-887661F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C13A-F2C3-4204-BC78-5A3593E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0B1-45FA-4E71-B70E-BA29A37C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E777-1576-4A8C-8406-6CC72214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1B61-3340-422E-AE0C-E07D2A21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3730-AC1E-470F-8766-0F536317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D1E7-B377-4B05-BD76-BBEC037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2395-DB29-461F-827D-DE4785B9B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1FB-4D75-4ADD-AD9A-ABD8B3A2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1090-9B79-47EA-B72C-A820A2E4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34A2-25B9-457A-A345-F390165F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D3A5-261A-4F7F-A205-C64A921B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BD0C-53EC-472D-A7BB-CA58B77A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53DA-0DC3-454D-A1FA-F76F458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274-115F-4ADC-A747-1F3DA0DA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F836-FC72-4532-9CDA-BA9B54811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2E3B-327B-4B0B-8335-789B7DBCC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1547640" y="3716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611280" y="1125360"/>
            <a:ext cx="761976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宋体"/>
              </a:rPr>
              <a:t>互斥事件有一个发生的概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10200" y="7524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练习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95280" y="1268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别下列每对事件是不是互斥事件，如果是，再判别它们是不是对立事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3479400" y="2189160"/>
            <a:ext cx="2775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一堆产品（其中正品与次品都多于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）中任取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其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2769840" y="342900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恰有一件次品和恰有两件次品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838960" y="4062240"/>
            <a:ext cx="11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至少有一件次品和全是次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3175560" y="478152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至少有一件正品和至少有一件次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671560" y="5502240"/>
            <a:ext cx="14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至少有一件次品和全是正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WordArt 2"/>
          <p:cNvSpPr txBox="1"/>
          <p:nvPr/>
        </p:nvSpPr>
        <p:spPr>
          <a:xfrm>
            <a:off x="380880" y="3808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结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61920" y="1371600"/>
            <a:ext cx="9144000" cy="2466720"/>
            <a:chOff x="61920" y="1371600"/>
            <a:chExt cx="9144000" cy="2466720"/>
          </a:xfrm>
        </p:grpSpPr>
        <p:sp>
          <p:nvSpPr>
            <p:cNvPr id="277" name="Text Box 4"/>
            <p:cNvSpPr/>
            <p:nvPr/>
          </p:nvSpPr>
          <p:spPr>
            <a:xfrm>
              <a:off x="61920" y="1371600"/>
              <a:ext cx="91440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正确理解事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含义，它是指“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两上互斥事件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与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中有一个发生”的事件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互斥事件与对立事件是两个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不同的概念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公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(A+B)=P(A)+P(B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使用条件：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事件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与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互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使用公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(A)=1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－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(A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时，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找事件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的对立事件</a:t>
              </a: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时，一定要保证准确无误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"/>
            <p:cNvSpPr/>
            <p:nvPr/>
          </p:nvSpPr>
          <p:spPr>
            <a:xfrm>
              <a:off x="3880080" y="3775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6"/>
            <p:cNvSpPr/>
            <p:nvPr/>
          </p:nvSpPr>
          <p:spPr>
            <a:xfrm>
              <a:off x="8070840" y="3733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矩形 2" descr=""/>
          <p:cNvPicPr/>
          <p:nvPr/>
        </p:nvPicPr>
        <p:blipFill>
          <a:blip r:embed="rId1"/>
          <a:stretch/>
        </p:blipFill>
        <p:spPr>
          <a:xfrm>
            <a:off x="1468440" y="1494000"/>
            <a:ext cx="3676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04920" y="30492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个盒子内放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大小相同的小球，其中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红球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绿球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黄球。从中任取一个小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盒中摸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球得到红球”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盒中摸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球得到绿球”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盒中摸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球得到红球或绿球”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04920" y="3048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分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826920" y="29973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从盒中摸出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是红球，即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生，                那么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不发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33520" y="40384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从盒中摸出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球是绿球，即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生，那么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不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80880" y="5105520"/>
            <a:ext cx="613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可能同时发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0" y="5715000"/>
            <a:ext cx="868680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这种不可能同时发生的两个事件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互斥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8"/>
          <p:cNvSpPr/>
          <p:nvPr/>
        </p:nvSpPr>
        <p:spPr>
          <a:xfrm>
            <a:off x="4211640" y="5734080"/>
            <a:ext cx="83808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0"/>
          <p:cNvSpPr/>
          <p:nvPr/>
        </p:nvSpPr>
        <p:spPr>
          <a:xfrm>
            <a:off x="0" y="3033720"/>
            <a:ext cx="9144000" cy="0"/>
          </a:xfrm>
          <a:prstGeom prst="line">
            <a:avLst/>
          </a:prstGeom>
          <a:ln w="38160">
            <a:solidFill>
              <a:srgbClr val="ff33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908000" y="253692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从盒中摸出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个球，得到黄球”为事件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28600" y="30492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申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对于上面的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中任何两个都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斥事件，这时我们说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彼此互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04920" y="1523880"/>
            <a:ext cx="85341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一般地，如果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任何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都是互斥事件，那么就说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事件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、…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彼此互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33526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从集合的角度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几个事件彼此互斥，是指由各个事件所含的结果组成的集合彼此互不相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533520" y="4800600"/>
            <a:ext cx="7772400" cy="1752480"/>
            <a:chOff x="533520" y="4800600"/>
            <a:chExt cx="7772400" cy="1752480"/>
          </a:xfrm>
        </p:grpSpPr>
        <p:sp>
          <p:nvSpPr>
            <p:cNvPr id="164" name="Rectangle 6"/>
            <p:cNvSpPr/>
            <p:nvPr/>
          </p:nvSpPr>
          <p:spPr>
            <a:xfrm>
              <a:off x="533520" y="4800600"/>
              <a:ext cx="77724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838080" y="5105520"/>
              <a:ext cx="4113360" cy="122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8"/>
            <p:cNvSpPr/>
            <p:nvPr/>
          </p:nvSpPr>
          <p:spPr>
            <a:xfrm>
              <a:off x="5410080" y="5029200"/>
              <a:ext cx="1371600" cy="1295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9"/>
            <p:cNvSpPr/>
            <p:nvPr/>
          </p:nvSpPr>
          <p:spPr>
            <a:xfrm>
              <a:off x="7238880" y="5105520"/>
              <a:ext cx="762120" cy="12189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0"/>
            <p:cNvSpPr/>
            <p:nvPr/>
          </p:nvSpPr>
          <p:spPr>
            <a:xfrm>
              <a:off x="1066680" y="5181480"/>
              <a:ext cx="37339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红  红   红   红    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红    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1"/>
            <p:cNvSpPr/>
            <p:nvPr/>
          </p:nvSpPr>
          <p:spPr>
            <a:xfrm>
              <a:off x="5791320" y="5181480"/>
              <a:ext cx="1218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2"/>
            <p:cNvSpPr/>
            <p:nvPr/>
          </p:nvSpPr>
          <p:spPr>
            <a:xfrm>
              <a:off x="7391520" y="5257800"/>
              <a:ext cx="53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3"/>
            <p:cNvSpPr/>
            <p:nvPr/>
          </p:nvSpPr>
          <p:spPr>
            <a:xfrm>
              <a:off x="5029200" y="4800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Object 14"/>
              <p:cNvSpPr txBox="1"/>
              <p:nvPr/>
            </p:nvSpPr>
            <p:spPr>
              <a:xfrm>
                <a:off x="6705720" y="3962520"/>
                <a:ext cx="17017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228600" y="304920"/>
            <a:ext cx="8458200" cy="1828800"/>
            <a:chOff x="228600" y="304920"/>
            <a:chExt cx="8458200" cy="1828800"/>
          </a:xfrm>
        </p:grpSpPr>
        <p:sp>
          <p:nvSpPr>
            <p:cNvPr id="174" name="Text Box 3"/>
            <p:cNvSpPr/>
            <p:nvPr/>
          </p:nvSpPr>
          <p:spPr>
            <a:xfrm>
              <a:off x="228600" y="30492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在上面的问题中，我们把“从盒中摸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球，得到的不是红球（即绿球或黄球）”记作事件      。由于事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      不可能同时发生，它们是互斥事件。又由于摸出的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个球要么是红球，要么不是红球，事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     中必有一个发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Object 4"/>
                <p:cNvSpPr txBox="1"/>
                <p:nvPr/>
              </p:nvSpPr>
              <p:spPr>
                <a:xfrm>
                  <a:off x="955800" y="1128960"/>
                  <a:ext cx="39996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8001000" y="1600560"/>
                  <a:ext cx="40032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6229440" y="660600"/>
                  <a:ext cx="41904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8" name="Text Box 7"/>
          <p:cNvSpPr/>
          <p:nvPr/>
        </p:nvSpPr>
        <p:spPr>
          <a:xfrm>
            <a:off x="103320" y="2747880"/>
            <a:ext cx="8839080" cy="45972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个事件必有一个发生的互斥事件叫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对立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04920" y="32814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380880" y="4348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一次试验中必然有一个发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0"/>
          <p:cNvGrpSpPr/>
          <p:nvPr/>
        </p:nvGrpSpPr>
        <p:grpSpPr>
          <a:xfrm>
            <a:off x="395280" y="3573360"/>
            <a:ext cx="8153280" cy="685800"/>
            <a:chOff x="395280" y="3573360"/>
            <a:chExt cx="8153280" cy="685800"/>
          </a:xfrm>
        </p:grpSpPr>
        <p:sp>
          <p:nvSpPr>
            <p:cNvPr id="182" name="Text Box 11"/>
            <p:cNvSpPr/>
            <p:nvPr/>
          </p:nvSpPr>
          <p:spPr>
            <a:xfrm>
              <a:off x="395280" y="3726000"/>
              <a:ext cx="815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(1)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事件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对立事件通常记作        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3" name="Object 12"/>
                <p:cNvSpPr txBox="1"/>
                <p:nvPr/>
              </p:nvSpPr>
              <p:spPr>
                <a:xfrm>
                  <a:off x="5195520" y="3573360"/>
                  <a:ext cx="51408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4" name="Text Box 15"/>
          <p:cNvSpPr/>
          <p:nvPr/>
        </p:nvSpPr>
        <p:spPr>
          <a:xfrm>
            <a:off x="7164360" y="5805360"/>
            <a:ext cx="990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补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6"/>
          <p:cNvSpPr/>
          <p:nvPr/>
        </p:nvSpPr>
        <p:spPr>
          <a:xfrm>
            <a:off x="1042920" y="2747880"/>
            <a:ext cx="15242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7"/>
          <p:cNvSpPr/>
          <p:nvPr/>
        </p:nvSpPr>
        <p:spPr>
          <a:xfrm>
            <a:off x="4419720" y="2747880"/>
            <a:ext cx="144756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18"/>
              <p:cNvSpPr txBox="1"/>
              <p:nvPr/>
            </p:nvSpPr>
            <p:spPr>
              <a:xfrm>
                <a:off x="5029200" y="2087640"/>
                <a:ext cx="360036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φ且A</m:t>
                    </m:r>
                    <m:r>
                      <m:t xml:space="preserve">∪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=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Group 22"/>
          <p:cNvGrpSpPr/>
          <p:nvPr/>
        </p:nvGrpSpPr>
        <p:grpSpPr>
          <a:xfrm>
            <a:off x="380880" y="4797360"/>
            <a:ext cx="8763120" cy="1042920"/>
            <a:chOff x="380880" y="4797360"/>
            <a:chExt cx="8763120" cy="1042920"/>
          </a:xfrm>
        </p:grpSpPr>
        <p:sp>
          <p:nvSpPr>
            <p:cNvPr id="189" name="Text Box 20"/>
            <p:cNvSpPr/>
            <p:nvPr/>
          </p:nvSpPr>
          <p:spPr>
            <a:xfrm>
              <a:off x="380880" y="5014800"/>
              <a:ext cx="8763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(3).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从集合的角度看，由事件         所含的结果组成的集合，与全集中由事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所含的结果组成的集合是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Object 21"/>
                <p:cNvSpPr txBox="1"/>
                <p:nvPr/>
              </p:nvSpPr>
              <p:spPr>
                <a:xfrm>
                  <a:off x="4356000" y="4797360"/>
                  <a:ext cx="514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A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p:transition>
    <p:blinds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65240" y="189000"/>
            <a:ext cx="8839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上面的问题中， “从盒中摸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球，得到红球或绿球”是一个事件，当摸出的是红球或绿球时，表示这个事件发生，我们把这个事件记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现在要问：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概率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"/>
          <p:cNvGrpSpPr/>
          <p:nvPr/>
        </p:nvGrpSpPr>
        <p:grpSpPr>
          <a:xfrm>
            <a:off x="457200" y="1560600"/>
            <a:ext cx="6130800" cy="520560"/>
            <a:chOff x="457200" y="1560600"/>
            <a:chExt cx="6130800" cy="520560"/>
          </a:xfrm>
        </p:grpSpPr>
        <p:sp>
          <p:nvSpPr>
            <p:cNvPr id="193" name="Rectangle 4"/>
            <p:cNvSpPr/>
            <p:nvPr/>
          </p:nvSpPr>
          <p:spPr>
            <a:xfrm>
              <a:off x="457200" y="1560600"/>
              <a:ext cx="106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结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"/>
            <p:cNvSpPr/>
            <p:nvPr/>
          </p:nvSpPr>
          <p:spPr>
            <a:xfrm>
              <a:off x="1828800" y="1560600"/>
              <a:ext cx="4759200" cy="520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+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+P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6"/>
          <p:cNvSpPr/>
          <p:nvPr/>
        </p:nvSpPr>
        <p:spPr>
          <a:xfrm>
            <a:off x="228600" y="2170080"/>
            <a:ext cx="8534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斥，那么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发生（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有一个发生）的概率，等于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分别发生的概率的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228600" y="3160800"/>
            <a:ext cx="85345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推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…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彼此互斥，那么事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生（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、…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有一个发生）的概率，等于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事件分别发生的概率的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1219320" y="4532400"/>
            <a:ext cx="6629400" cy="57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…+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P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+P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+…+P(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9"/>
              <p:cNvSpPr txBox="1"/>
              <p:nvPr/>
            </p:nvSpPr>
            <p:spPr>
              <a:xfrm>
                <a:off x="5573880" y="5765760"/>
                <a:ext cx="3466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或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0"/>
              <p:cNvSpPr txBox="1"/>
              <p:nvPr/>
            </p:nvSpPr>
            <p:spPr>
              <a:xfrm>
                <a:off x="201600" y="5751360"/>
                <a:ext cx="5181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A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Group 11"/>
          <p:cNvGrpSpPr/>
          <p:nvPr/>
        </p:nvGrpSpPr>
        <p:grpSpPr>
          <a:xfrm>
            <a:off x="304920" y="5065560"/>
            <a:ext cx="8381880" cy="520560"/>
            <a:chOff x="304920" y="5065560"/>
            <a:chExt cx="8381880" cy="520560"/>
          </a:xfrm>
        </p:grpSpPr>
        <p:sp>
          <p:nvSpPr>
            <p:cNvPr id="201" name="Text Box 12"/>
            <p:cNvSpPr/>
            <p:nvPr/>
          </p:nvSpPr>
          <p:spPr>
            <a:xfrm>
              <a:off x="304920" y="5065560"/>
              <a:ext cx="8381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5.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对立事件的概率的和等于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与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必然发生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3"/>
            <p:cNvSpPr/>
            <p:nvPr/>
          </p:nvSpPr>
          <p:spPr>
            <a:xfrm>
              <a:off x="5735520" y="5141880"/>
              <a:ext cx="2286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344520" y="115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判断下列每对事件是否是互斥事件，对立事件并说明道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65240" y="1868400"/>
            <a:ext cx="88390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)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出红桃”与“抽出黑桃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抽出红色牌”与“抽出黑色牌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抽出的牌点数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倍数”与“抽出的牌点数大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9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71360" y="110664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扑克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点数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~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任选一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WordArt 5"/>
          <p:cNvSpPr txBox="1"/>
          <p:nvPr/>
        </p:nvSpPr>
        <p:spPr>
          <a:xfrm>
            <a:off x="-36360" y="3621240"/>
            <a:ext cx="1371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点评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878040" y="4154400"/>
            <a:ext cx="7848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斥事件”和“对立事件”都是就两个事件而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互斥事件是不可能同时发生的两个事件，而对立事件是其中必有一个发生的互斥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892080" y="5553000"/>
            <a:ext cx="78138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立事件必须是互斥事件，但互斥事件不一定是对立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6040080" y="1868400"/>
            <a:ext cx="2375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互斥事件，不是对立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6033960" y="2478240"/>
            <a:ext cx="237528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互斥事件，又是对立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5284080" y="3573360"/>
            <a:ext cx="29239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互斥事件，不可能是对立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1"/>
          <p:cNvSpPr/>
          <p:nvPr/>
        </p:nvSpPr>
        <p:spPr>
          <a:xfrm>
            <a:off x="6211800" y="4154400"/>
            <a:ext cx="152424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228600"/>
            <a:ext cx="8839080" cy="3610800"/>
            <a:chOff x="0" y="228600"/>
            <a:chExt cx="8839080" cy="3610800"/>
          </a:xfrm>
        </p:grpSpPr>
        <p:sp>
          <p:nvSpPr>
            <p:cNvPr id="214" name="Line 3"/>
            <p:cNvSpPr/>
            <p:nvPr/>
          </p:nvSpPr>
          <p:spPr>
            <a:xfrm>
              <a:off x="0" y="76176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"/>
            <p:cNvSpPr/>
            <p:nvPr/>
          </p:nvSpPr>
          <p:spPr>
            <a:xfrm>
              <a:off x="8839080" y="76176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5"/>
            <p:cNvGrpSpPr/>
            <p:nvPr/>
          </p:nvGrpSpPr>
          <p:grpSpPr>
            <a:xfrm>
              <a:off x="0" y="228600"/>
              <a:ext cx="8839080" cy="3610800"/>
              <a:chOff x="0" y="228600"/>
              <a:chExt cx="8839080" cy="3610800"/>
            </a:xfrm>
          </p:grpSpPr>
          <p:sp>
            <p:nvSpPr>
              <p:cNvPr id="217" name="Text Box 6"/>
              <p:cNvSpPr/>
              <p:nvPr/>
            </p:nvSpPr>
            <p:spPr>
              <a:xfrm>
                <a:off x="0" y="228600"/>
                <a:ext cx="8839080" cy="361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例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某地区的年降水量在下列范围内的概率如下表所示：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年降水量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[100,15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[150,20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[200,250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）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[250,300)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单位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m)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概  率          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0.12               0.25           0.16             0.14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(1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求年降水量在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[100,200)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m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范围内的概率；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(2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求年降水量在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[150,300)(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m)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范围内的概率。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7"/>
              <p:cNvSpPr/>
              <p:nvPr/>
            </p:nvSpPr>
            <p:spPr>
              <a:xfrm>
                <a:off x="0" y="761760"/>
                <a:ext cx="883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8"/>
              <p:cNvSpPr/>
              <p:nvPr/>
            </p:nvSpPr>
            <p:spPr>
              <a:xfrm>
                <a:off x="1676160" y="76176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9"/>
              <p:cNvSpPr/>
              <p:nvPr/>
            </p:nvSpPr>
            <p:spPr>
              <a:xfrm>
                <a:off x="3200040" y="76176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0"/>
              <p:cNvSpPr/>
              <p:nvPr/>
            </p:nvSpPr>
            <p:spPr>
              <a:xfrm>
                <a:off x="6781680" y="76176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1"/>
              <p:cNvSpPr/>
              <p:nvPr/>
            </p:nvSpPr>
            <p:spPr>
              <a:xfrm>
                <a:off x="5105160" y="761760"/>
                <a:ext cx="0" cy="19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2"/>
              <p:cNvSpPr/>
              <p:nvPr/>
            </p:nvSpPr>
            <p:spPr>
              <a:xfrm>
                <a:off x="0" y="1981080"/>
                <a:ext cx="883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13"/>
              <p:cNvSpPr/>
              <p:nvPr/>
            </p:nvSpPr>
            <p:spPr>
              <a:xfrm>
                <a:off x="0" y="2666880"/>
                <a:ext cx="883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4"/>
          <p:cNvSpPr/>
          <p:nvPr/>
        </p:nvSpPr>
        <p:spPr>
          <a:xfrm>
            <a:off x="0" y="386064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记这个地区的年降水量   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[100,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[150,2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[200,2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[250,300)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m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范围内分别为事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,B,C,D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四个事件是彼此互斥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互斥事件的概率加法公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5"/>
          <p:cNvSpPr/>
          <p:nvPr/>
        </p:nvSpPr>
        <p:spPr>
          <a:xfrm>
            <a:off x="1164960" y="5154480"/>
            <a:ext cx="492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降水量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[100,200)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m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范围内的概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457200" y="5797440"/>
            <a:ext cx="83059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+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0.12+0.25=0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产品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是一级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是二级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从中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中至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件为二级品的概率是多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1403280" y="1125360"/>
            <a:ext cx="71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产品中任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恰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二级品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产品中任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恰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二级品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产品中任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都是二级品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531000" y="129528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法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6"/>
          <p:cNvGrpSpPr/>
          <p:nvPr/>
        </p:nvGrpSpPr>
        <p:grpSpPr>
          <a:xfrm>
            <a:off x="1447920" y="2349360"/>
            <a:ext cx="3410640" cy="1726560"/>
            <a:chOff x="1447920" y="2349360"/>
            <a:chExt cx="3410640" cy="1726560"/>
          </a:xfrm>
        </p:grpSpPr>
        <p:grpSp>
          <p:nvGrpSpPr>
            <p:cNvPr id="232" name="Group 7"/>
            <p:cNvGrpSpPr/>
            <p:nvPr/>
          </p:nvGrpSpPr>
          <p:grpSpPr>
            <a:xfrm>
              <a:off x="1447920" y="2349360"/>
              <a:ext cx="3308040" cy="575280"/>
              <a:chOff x="1447920" y="2349360"/>
              <a:chExt cx="3308040" cy="575280"/>
            </a:xfrm>
          </p:grpSpPr>
          <p:sp>
            <p:nvSpPr>
              <p:cNvPr id="233" name="Text Box 8"/>
              <p:cNvSpPr/>
              <p:nvPr/>
            </p:nvSpPr>
            <p:spPr>
              <a:xfrm>
                <a:off x="1447920" y="2349360"/>
                <a:ext cx="252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34" name="Object 9"/>
                  <p:cNvSpPr txBox="1"/>
                  <p:nvPr/>
                </p:nvSpPr>
                <p:spPr>
                  <a:xfrm>
                    <a:off x="3292920" y="2349360"/>
                    <a:ext cx="1463040" cy="57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235" name="Group 10"/>
            <p:cNvGrpSpPr/>
            <p:nvPr/>
          </p:nvGrpSpPr>
          <p:grpSpPr>
            <a:xfrm>
              <a:off x="1902960" y="2925000"/>
              <a:ext cx="2955600" cy="575280"/>
              <a:chOff x="1902960" y="2925000"/>
              <a:chExt cx="2955600" cy="575280"/>
            </a:xfrm>
          </p:grpSpPr>
          <mc:AlternateContent>
            <mc:Choice xmlns:a14="http://schemas.microsoft.com/office/drawing/2010/main" Requires="a14">
              <p:sp>
                <p:nvSpPr>
                  <p:cNvPr id="236" name="Object 11"/>
                  <p:cNvSpPr txBox="1"/>
                  <p:nvPr/>
                </p:nvSpPr>
                <p:spPr>
                  <a:xfrm>
                    <a:off x="3380400" y="2925000"/>
                    <a:ext cx="1478160" cy="57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37" name="Rectangle 12"/>
              <p:cNvSpPr/>
              <p:nvPr/>
            </p:nvSpPr>
            <p:spPr>
              <a:xfrm>
                <a:off x="1902960" y="292500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13"/>
            <p:cNvGrpSpPr/>
            <p:nvPr/>
          </p:nvGrpSpPr>
          <p:grpSpPr>
            <a:xfrm>
              <a:off x="1902960" y="3500640"/>
              <a:ext cx="2628360" cy="575280"/>
              <a:chOff x="1902960" y="3500640"/>
              <a:chExt cx="2628360" cy="575280"/>
            </a:xfrm>
          </p:grpSpPr>
          <mc:AlternateContent>
            <mc:Choice xmlns:a14="http://schemas.microsoft.com/office/drawing/2010/main" Requires="a14">
              <p:sp>
                <p:nvSpPr>
                  <p:cNvPr id="239" name="Object 14"/>
                  <p:cNvSpPr txBox="1"/>
                  <p:nvPr/>
                </p:nvSpPr>
                <p:spPr>
                  <a:xfrm>
                    <a:off x="3494160" y="3500640"/>
                    <a:ext cx="1037160" cy="575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40" name="Rectangle 15"/>
              <p:cNvSpPr/>
              <p:nvPr/>
            </p:nvSpPr>
            <p:spPr>
              <a:xfrm>
                <a:off x="1902960" y="3500640"/>
                <a:ext cx="1066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1" name="Text Box 16"/>
          <p:cNvSpPr/>
          <p:nvPr/>
        </p:nvSpPr>
        <p:spPr>
          <a:xfrm>
            <a:off x="2534400" y="4054320"/>
            <a:ext cx="498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题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彼此互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互斥时间概率的加法公式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件产品中至少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件为二级品的概率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7"/>
          <p:cNvGrpSpPr/>
          <p:nvPr/>
        </p:nvGrpSpPr>
        <p:grpSpPr>
          <a:xfrm>
            <a:off x="1811160" y="4876920"/>
            <a:ext cx="3218400" cy="1218960"/>
            <a:chOff x="1811160" y="4876920"/>
            <a:chExt cx="3218400" cy="1218960"/>
          </a:xfrm>
        </p:grpSpPr>
        <p:sp>
          <p:nvSpPr>
            <p:cNvPr id="243" name="Rectangle 18"/>
            <p:cNvSpPr/>
            <p:nvPr/>
          </p:nvSpPr>
          <p:spPr>
            <a:xfrm>
              <a:off x="1811160" y="4876920"/>
              <a:ext cx="3218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(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 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P(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+ P(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 + P(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19"/>
                <p:cNvSpPr txBox="1"/>
                <p:nvPr/>
              </p:nvSpPr>
              <p:spPr>
                <a:xfrm>
                  <a:off x="2192400" y="5638680"/>
                  <a:ext cx="190476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05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5" name="Group 20"/>
          <p:cNvGrpSpPr/>
          <p:nvPr/>
        </p:nvGrpSpPr>
        <p:grpSpPr>
          <a:xfrm>
            <a:off x="2134080" y="6095880"/>
            <a:ext cx="4266720" cy="459720"/>
            <a:chOff x="2134080" y="6095880"/>
            <a:chExt cx="4266720" cy="459720"/>
          </a:xfrm>
        </p:grpSpPr>
        <p:sp>
          <p:nvSpPr>
            <p:cNvPr id="246" name="Text Box 21"/>
            <p:cNvSpPr/>
            <p:nvPr/>
          </p:nvSpPr>
          <p:spPr>
            <a:xfrm>
              <a:off x="2134080" y="6095880"/>
              <a:ext cx="31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至少一件为二级品的概率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Object 22"/>
                <p:cNvSpPr txBox="1"/>
                <p:nvPr/>
              </p:nvSpPr>
              <p:spPr>
                <a:xfrm>
                  <a:off x="6095880" y="6130800"/>
                  <a:ext cx="30492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48" name="Object 23"/>
              <p:cNvSpPr txBox="1"/>
              <p:nvPr/>
            </p:nvSpPr>
            <p:spPr>
              <a:xfrm>
                <a:off x="990720" y="3962520"/>
                <a:ext cx="3808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4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1576080" y="270000"/>
            <a:ext cx="2654280" cy="1025280"/>
            <a:chOff x="1576080" y="270000"/>
            <a:chExt cx="2654280" cy="1025280"/>
          </a:xfrm>
        </p:grpSpPr>
        <p:sp>
          <p:nvSpPr>
            <p:cNvPr id="250" name="Text Box 3"/>
            <p:cNvSpPr/>
            <p:nvPr/>
          </p:nvSpPr>
          <p:spPr>
            <a:xfrm>
              <a:off x="1576080" y="270000"/>
              <a:ext cx="265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设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=“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三件全是一级品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Group 4"/>
            <p:cNvGrpSpPr/>
            <p:nvPr/>
          </p:nvGrpSpPr>
          <p:grpSpPr>
            <a:xfrm>
              <a:off x="2022120" y="685800"/>
              <a:ext cx="1675080" cy="609480"/>
              <a:chOff x="2022120" y="685800"/>
              <a:chExt cx="1675080" cy="609480"/>
            </a:xfrm>
          </p:grpSpPr>
          <p:sp>
            <p:nvSpPr>
              <p:cNvPr id="252" name="Text Box 5"/>
              <p:cNvSpPr/>
              <p:nvPr/>
            </p:nvSpPr>
            <p:spPr>
              <a:xfrm>
                <a:off x="2022120" y="762120"/>
                <a:ext cx="964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(A)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3" name="Object 6"/>
                  <p:cNvSpPr txBox="1"/>
                  <p:nvPr/>
                </p:nvSpPr>
                <p:spPr>
                  <a:xfrm>
                    <a:off x="2859120" y="685800"/>
                    <a:ext cx="838080" cy="609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  <m:sup>
                                <m:r>
                                  <m:t xml:space="preserve">3</m:t>
                                </m:r>
                              </m:sup>
                            </m:sSubSup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254" name="Group 7"/>
          <p:cNvGrpSpPr/>
          <p:nvPr/>
        </p:nvGrpSpPr>
        <p:grpSpPr>
          <a:xfrm>
            <a:off x="2361600" y="1219320"/>
            <a:ext cx="6641280" cy="866520"/>
            <a:chOff x="2361600" y="1219320"/>
            <a:chExt cx="6641280" cy="866520"/>
          </a:xfrm>
        </p:grpSpPr>
        <p:sp>
          <p:nvSpPr>
            <p:cNvPr id="255" name="Text Box 8"/>
            <p:cNvSpPr/>
            <p:nvPr/>
          </p:nvSpPr>
          <p:spPr>
            <a:xfrm>
              <a:off x="2361600" y="1260360"/>
              <a:ext cx="536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由于“任取三件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至少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件为二级品”是事件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对立事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根据对立事件的概率计算公式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得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9"/>
                <p:cNvSpPr txBox="1"/>
                <p:nvPr/>
              </p:nvSpPr>
              <p:spPr>
                <a:xfrm>
                  <a:off x="8763120" y="1219320"/>
                  <a:ext cx="23976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A</m:t>
                          </m:r>
                        </m:e>
                        <m:lim>
                          <m:r>
                            <m:t xml:space="preserve">−</m:t>
                          </m:r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Group 10"/>
          <p:cNvGrpSpPr/>
          <p:nvPr/>
        </p:nvGrpSpPr>
        <p:grpSpPr>
          <a:xfrm>
            <a:off x="1752480" y="2057400"/>
            <a:ext cx="3200040" cy="576000"/>
            <a:chOff x="1752480" y="2057400"/>
            <a:chExt cx="3200040" cy="576000"/>
          </a:xfrm>
        </p:grpSpPr>
        <p:sp>
          <p:nvSpPr>
            <p:cNvPr id="258" name="Text Box 11"/>
            <p:cNvSpPr/>
            <p:nvPr/>
          </p:nvSpPr>
          <p:spPr>
            <a:xfrm>
              <a:off x="1752480" y="205740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(  )=1-P(A)=1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9" name="Object 12"/>
                <p:cNvSpPr txBox="1"/>
                <p:nvPr/>
              </p:nvSpPr>
              <p:spPr>
                <a:xfrm>
                  <a:off x="2080440" y="2101320"/>
                  <a:ext cx="29196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Upp>
                        <m:e>
                          <m:r>
                            <m:t xml:space="preserve">A</m:t>
                          </m:r>
                        </m:e>
                        <m:lim>
                          <m:r>
                            <m:t xml:space="preserve">−</m:t>
                          </m:r>
                          <m:r>
                            <m:t xml:space="preserve">−</m:t>
                          </m:r>
                        </m:lim>
                      </m:limUp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0" name="Object 13"/>
                <p:cNvSpPr txBox="1"/>
                <p:nvPr/>
              </p:nvSpPr>
              <p:spPr>
                <a:xfrm>
                  <a:off x="3967920" y="2057400"/>
                  <a:ext cx="984600" cy="57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Group 14"/>
          <p:cNvGrpSpPr/>
          <p:nvPr/>
        </p:nvGrpSpPr>
        <p:grpSpPr>
          <a:xfrm>
            <a:off x="1981800" y="2590920"/>
            <a:ext cx="4266720" cy="459720"/>
            <a:chOff x="1981800" y="2590920"/>
            <a:chExt cx="4266720" cy="459720"/>
          </a:xfrm>
        </p:grpSpPr>
        <p:sp>
          <p:nvSpPr>
            <p:cNvPr id="262" name="Text Box 15"/>
            <p:cNvSpPr/>
            <p:nvPr/>
          </p:nvSpPr>
          <p:spPr>
            <a:xfrm>
              <a:off x="1981800" y="2590920"/>
              <a:ext cx="317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答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: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中至少一件为二级品的概率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Object 16"/>
                <p:cNvSpPr txBox="1"/>
                <p:nvPr/>
              </p:nvSpPr>
              <p:spPr>
                <a:xfrm>
                  <a:off x="5943600" y="2625840"/>
                  <a:ext cx="30492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2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Text Box 17"/>
          <p:cNvSpPr/>
          <p:nvPr/>
        </p:nvSpPr>
        <p:spPr>
          <a:xfrm>
            <a:off x="1939680" y="3324240"/>
            <a:ext cx="42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题步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事件用大写字母表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求其概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是对立事件或者互斥事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用公式解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8"/>
          <p:cNvSpPr/>
          <p:nvPr/>
        </p:nvSpPr>
        <p:spPr>
          <a:xfrm>
            <a:off x="2236680" y="4772160"/>
            <a:ext cx="509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题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面理解题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正面入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是否互斥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反面入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是否为对立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随机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可能事件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找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834120" y="29718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小题总结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263160" y="260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法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1-03-19T02:43:46Z</dcterms:modified>
  <cp:revision>17</cp:revision>
  <dc:subject/>
  <dc:title>PowerPoint Presentation</dc:title>
</cp:coreProperties>
</file>