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camera.wav" ContentType="audio/x-wav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DC89D24-BFD0-4141-A7B6-04B808FE5B06}" type="datetime11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09:37:1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B0CF-689C-4562-A4E9-B6D4D5CD592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5D86-DB0F-400F-8052-7165B34139FF}" type="datetime11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09:37:19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2896-C962-4732-A8E1-19695D16FEF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广东省阳江市第一中学周如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7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8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19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0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1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23.wmf"/><Relationship Id="rId2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1341360"/>
            <a:ext cx="874872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0c0"/>
                </a:solidFill>
                <a:latin typeface="Arial"/>
                <a:ea typeface="隶书"/>
              </a:rPr>
              <a:t>相互独立事件同时发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70c0"/>
                </a:solidFill>
                <a:latin typeface="Arial"/>
                <a:ea typeface="隶书"/>
              </a:rPr>
              <a:t>的概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258920" y="35733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Arial"/>
              </a:rPr>
              <a:t>苏州幼儿师范高等专科学校理科教研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457200" y="533520"/>
            <a:ext cx="83059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制造一种零件，甲机床的正品率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乙机床的正品率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从它们制造的产品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各任抽一件，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两件都是正品的概率是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？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恰有一件是正品的概率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468360" y="21337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解：设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=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从甲机床制造的产品中任意抽出一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正品；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=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从乙机床制造的产品中任意抽出一件是正品，则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独立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04920" y="327672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⑴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P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=P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P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=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9×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95=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8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5"/>
          <p:cNvGrpSpPr/>
          <p:nvPr/>
        </p:nvGrpSpPr>
        <p:grpSpPr>
          <a:xfrm>
            <a:off x="306360" y="3789360"/>
            <a:ext cx="6702840" cy="825480"/>
            <a:chOff x="306360" y="3789360"/>
            <a:chExt cx="6702840" cy="825480"/>
          </a:xfrm>
        </p:grpSpPr>
        <p:sp>
          <p:nvSpPr>
            <p:cNvPr id="195" name="Text Box 6"/>
            <p:cNvSpPr/>
            <p:nvPr/>
          </p:nvSpPr>
          <p:spPr>
            <a:xfrm>
              <a:off x="306360" y="3789360"/>
              <a:ext cx="670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⑵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A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·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 B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+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A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·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B)=P(A)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·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P(B)+P(A)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·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P(B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=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9×(1- 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95)+(1 -  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9) ×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95 =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7"/>
            <p:cNvSpPr/>
            <p:nvPr/>
          </p:nvSpPr>
          <p:spPr>
            <a:xfrm>
              <a:off x="1763640" y="38541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8"/>
            <p:cNvSpPr/>
            <p:nvPr/>
          </p:nvSpPr>
          <p:spPr>
            <a:xfrm>
              <a:off x="2906640" y="38541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9"/>
            <p:cNvSpPr/>
            <p:nvPr/>
          </p:nvSpPr>
          <p:spPr>
            <a:xfrm>
              <a:off x="4811400" y="38541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10"/>
            <p:cNvSpPr/>
            <p:nvPr/>
          </p:nvSpPr>
          <p:spPr>
            <a:xfrm>
              <a:off x="5573520" y="385416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2"/>
          <p:cNvGrpSpPr/>
          <p:nvPr/>
        </p:nvGrpSpPr>
        <p:grpSpPr>
          <a:xfrm>
            <a:off x="629640" y="4724280"/>
            <a:ext cx="8145000" cy="825480"/>
            <a:chOff x="629640" y="4724280"/>
            <a:chExt cx="8145000" cy="825480"/>
          </a:xfrm>
        </p:grpSpPr>
        <p:sp>
          <p:nvSpPr>
            <p:cNvPr id="201" name="Text Box 13"/>
            <p:cNvSpPr/>
            <p:nvPr/>
          </p:nvSpPr>
          <p:spPr>
            <a:xfrm>
              <a:off x="629640" y="4724280"/>
              <a:ext cx="8145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另解：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1  - 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A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·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B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 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-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A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·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B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=1 - 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855 - 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1 - 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95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1 - 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9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=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4"/>
            <p:cNvSpPr/>
            <p:nvPr/>
          </p:nvSpPr>
          <p:spPr>
            <a:xfrm>
              <a:off x="3809880" y="4789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4038480" y="4789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 Box 16"/>
          <p:cNvSpPr/>
          <p:nvPr/>
        </p:nvSpPr>
        <p:spPr>
          <a:xfrm>
            <a:off x="457200" y="55627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答：两件都是正品的概率是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855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恰有一件是正品概率是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457200" y="609480"/>
            <a:ext cx="73915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有甲、乙两批种子，发芽率分别是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在两批种子中各取一粒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甲批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取出一个能发芽的种子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=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乙批中抽出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能发芽的种子，问⑴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事件是否互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？是否互相独立？⑵两粒种子都能发芽的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率？⑶至少有一粒种子发芽的概率？⑷恰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一粒种子发芽的概率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685800" y="32767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解：⑴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两事件不互斥，是互相独立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685800" y="3733920"/>
            <a:ext cx="80773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⑵∵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=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两粒种子都能发芽  ∴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P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=P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P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              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=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8×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7=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685800" y="4572000"/>
            <a:ext cx="8153280" cy="1191240"/>
            <a:chOff x="685800" y="4572000"/>
            <a:chExt cx="8153280" cy="1191240"/>
          </a:xfrm>
        </p:grpSpPr>
        <p:sp>
          <p:nvSpPr>
            <p:cNvPr id="209" name="Text Box 6"/>
            <p:cNvSpPr/>
            <p:nvPr/>
          </p:nvSpPr>
          <p:spPr>
            <a:xfrm>
              <a:off x="685800" y="4572000"/>
              <a:ext cx="8153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⑶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1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–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A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·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B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=1- 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A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·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B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=1-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1-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8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1-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7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=0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．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9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7"/>
            <p:cNvSpPr/>
            <p:nvPr/>
          </p:nvSpPr>
          <p:spPr>
            <a:xfrm>
              <a:off x="198108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8"/>
            <p:cNvSpPr/>
            <p:nvPr/>
          </p:nvSpPr>
          <p:spPr>
            <a:xfrm>
              <a:off x="2286000" y="46479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9"/>
            <p:cNvSpPr/>
            <p:nvPr/>
          </p:nvSpPr>
          <p:spPr>
            <a:xfrm>
              <a:off x="388620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0"/>
            <p:cNvSpPr/>
            <p:nvPr/>
          </p:nvSpPr>
          <p:spPr>
            <a:xfrm>
              <a:off x="4876560" y="46479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11"/>
          <p:cNvGrpSpPr/>
          <p:nvPr/>
        </p:nvGrpSpPr>
        <p:grpSpPr>
          <a:xfrm>
            <a:off x="685800" y="5334120"/>
            <a:ext cx="7696080" cy="825480"/>
            <a:chOff x="685800" y="5334120"/>
            <a:chExt cx="7696080" cy="825480"/>
          </a:xfrm>
        </p:grpSpPr>
        <p:sp>
          <p:nvSpPr>
            <p:cNvPr id="215" name="Text Box 12"/>
            <p:cNvSpPr/>
            <p:nvPr/>
          </p:nvSpPr>
          <p:spPr>
            <a:xfrm>
              <a:off x="685800" y="5334120"/>
              <a:ext cx="7696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⑷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A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·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 B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+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A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华文楷体"/>
                </a:rPr>
                <a:t>·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B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=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A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B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+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A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P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（</a:t>
              </a:r>
              <a:r>
                <a:rPr b="1" lang="en-US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B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楷体"/>
                  <a:ea typeface="华文楷体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3"/>
            <p:cNvSpPr/>
            <p:nvPr/>
          </p:nvSpPr>
          <p:spPr>
            <a:xfrm>
              <a:off x="190476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4"/>
            <p:cNvSpPr/>
            <p:nvPr/>
          </p:nvSpPr>
          <p:spPr>
            <a:xfrm>
              <a:off x="304776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15"/>
            <p:cNvSpPr/>
            <p:nvPr/>
          </p:nvSpPr>
          <p:spPr>
            <a:xfrm>
              <a:off x="5486400" y="541008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16"/>
            <p:cNvSpPr/>
            <p:nvPr/>
          </p:nvSpPr>
          <p:spPr>
            <a:xfrm>
              <a:off x="6705360" y="54100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17"/>
          <p:cNvSpPr/>
          <p:nvPr/>
        </p:nvSpPr>
        <p:spPr>
          <a:xfrm>
            <a:off x="755640" y="5759280"/>
            <a:ext cx="693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=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-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-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7=0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066680" y="304920"/>
            <a:ext cx="7315200" cy="49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练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在某段时间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甲地下雨的概率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2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乙地下雨的概率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假定在这段时间内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两地是否下雨相互之间没有影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计算在这段时间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(1)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甲乙两地都下雨的概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甲乙两地都不下雨的概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其中至少一个地方下雨的概率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Object 2"/>
          <p:cNvGraphicFramePr/>
          <p:nvPr/>
        </p:nvGraphicFramePr>
        <p:xfrm>
          <a:off x="6400800" y="6124680"/>
          <a:ext cx="1295280" cy="49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6124680"/>
                    <a:ext cx="129528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3"/>
          <p:cNvSpPr/>
          <p:nvPr/>
        </p:nvSpPr>
        <p:spPr>
          <a:xfrm>
            <a:off x="304920" y="22860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元件能正常工作的概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称为该元件的可靠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由多个元件组成的系统能正常工作的概率称为系统的可靠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设所用元件的可靠性都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(0&lt;r&lt;1)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各元件能否正常工作是互相独立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求各系统的可靠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304920" y="2743200"/>
          <a:ext cx="3124080" cy="73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743200"/>
                    <a:ext cx="312408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5"/>
          <p:cNvGraphicFramePr/>
          <p:nvPr/>
        </p:nvGraphicFramePr>
        <p:xfrm>
          <a:off x="4419720" y="2666880"/>
          <a:ext cx="3962160" cy="100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2666880"/>
                    <a:ext cx="3962160" cy="10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6"/>
          <p:cNvGraphicFramePr/>
          <p:nvPr/>
        </p:nvGraphicFramePr>
        <p:xfrm>
          <a:off x="304920" y="4114800"/>
          <a:ext cx="3504960" cy="120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0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114800"/>
                    <a:ext cx="35049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7"/>
          <p:cNvGraphicFramePr/>
          <p:nvPr/>
        </p:nvGraphicFramePr>
        <p:xfrm>
          <a:off x="4572000" y="4259160"/>
          <a:ext cx="4114800" cy="100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2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259160"/>
                    <a:ext cx="4114800" cy="10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8"/>
          <p:cNvSpPr/>
          <p:nvPr/>
        </p:nvSpPr>
        <p:spPr>
          <a:xfrm>
            <a:off x="1447920" y="3497400"/>
            <a:ext cx="1225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5410080" y="3726000"/>
            <a:ext cx="27003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609480" y="5478480"/>
            <a:ext cx="3362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4952880" y="5402160"/>
            <a:ext cx="343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[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7" name=""/>
          <p:cNvGraphicFramePr/>
          <p:nvPr/>
        </p:nvGraphicFramePr>
        <p:xfrm>
          <a:off x="304920" y="685800"/>
          <a:ext cx="8305560" cy="5715000"/>
        </p:xfrm>
        <a:graphic>
          <a:graphicData uri="http://schemas.openxmlformats.org/drawingml/2006/table">
            <a:tbl>
              <a:tblPr/>
              <a:tblGrid>
                <a:gridCol w="1863720"/>
                <a:gridCol w="2871720"/>
                <a:gridCol w="35701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互斥事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楷体_GB2312"/>
                        </a:rPr>
                        <a:t>相互独立事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概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计算公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1048"/>
          <p:cNvSpPr/>
          <p:nvPr/>
        </p:nvSpPr>
        <p:spPr>
          <a:xfrm>
            <a:off x="2438280" y="1479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楷体"/>
              </a:rPr>
              <a:t>不可能同时发生的两个事件叫做互斥事件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49"/>
          <p:cNvSpPr/>
          <p:nvPr/>
        </p:nvSpPr>
        <p:spPr>
          <a:xfrm>
            <a:off x="5257800" y="120636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如果事件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（或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）是否发生对事件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（或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）发生的概率没有影响，这样的两个事件叫做相互独立事件 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050"/>
          <p:cNvSpPr/>
          <p:nvPr/>
        </p:nvSpPr>
        <p:spPr>
          <a:xfrm>
            <a:off x="23623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(A+B)=P(A)+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51"/>
          <p:cNvSpPr/>
          <p:nvPr/>
        </p:nvSpPr>
        <p:spPr>
          <a:xfrm>
            <a:off x="5257800" y="539424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P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·B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= P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）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·P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（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1" lang="zh-CN" sz="2000" spc="-1" strike="noStrike">
                <a:solidFill>
                  <a:srgbClr val="003366"/>
                </a:solidFill>
                <a:latin typeface="Times New Roman"/>
              </a:rPr>
              <a:t>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52"/>
          <p:cNvSpPr/>
          <p:nvPr/>
        </p:nvSpPr>
        <p:spPr>
          <a:xfrm>
            <a:off x="2438280" y="34606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互斥事件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中有一个发生，记作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A +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1053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1054"/>
          <p:cNvSpPr/>
          <p:nvPr/>
        </p:nvSpPr>
        <p:spPr>
          <a:xfrm>
            <a:off x="5257800" y="36734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相互独立事件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同时发生记作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A 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  <a:ea typeface="华文楷体"/>
              </a:rPr>
              <a:t>·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56"/>
          <p:cNvSpPr/>
          <p:nvPr/>
        </p:nvSpPr>
        <p:spPr>
          <a:xfrm>
            <a:off x="250920" y="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7"/>
          <p:cNvSpPr txBox="1"/>
          <p:nvPr/>
        </p:nvSpPr>
        <p:spPr>
          <a:xfrm>
            <a:off x="1835280" y="2349360"/>
            <a:ext cx="360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布置作业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189000"/>
            <a:ext cx="52578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cc"/>
                </a:solidFill>
                <a:latin typeface="隶书"/>
                <a:ea typeface="隶书"/>
              </a:rPr>
              <a:t>一 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611280" y="1268280"/>
            <a:ext cx="8076960" cy="44092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互斥事件的定义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对立事件的定义</a:t>
            </a: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互斥事件有一个发生的概率公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对立事件有一个发生的概率公式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076720" y="1413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不可能同时发生的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5148360" y="2236680"/>
            <a:ext cx="392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不可能同时发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且必有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一事件发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979640" y="4005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+B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P(A)+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9"/>
          <p:cNvGraphicFramePr/>
          <p:nvPr/>
        </p:nvGraphicFramePr>
        <p:xfrm>
          <a:off x="1403280" y="5661000"/>
          <a:ext cx="3960720" cy="37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5661000"/>
                    <a:ext cx="3960720" cy="37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-396720" y="1295280"/>
            <a:ext cx="95407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甲坛子里有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白球，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黑球，乙坛子里有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白球，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黑球，从这两个坛子里分别摸出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球，它们都是白球的概率是多少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79280" y="692280"/>
            <a:ext cx="23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华文行楷"/>
                <a:ea typeface="华文行楷"/>
              </a:rPr>
              <a:t>二、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5"/>
          <p:cNvGrpSpPr/>
          <p:nvPr/>
        </p:nvGrpSpPr>
        <p:grpSpPr>
          <a:xfrm>
            <a:off x="5181480" y="3962520"/>
            <a:ext cx="3733560" cy="2361600"/>
            <a:chOff x="5181480" y="3962520"/>
            <a:chExt cx="3733560" cy="2361600"/>
          </a:xfrm>
        </p:grpSpPr>
        <p:grpSp>
          <p:nvGrpSpPr>
            <p:cNvPr id="55" name="Group 10"/>
            <p:cNvGrpSpPr/>
            <p:nvPr/>
          </p:nvGrpSpPr>
          <p:grpSpPr>
            <a:xfrm>
              <a:off x="5181480" y="3962520"/>
              <a:ext cx="3733560" cy="2361600"/>
              <a:chOff x="5181480" y="3962520"/>
              <a:chExt cx="3733560" cy="2361600"/>
            </a:xfrm>
          </p:grpSpPr>
          <p:sp>
            <p:nvSpPr>
              <p:cNvPr id="56" name="Oval 6"/>
              <p:cNvSpPr/>
              <p:nvPr/>
            </p:nvSpPr>
            <p:spPr>
              <a:xfrm>
                <a:off x="5715000" y="3962520"/>
                <a:ext cx="3200040" cy="2361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Text Box 8"/>
              <p:cNvSpPr/>
              <p:nvPr/>
            </p:nvSpPr>
            <p:spPr>
              <a:xfrm>
                <a:off x="5181480" y="4862520"/>
                <a:ext cx="1706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华文行楷"/>
                    <a:ea typeface="华文行楷"/>
                  </a:rPr>
                  <a:t>乙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AutoShape 11"/>
            <p:cNvSpPr/>
            <p:nvPr/>
          </p:nvSpPr>
          <p:spPr>
            <a:xfrm flipV="1">
              <a:off x="7772400" y="5334120"/>
              <a:ext cx="457200" cy="4572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12"/>
            <p:cNvSpPr/>
            <p:nvPr/>
          </p:nvSpPr>
          <p:spPr>
            <a:xfrm flipV="1">
              <a:off x="6477120" y="5334120"/>
              <a:ext cx="457200" cy="4572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15"/>
            <p:cNvSpPr/>
            <p:nvPr/>
          </p:nvSpPr>
          <p:spPr>
            <a:xfrm flipV="1">
              <a:off x="6477120" y="449568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AutoShape 16"/>
            <p:cNvSpPr/>
            <p:nvPr/>
          </p:nvSpPr>
          <p:spPr>
            <a:xfrm flipV="1">
              <a:off x="7696080" y="441972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4"/>
          <p:cNvGrpSpPr/>
          <p:nvPr/>
        </p:nvGrpSpPr>
        <p:grpSpPr>
          <a:xfrm>
            <a:off x="533520" y="3809880"/>
            <a:ext cx="3733200" cy="2666880"/>
            <a:chOff x="533520" y="3809880"/>
            <a:chExt cx="3733200" cy="2666880"/>
          </a:xfrm>
        </p:grpSpPr>
        <p:grpSp>
          <p:nvGrpSpPr>
            <p:cNvPr id="63" name="Group 9"/>
            <p:cNvGrpSpPr/>
            <p:nvPr/>
          </p:nvGrpSpPr>
          <p:grpSpPr>
            <a:xfrm>
              <a:off x="533520" y="3809880"/>
              <a:ext cx="3733200" cy="2666880"/>
              <a:chOff x="533520" y="3809880"/>
              <a:chExt cx="3733200" cy="2666880"/>
            </a:xfrm>
          </p:grpSpPr>
          <p:sp>
            <p:nvSpPr>
              <p:cNvPr id="64" name="Oval 5"/>
              <p:cNvSpPr/>
              <p:nvPr/>
            </p:nvSpPr>
            <p:spPr>
              <a:xfrm>
                <a:off x="533520" y="3809880"/>
                <a:ext cx="3733200" cy="26668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 Box 7"/>
              <p:cNvSpPr/>
              <p:nvPr/>
            </p:nvSpPr>
            <p:spPr>
              <a:xfrm>
                <a:off x="533520" y="4699080"/>
                <a:ext cx="995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华文行楷"/>
                    <a:ea typeface="华文行楷"/>
                  </a:rPr>
                  <a:t>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AutoShape 13"/>
            <p:cNvSpPr/>
            <p:nvPr/>
          </p:nvSpPr>
          <p:spPr>
            <a:xfrm flipV="1">
              <a:off x="2743200" y="5562720"/>
              <a:ext cx="457200" cy="4572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14"/>
            <p:cNvSpPr/>
            <p:nvPr/>
          </p:nvSpPr>
          <p:spPr>
            <a:xfrm flipV="1">
              <a:off x="1676520" y="5562720"/>
              <a:ext cx="457200" cy="4572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17"/>
            <p:cNvSpPr/>
            <p:nvPr/>
          </p:nvSpPr>
          <p:spPr>
            <a:xfrm flipV="1">
              <a:off x="2971800" y="457200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18"/>
            <p:cNvSpPr/>
            <p:nvPr/>
          </p:nvSpPr>
          <p:spPr>
            <a:xfrm flipV="1">
              <a:off x="2209680" y="457200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AutoShape 19"/>
            <p:cNvSpPr/>
            <p:nvPr/>
          </p:nvSpPr>
          <p:spPr>
            <a:xfrm flipV="1">
              <a:off x="1371600" y="4572000"/>
              <a:ext cx="457200" cy="4572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AutoShape 20"/>
          <p:cNvSpPr/>
          <p:nvPr/>
        </p:nvSpPr>
        <p:spPr>
          <a:xfrm flipV="1">
            <a:off x="5943600" y="327672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 flipV="1">
            <a:off x="29718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2"/>
          <p:cNvSpPr/>
          <p:nvPr/>
        </p:nvSpPr>
        <p:spPr>
          <a:xfrm flipV="1">
            <a:off x="76960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3"/>
          <p:cNvSpPr/>
          <p:nvPr/>
        </p:nvSpPr>
        <p:spPr>
          <a:xfrm flipV="1">
            <a:off x="533520" y="3200400"/>
            <a:ext cx="457200" cy="45720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27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1676520" cy="901800"/>
          </a:xfrm>
          <a:prstGeom prst="rect">
            <a:avLst/>
          </a:prstGeom>
          <a:ln w="0">
            <a:noFill/>
          </a:ln>
        </p:spPr>
      </p:pic>
      <p:pic>
        <p:nvPicPr>
          <p:cNvPr id="76" name="Object 29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1371600" cy="885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0"/>
          <p:cNvSpPr/>
          <p:nvPr/>
        </p:nvSpPr>
        <p:spPr>
          <a:xfrm>
            <a:off x="304920" y="2133720"/>
            <a:ext cx="3581280" cy="8254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把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楷体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从甲坛子里摸出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个球，得到白球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楷体"/>
              </a:rPr>
              <a:t>”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叫做事件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A</a:t>
            </a:r>
            <a:r>
              <a:rPr b="1" lang="en-US" sz="24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5181480" y="2209680"/>
            <a:ext cx="3733920" cy="886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把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楷体"/>
              </a:rPr>
              <a:t>“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从乙坛子里摸出 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个球，得到白球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华文楷体"/>
              </a:rPr>
              <a:t>”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叫做事件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B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34"/>
          <p:cNvGrpSpPr/>
          <p:nvPr/>
        </p:nvGrpSpPr>
        <p:grpSpPr>
          <a:xfrm>
            <a:off x="3809880" y="3733920"/>
            <a:ext cx="2514600" cy="838080"/>
            <a:chOff x="3809880" y="3733920"/>
            <a:chExt cx="2514600" cy="838080"/>
          </a:xfrm>
        </p:grpSpPr>
        <p:sp>
          <p:nvSpPr>
            <p:cNvPr id="80" name="AutoShape 32"/>
            <p:cNvSpPr/>
            <p:nvPr/>
          </p:nvSpPr>
          <p:spPr>
            <a:xfrm>
              <a:off x="3809880" y="3733920"/>
              <a:ext cx="2514600" cy="838080"/>
            </a:xfrm>
            <a:prstGeom prst="leftRightArrow">
              <a:avLst>
                <a:gd name="adj1" fmla="val 50000"/>
                <a:gd name="adj2" fmla="val 59731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33"/>
            <p:cNvSpPr/>
            <p:nvPr/>
          </p:nvSpPr>
          <p:spPr>
            <a:xfrm>
              <a:off x="4191120" y="388620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没有影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24000" y="26028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三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新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24000" y="83664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1.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独立事件的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39640" y="1341360"/>
            <a:ext cx="784872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事件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否发生对事件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(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)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发生的概率没有影响，这样的两个事件叫做</a:t>
            </a:r>
            <a:r>
              <a:rPr b="1" i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互独立事件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326880" y="3962520"/>
            <a:ext cx="8359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ject 5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097080" cy="1089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4"/>
          <p:cNvSpPr/>
          <p:nvPr/>
        </p:nvSpPr>
        <p:spPr>
          <a:xfrm>
            <a:off x="0" y="306864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独立事件同时发生的概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684360" y="3933720"/>
            <a:ext cx="705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“</a:t>
            </a: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从两个坛子里分别摸出</a:t>
            </a:r>
            <a:r>
              <a:rPr b="1" lang="en-US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个球，都是白球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”</a:t>
            </a: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是一个事件，它的发生，就是事件</a:t>
            </a:r>
            <a:r>
              <a:rPr b="1" lang="en-US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同时发生，我们将它记作</a:t>
            </a:r>
            <a:r>
              <a:rPr b="1" lang="en-US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A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·</a:t>
            </a:r>
            <a:r>
              <a:rPr b="1" lang="en-US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．想一想，上面两个相互独立事件</a:t>
            </a:r>
            <a:r>
              <a:rPr b="1" lang="en-US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同时发生的概率</a:t>
            </a:r>
            <a:r>
              <a:rPr b="1" lang="en-US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P(A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华文楷体"/>
              </a:rPr>
              <a:t>·</a:t>
            </a:r>
            <a:r>
              <a:rPr b="1" lang="en-US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B)</a:t>
            </a:r>
            <a:r>
              <a:rPr b="1" lang="zh-CN" sz="2400" spc="-1" strike="noStrike">
                <a:solidFill>
                  <a:srgbClr val="333399"/>
                </a:solidFill>
                <a:latin typeface="华文楷体"/>
                <a:ea typeface="华文楷体"/>
              </a:rPr>
              <a:t>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533520" y="914400"/>
            <a:ext cx="8153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"/>
          <p:cNvGrpSpPr/>
          <p:nvPr/>
        </p:nvGrpSpPr>
        <p:grpSpPr>
          <a:xfrm>
            <a:off x="762120" y="762120"/>
            <a:ext cx="7848360" cy="1143000"/>
            <a:chOff x="762120" y="762120"/>
            <a:chExt cx="7848360" cy="1143000"/>
          </a:xfrm>
        </p:grpSpPr>
        <p:sp>
          <p:nvSpPr>
            <p:cNvPr id="91" name="Rectangle 3"/>
            <p:cNvSpPr/>
            <p:nvPr/>
          </p:nvSpPr>
          <p:spPr>
            <a:xfrm>
              <a:off x="762120" y="762120"/>
              <a:ext cx="784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从甲坛子里摸出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个球，有     种等可能的结果；从乙坛子里摸出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个球，有       种等可能的结果．于是从两个坛子里各摸出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个球，共有          种等可能的结果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"/>
            <p:cNvSpPr/>
            <p:nvPr/>
          </p:nvSpPr>
          <p:spPr>
            <a:xfrm>
              <a:off x="3124080" y="15238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"/>
            <p:cNvSpPr/>
            <p:nvPr/>
          </p:nvSpPr>
          <p:spPr>
            <a:xfrm>
              <a:off x="3809880" y="1905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4267080" y="1143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8"/>
          <p:cNvSpPr/>
          <p:nvPr/>
        </p:nvSpPr>
        <p:spPr>
          <a:xfrm>
            <a:off x="4284720" y="74916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771640" y="10526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2843280" y="1484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5 </a:t>
            </a:r>
            <a:r>
              <a:rPr b="1" lang="en-US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×</a:t>
            </a: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Arial"/>
              </a:rPr>
              <a:t>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4"/>
          <p:cNvGrpSpPr/>
          <p:nvPr/>
        </p:nvGrpSpPr>
        <p:grpSpPr>
          <a:xfrm>
            <a:off x="0" y="2133720"/>
            <a:ext cx="5410080" cy="2364840"/>
            <a:chOff x="0" y="2133720"/>
            <a:chExt cx="5410080" cy="2364840"/>
          </a:xfrm>
        </p:grpSpPr>
        <p:sp>
          <p:nvSpPr>
            <p:cNvPr id="99" name="Rectangle 13"/>
            <p:cNvSpPr/>
            <p:nvPr/>
          </p:nvSpPr>
          <p:spPr>
            <a:xfrm>
              <a:off x="609480" y="2133720"/>
              <a:ext cx="4724640" cy="2057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2"/>
            <p:cNvSpPr/>
            <p:nvPr/>
          </p:nvSpPr>
          <p:spPr>
            <a:xfrm>
              <a:off x="0" y="2210040"/>
              <a:ext cx="54100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7f007f"/>
                  </a:solidFill>
                  <a:latin typeface="Times New Roman"/>
                  <a:ea typeface="Times New Roman"/>
                </a:rPr>
                <a:t>            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白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白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白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白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白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白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，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，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，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，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，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，</a:t>
              </a:r>
              <a:r>
                <a:rPr b="1" lang="zh-CN" sz="2400" spc="-1" strike="noStrike">
                  <a:solidFill>
                    <a:srgbClr val="ffffff"/>
                  </a:solidFill>
                  <a:latin typeface="宋体"/>
                </a:rPr>
                <a:t>白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，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(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黑，黑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5"/>
          <p:cNvGrpSpPr/>
          <p:nvPr/>
        </p:nvGrpSpPr>
        <p:grpSpPr>
          <a:xfrm>
            <a:off x="228600" y="4572000"/>
            <a:ext cx="2209680" cy="1600200"/>
            <a:chOff x="228600" y="4572000"/>
            <a:chExt cx="2209680" cy="1600200"/>
          </a:xfrm>
        </p:grpSpPr>
        <p:grpSp>
          <p:nvGrpSpPr>
            <p:cNvPr id="102" name="Group 16"/>
            <p:cNvGrpSpPr/>
            <p:nvPr/>
          </p:nvGrpSpPr>
          <p:grpSpPr>
            <a:xfrm>
              <a:off x="228600" y="4572000"/>
              <a:ext cx="2209680" cy="1600200"/>
              <a:chOff x="228600" y="4572000"/>
              <a:chExt cx="2209680" cy="1600200"/>
            </a:xfrm>
          </p:grpSpPr>
          <p:sp>
            <p:nvSpPr>
              <p:cNvPr id="103" name="Oval 17"/>
              <p:cNvSpPr/>
              <p:nvPr/>
            </p:nvSpPr>
            <p:spPr>
              <a:xfrm>
                <a:off x="228600" y="4572000"/>
                <a:ext cx="2209680" cy="1600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8"/>
              <p:cNvSpPr/>
              <p:nvPr/>
            </p:nvSpPr>
            <p:spPr>
              <a:xfrm>
                <a:off x="228600" y="5105520"/>
                <a:ext cx="58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华文行楷"/>
                    <a:ea typeface="华文行楷"/>
                  </a:rPr>
                  <a:t>甲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AutoShape 19"/>
            <p:cNvSpPr/>
            <p:nvPr/>
          </p:nvSpPr>
          <p:spPr>
            <a:xfrm flipV="1">
              <a:off x="1536120" y="5623560"/>
              <a:ext cx="270360" cy="274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20"/>
            <p:cNvSpPr/>
            <p:nvPr/>
          </p:nvSpPr>
          <p:spPr>
            <a:xfrm flipV="1">
              <a:off x="905040" y="5623560"/>
              <a:ext cx="270360" cy="27432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 flipV="1">
              <a:off x="1671480" y="5029200"/>
              <a:ext cx="270360" cy="2743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22"/>
            <p:cNvSpPr/>
            <p:nvPr/>
          </p:nvSpPr>
          <p:spPr>
            <a:xfrm flipV="1">
              <a:off x="1220400" y="5029200"/>
              <a:ext cx="270360" cy="2743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23"/>
            <p:cNvSpPr/>
            <p:nvPr/>
          </p:nvSpPr>
          <p:spPr>
            <a:xfrm flipV="1">
              <a:off x="724320" y="5029200"/>
              <a:ext cx="270360" cy="27432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4"/>
          <p:cNvGrpSpPr/>
          <p:nvPr/>
        </p:nvGrpSpPr>
        <p:grpSpPr>
          <a:xfrm>
            <a:off x="2438280" y="4648320"/>
            <a:ext cx="2667240" cy="1600200"/>
            <a:chOff x="2438280" y="4648320"/>
            <a:chExt cx="2667240" cy="1600200"/>
          </a:xfrm>
        </p:grpSpPr>
        <p:grpSp>
          <p:nvGrpSpPr>
            <p:cNvPr id="111" name="Group 25"/>
            <p:cNvGrpSpPr/>
            <p:nvPr/>
          </p:nvGrpSpPr>
          <p:grpSpPr>
            <a:xfrm>
              <a:off x="2438280" y="4648320"/>
              <a:ext cx="2667240" cy="1600200"/>
              <a:chOff x="2438280" y="4648320"/>
              <a:chExt cx="2667240" cy="1600200"/>
            </a:xfrm>
          </p:grpSpPr>
          <p:sp>
            <p:nvSpPr>
              <p:cNvPr id="112" name="Oval 26"/>
              <p:cNvSpPr/>
              <p:nvPr/>
            </p:nvSpPr>
            <p:spPr>
              <a:xfrm>
                <a:off x="2819520" y="4648320"/>
                <a:ext cx="2286000" cy="16002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 Box 27"/>
              <p:cNvSpPr/>
              <p:nvPr/>
            </p:nvSpPr>
            <p:spPr>
              <a:xfrm>
                <a:off x="2438280" y="5256360"/>
                <a:ext cx="1219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华文行楷"/>
                    <a:ea typeface="华文行楷"/>
                  </a:rPr>
                  <a:t>乙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AutoShape 28"/>
            <p:cNvSpPr/>
            <p:nvPr/>
          </p:nvSpPr>
          <p:spPr>
            <a:xfrm flipV="1">
              <a:off x="4289040" y="5577480"/>
              <a:ext cx="326520" cy="309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AutoShape 29"/>
            <p:cNvSpPr/>
            <p:nvPr/>
          </p:nvSpPr>
          <p:spPr>
            <a:xfrm flipV="1">
              <a:off x="3363480" y="5577480"/>
              <a:ext cx="326520" cy="309600"/>
            </a:xfrm>
            <a:prstGeom prst="flowChartConnector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30"/>
            <p:cNvSpPr/>
            <p:nvPr/>
          </p:nvSpPr>
          <p:spPr>
            <a:xfrm flipV="1">
              <a:off x="3363480" y="5009400"/>
              <a:ext cx="326520" cy="309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31"/>
            <p:cNvSpPr/>
            <p:nvPr/>
          </p:nvSpPr>
          <p:spPr>
            <a:xfrm flipV="1">
              <a:off x="4234320" y="4957920"/>
              <a:ext cx="326520" cy="30960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32"/>
          <p:cNvSpPr/>
          <p:nvPr/>
        </p:nvSpPr>
        <p:spPr>
          <a:xfrm>
            <a:off x="6629400" y="1981080"/>
            <a:ext cx="2514600" cy="886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同时摸出白球的结果有</a:t>
            </a:r>
            <a:r>
              <a:rPr b="1" lang="en-US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3×2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种．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3"/>
          <p:cNvSpPr/>
          <p:nvPr/>
        </p:nvSpPr>
        <p:spPr>
          <a:xfrm>
            <a:off x="5486400" y="2971800"/>
            <a:ext cx="1981080" cy="609480"/>
          </a:xfrm>
          <a:custGeom>
            <a:avLst/>
            <a:gdLst>
              <a:gd name="textAreaLeft" fmla="*/ 366840 w 1981080"/>
              <a:gd name="textAreaRight" fmla="*/ 1398600 w 19810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999" hR="21600" stAng="10800000" swAng="-5400000"/>
                <a:lnTo>
                  <a:pt x="11248" y="21600"/>
                </a:lnTo>
                <a:arcTo wR="7999" hR="21600" stAng="5400000" swAng="-2705152"/>
                <a:lnTo>
                  <a:pt x="21105" y="7481"/>
                </a:lnTo>
                <a:lnTo>
                  <a:pt x="17622" y="0"/>
                </a:lnTo>
                <a:lnTo>
                  <a:pt x="13148" y="7481"/>
                </a:lnTo>
                <a:lnTo>
                  <a:pt x="15502" y="7481"/>
                </a:lnTo>
                <a:arcTo wR="7999" hR="21600" stAng="2694848" swAng="2441619"/>
                <a:lnTo>
                  <a:pt x="9623" y="21150"/>
                </a:lnTo>
                <a:arcTo wR="7999" hR="21600" stAng="5663533" swAng="5136467"/>
                <a:close/>
              </a:path>
              <a:path fill="darkenLess" w="21600" h="21600">
                <a:moveTo>
                  <a:pt x="0" y="0"/>
                </a:moveTo>
                <a:arcTo wR="7999" hR="21600" stAng="10800000" swAng="-5400000"/>
                <a:lnTo>
                  <a:pt x="11248" y="21600"/>
                </a:lnTo>
                <a:arcTo wR="7999" hR="21600" stAng="5400000" swAng="263533"/>
                <a:lnTo>
                  <a:pt x="9623" y="21150"/>
                </a:lnTo>
                <a:arcTo wR="7999" hR="21600" stAng="5663533" swAng="5136467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Object 34" descr=""/>
          <p:cNvPicPr/>
          <p:nvPr/>
        </p:nvPicPr>
        <p:blipFill>
          <a:blip r:embed="rId1"/>
          <a:stretch/>
        </p:blipFill>
        <p:spPr>
          <a:xfrm>
            <a:off x="6002280" y="3505320"/>
            <a:ext cx="2543400" cy="91728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35" descr=""/>
          <p:cNvPicPr/>
          <p:nvPr/>
        </p:nvPicPr>
        <p:blipFill>
          <a:blip r:embed="rId2"/>
          <a:stretch/>
        </p:blipFill>
        <p:spPr>
          <a:xfrm>
            <a:off x="5961240" y="4495680"/>
            <a:ext cx="2630160" cy="1949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6"/>
          <p:cNvSpPr/>
          <p:nvPr/>
        </p:nvSpPr>
        <p:spPr>
          <a:xfrm>
            <a:off x="-252360" y="1890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华文行楷"/>
                <a:ea typeface="华文行楷"/>
              </a:rPr>
              <a:t>独立事件同时发生的概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4"/>
          <p:cNvGrpSpPr/>
          <p:nvPr/>
        </p:nvGrpSpPr>
        <p:grpSpPr>
          <a:xfrm>
            <a:off x="1905120" y="609480"/>
            <a:ext cx="4495680" cy="623880"/>
            <a:chOff x="1905120" y="609480"/>
            <a:chExt cx="4495680" cy="623880"/>
          </a:xfrm>
        </p:grpSpPr>
        <p:pic>
          <p:nvPicPr>
            <p:cNvPr id="124" name="Object 2" descr=""/>
            <p:cNvPicPr/>
            <p:nvPr/>
          </p:nvPicPr>
          <p:blipFill>
            <a:blip r:embed="rId1"/>
            <a:stretch/>
          </p:blipFill>
          <p:spPr>
            <a:xfrm>
              <a:off x="1905120" y="609480"/>
              <a:ext cx="449568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Rectangle 3"/>
            <p:cNvSpPr/>
            <p:nvPr/>
          </p:nvSpPr>
          <p:spPr>
            <a:xfrm>
              <a:off x="1905120" y="609480"/>
              <a:ext cx="4495680" cy="609480"/>
            </a:xfrm>
            <a:prstGeom prst="rect">
              <a:avLst/>
            </a:prstGeom>
            <a:noFill/>
            <a:ln w="93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 Box 5"/>
          <p:cNvSpPr/>
          <p:nvPr/>
        </p:nvSpPr>
        <p:spPr>
          <a:xfrm>
            <a:off x="684360" y="12682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就是说，两个相互独立事件同时发生的概率，等于每个事件发生的概率的积．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08000" y="2112840"/>
            <a:ext cx="82296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般地，如果事件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华文楷体"/>
                <a:ea typeface="华文楷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互独立，那么这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事件同时发生的概率，等于每个事件发生的概率的积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04920" y="2971800"/>
            <a:ext cx="82296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即          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P(A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·…·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A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华文楷体"/>
                <a:ea typeface="华文楷体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)=P(A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·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P(A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)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·…·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P(A</a:t>
            </a:r>
            <a:r>
              <a:rPr b="1" lang="en-US" sz="2800" spc="-1" strike="noStrike" baseline="-30000">
                <a:solidFill>
                  <a:srgbClr val="ff0000"/>
                </a:solidFill>
                <a:latin typeface="华文楷体"/>
                <a:ea typeface="华文楷体"/>
              </a:rPr>
              <a:t>n</a:t>
            </a:r>
            <a:r>
              <a:rPr b="1" lang="en-US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372360" y="3933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华文行楷"/>
                <a:ea typeface="华文行楷"/>
              </a:rPr>
              <a:t>想一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57200" y="3809880"/>
            <a:ext cx="5554800" cy="825480"/>
          </a:xfrm>
          <a:prstGeom prst="rect">
            <a:avLst/>
          </a:prstGeom>
          <a:solidFill>
            <a:srgbClr val="66cc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        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如果</a:t>
            </a:r>
            <a:r>
              <a:rPr b="1" lang="en-US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是两个相互独立的事件，那么</a:t>
            </a:r>
            <a:r>
              <a:rPr b="1" lang="en-US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1-P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009900"/>
                </a:solidFill>
                <a:latin typeface="Times New Roman"/>
                <a:ea typeface="华文楷体"/>
              </a:rPr>
              <a:t>•</a:t>
            </a:r>
            <a:r>
              <a:rPr b="1" lang="en-US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P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009900"/>
                </a:solidFill>
                <a:latin typeface="华文楷体"/>
                <a:ea typeface="华文楷体"/>
              </a:rPr>
              <a:t>）表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/>
          <p:cNvSpPr/>
          <p:nvPr/>
        </p:nvSpPr>
        <p:spPr>
          <a:xfrm>
            <a:off x="2666880" y="464832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684360" y="5300640"/>
            <a:ext cx="4343400" cy="9144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表示相互独立事件</a:t>
            </a:r>
            <a:r>
              <a:rPr b="1" lang="en-US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B</a:t>
            </a: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楷体"/>
                <a:ea typeface="华文楷体"/>
              </a:rPr>
              <a:t>至少有一个不发生的概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4"/>
          <p:cNvGrpSpPr/>
          <p:nvPr/>
        </p:nvGrpSpPr>
        <p:grpSpPr>
          <a:xfrm>
            <a:off x="4572000" y="4876920"/>
            <a:ext cx="2438280" cy="520560"/>
            <a:chOff x="4572000" y="4876920"/>
            <a:chExt cx="2438280" cy="520560"/>
          </a:xfrm>
        </p:grpSpPr>
        <p:sp>
          <p:nvSpPr>
            <p:cNvPr id="134" name="AutoShape 12"/>
            <p:cNvSpPr/>
            <p:nvPr/>
          </p:nvSpPr>
          <p:spPr>
            <a:xfrm>
              <a:off x="4572000" y="4876920"/>
              <a:ext cx="2438280" cy="380880"/>
            </a:xfrm>
            <a:custGeom>
              <a:avLst/>
              <a:gdLst>
                <a:gd name="textAreaLeft" fmla="*/ 426600 w 2438280"/>
                <a:gd name="textAreaRight" fmla="*/ 1767960 w 243828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5334120" y="48769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0"/>
          <p:cNvGrpSpPr/>
          <p:nvPr/>
        </p:nvGrpSpPr>
        <p:grpSpPr>
          <a:xfrm>
            <a:off x="5181480" y="5410080"/>
            <a:ext cx="3962520" cy="838440"/>
            <a:chOff x="5181480" y="5410080"/>
            <a:chExt cx="3962520" cy="838440"/>
          </a:xfrm>
        </p:grpSpPr>
        <p:sp>
          <p:nvSpPr>
            <p:cNvPr id="137" name="Oval 19"/>
            <p:cNvSpPr/>
            <p:nvPr/>
          </p:nvSpPr>
          <p:spPr>
            <a:xfrm>
              <a:off x="5181480" y="5410080"/>
              <a:ext cx="3962520" cy="838440"/>
            </a:xfrm>
            <a:prstGeom prst="ellipse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Object 17" descr=""/>
            <p:cNvPicPr/>
            <p:nvPr/>
          </p:nvPicPr>
          <p:blipFill>
            <a:blip r:embed="rId2"/>
            <a:stretch/>
          </p:blipFill>
          <p:spPr>
            <a:xfrm>
              <a:off x="5257800" y="5562720"/>
              <a:ext cx="3733920" cy="541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79280" y="333360"/>
          <a:ext cx="8856720" cy="6120000"/>
        </p:xfrm>
        <a:graphic>
          <a:graphicData uri="http://schemas.openxmlformats.org/drawingml/2006/table">
            <a:tbl>
              <a:tblPr/>
              <a:tblGrid>
                <a:gridCol w="3168720"/>
                <a:gridCol w="5688000"/>
              </a:tblGrid>
              <a:tr h="646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概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意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Object 32"/>
          <p:cNvGraphicFramePr/>
          <p:nvPr/>
        </p:nvGraphicFramePr>
        <p:xfrm>
          <a:off x="684360" y="995400"/>
          <a:ext cx="223200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95400"/>
                    <a:ext cx="223200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3"/>
          <p:cNvGraphicFramePr/>
          <p:nvPr/>
        </p:nvGraphicFramePr>
        <p:xfrm>
          <a:off x="684360" y="1797120"/>
          <a:ext cx="2016000" cy="911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1797120"/>
                    <a:ext cx="20160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34"/>
          <p:cNvGraphicFramePr/>
          <p:nvPr/>
        </p:nvGraphicFramePr>
        <p:xfrm>
          <a:off x="755640" y="2654280"/>
          <a:ext cx="1871640" cy="84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2654280"/>
                    <a:ext cx="1871640" cy="84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5"/>
          <p:cNvGraphicFramePr/>
          <p:nvPr/>
        </p:nvGraphicFramePr>
        <p:xfrm>
          <a:off x="611280" y="3454560"/>
          <a:ext cx="2016000" cy="911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3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3454560"/>
                    <a:ext cx="20160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36"/>
          <p:cNvGraphicFramePr/>
          <p:nvPr/>
        </p:nvGraphicFramePr>
        <p:xfrm>
          <a:off x="420840" y="4869000"/>
          <a:ext cx="2687400" cy="91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9" name="Object 3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20840" y="4869000"/>
                    <a:ext cx="26874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37"/>
          <p:cNvGraphicFramePr/>
          <p:nvPr/>
        </p:nvGraphicFramePr>
        <p:xfrm>
          <a:off x="299880" y="5661000"/>
          <a:ext cx="2976840" cy="84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1" name="Object 3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9880" y="5661000"/>
                    <a:ext cx="29768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38"/>
          <p:cNvGraphicFramePr/>
          <p:nvPr/>
        </p:nvGraphicFramePr>
        <p:xfrm>
          <a:off x="179280" y="4221000"/>
          <a:ext cx="3240360" cy="820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3" name="Object 3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79280" y="4221000"/>
                    <a:ext cx="324036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39"/>
          <p:cNvGraphicFramePr/>
          <p:nvPr/>
        </p:nvGraphicFramePr>
        <p:xfrm>
          <a:off x="4175280" y="981000"/>
          <a:ext cx="3765240" cy="79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5" name="Object 3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175280" y="981000"/>
                    <a:ext cx="3765240" cy="7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40"/>
          <p:cNvGraphicFramePr/>
          <p:nvPr/>
        </p:nvGraphicFramePr>
        <p:xfrm>
          <a:off x="4162320" y="1773360"/>
          <a:ext cx="3865680" cy="79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7" name="Object 4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162320" y="1773360"/>
                    <a:ext cx="3865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1"/>
          <p:cNvGraphicFramePr/>
          <p:nvPr/>
        </p:nvGraphicFramePr>
        <p:xfrm>
          <a:off x="4162320" y="2637000"/>
          <a:ext cx="3865680" cy="792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59" name="Object 41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162320" y="2637000"/>
                    <a:ext cx="38656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2"/>
          <p:cNvGraphicFramePr/>
          <p:nvPr/>
        </p:nvGraphicFramePr>
        <p:xfrm>
          <a:off x="3914640" y="3429000"/>
          <a:ext cx="4461120" cy="792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61" name="Object 42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914640" y="3429000"/>
                    <a:ext cx="446112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3"/>
          <p:cNvGraphicFramePr/>
          <p:nvPr/>
        </p:nvGraphicFramePr>
        <p:xfrm>
          <a:off x="3681360" y="4213080"/>
          <a:ext cx="5153040" cy="7286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3" name="Object 43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681360" y="4213080"/>
                    <a:ext cx="515304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4"/>
          <p:cNvGraphicFramePr/>
          <p:nvPr/>
        </p:nvGraphicFramePr>
        <p:xfrm>
          <a:off x="3419640" y="4932360"/>
          <a:ext cx="5700600" cy="7286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165" name="Object 44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19640" y="4932360"/>
                    <a:ext cx="570060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45"/>
          <p:cNvGraphicFramePr/>
          <p:nvPr/>
        </p:nvGraphicFramePr>
        <p:xfrm>
          <a:off x="3419640" y="5661000"/>
          <a:ext cx="5700600" cy="7286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167" name="Object 45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19640" y="5661000"/>
                    <a:ext cx="570060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7"/>
          <p:cNvSpPr/>
          <p:nvPr/>
        </p:nvSpPr>
        <p:spPr>
          <a:xfrm>
            <a:off x="324000" y="357336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）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P(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B)=P(A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楷体"/>
              </a:rPr>
              <a:t>·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P(B)=0.6×0.6=0.36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．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0" descr=""/>
          <p:cNvPicPr/>
          <p:nvPr/>
        </p:nvPicPr>
        <p:blipFill>
          <a:blip r:embed="rId1"/>
          <a:srcRect l="45792" t="13386" r="0" b="0"/>
          <a:stretch/>
        </p:blipFill>
        <p:spPr>
          <a:xfrm>
            <a:off x="1692360" y="4149720"/>
            <a:ext cx="2519280" cy="469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2"/>
          <a:stretch/>
        </p:blipFill>
        <p:spPr>
          <a:xfrm>
            <a:off x="1727280" y="4581360"/>
            <a:ext cx="7416720" cy="9655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2"/>
          <p:cNvSpPr/>
          <p:nvPr/>
        </p:nvSpPr>
        <p:spPr>
          <a:xfrm>
            <a:off x="755640" y="4149720"/>
            <a:ext cx="79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826920" y="5516640"/>
            <a:ext cx="7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6" descr=""/>
          <p:cNvPicPr/>
          <p:nvPr/>
        </p:nvPicPr>
        <p:blipFill>
          <a:blip r:embed="rId3"/>
          <a:stretch/>
        </p:blipFill>
        <p:spPr>
          <a:xfrm>
            <a:off x="1763640" y="5516640"/>
            <a:ext cx="4343400" cy="5032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7"/>
          <p:cNvSpPr/>
          <p:nvPr/>
        </p:nvSpPr>
        <p:spPr>
          <a:xfrm>
            <a:off x="395280" y="115920"/>
            <a:ext cx="87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甲、乙两人各进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次射击，如果两人击中目标的概率都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0.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都击中目标的概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只有甲击中目标的概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恰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击中目标的概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至少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击中目标的概率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至多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人击中目标的概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228600" y="6094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假如经过多年的努力，男排实力明显提高，到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008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年北京奥运会时，凭借着天时、地利、人和的优势，男排夺冠的概率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0.3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；女排继续保持现有水平，夺冠的概率有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0.9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。那么，男、女排双双夺冠的概率有多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250920" y="335772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变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只有女排夺冠的概率有多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WordArt 4"/>
          <p:cNvSpPr txBox="1"/>
          <p:nvPr/>
        </p:nvSpPr>
        <p:spPr>
          <a:xfrm>
            <a:off x="228600" y="0"/>
            <a:ext cx="1676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变式训练</a:t>
            </a:r>
            <a:endParaRPr b="1" lang="en-US" sz="4400" spc="1" strike="noStrike">
              <a:ln w="1260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52280" y="42670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变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恰有一队夺冠的概率有多大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152280" y="5105520"/>
            <a:ext cx="64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变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少有一队夺冠的概率有多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0" y="5877000"/>
            <a:ext cx="72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变式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少有一队不夺冠的概率有多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8"/>
          <p:cNvGraphicFramePr/>
          <p:nvPr/>
        </p:nvGraphicFramePr>
        <p:xfrm>
          <a:off x="5410080" y="2590920"/>
          <a:ext cx="1981440" cy="60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590920"/>
                    <a:ext cx="198144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9"/>
          <p:cNvGraphicFramePr/>
          <p:nvPr/>
        </p:nvGraphicFramePr>
        <p:xfrm>
          <a:off x="6553080" y="6019920"/>
          <a:ext cx="2362320" cy="64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6019920"/>
                    <a:ext cx="23623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10"/>
          <p:cNvGraphicFramePr/>
          <p:nvPr/>
        </p:nvGraphicFramePr>
        <p:xfrm>
          <a:off x="6248520" y="4114800"/>
          <a:ext cx="24382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4114800"/>
                    <a:ext cx="24382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11"/>
          <p:cNvGraphicFramePr/>
          <p:nvPr/>
        </p:nvGraphicFramePr>
        <p:xfrm>
          <a:off x="6400800" y="3276720"/>
          <a:ext cx="137304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276720"/>
                    <a:ext cx="13730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2"/>
          <p:cNvGraphicFramePr/>
          <p:nvPr/>
        </p:nvGraphicFramePr>
        <p:xfrm>
          <a:off x="6477120" y="5029200"/>
          <a:ext cx="2057400" cy="792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0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77120" y="5029200"/>
                    <a:ext cx="20574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Bar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7T16:38:05Z</dcterms:created>
  <dc:creator>纪迎春</dc:creator>
  <dc:description/>
  <dc:language>en-US</dc:language>
  <cp:lastModifiedBy>Administrator</cp:lastModifiedBy>
  <dcterms:modified xsi:type="dcterms:W3CDTF">2021-03-19T02:45:41Z</dcterms:modified>
  <cp:revision>293</cp:revision>
  <dc:subject/>
  <dc:title>PowerPoint 演示文稿</dc:title>
</cp:coreProperties>
</file>