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46.wmf" ContentType="image/x-wmf"/>
  <Override PartName="/ppt/media/image33.wmf" ContentType="image/x-wmf"/>
  <Override PartName="/ppt/media/image32.wmf" ContentType="image/x-wmf"/>
  <Override PartName="/ppt/media/image2.wmf" ContentType="image/x-wmf"/>
  <Override PartName="/ppt/media/image14.wmf" ContentType="image/x-wmf"/>
  <Override PartName="/ppt/media/image34.wmf" ContentType="image/x-wmf"/>
  <Override PartName="/ppt/media/image4.wmf" ContentType="image/x-wmf"/>
  <Override PartName="/ppt/media/image16.wmf" ContentType="image/x-wmf"/>
  <Override PartName="/ppt/media/image50.wmf" ContentType="image/x-wmf"/>
  <Override PartName="/ppt/media/image1.jpeg" ContentType="image/jpeg"/>
  <Override PartName="/ppt/media/image3.wmf" ContentType="image/x-wmf"/>
  <Override PartName="/ppt/media/image15.wmf" ContentType="image/x-wmf"/>
  <Override PartName="/ppt/media/image20.wmf" ContentType="image/x-wmf"/>
  <Override PartName="/ppt/media/image57.wmf" ContentType="image/x-wmf"/>
  <Override PartName="/ppt/media/image66.wmf" ContentType="image/x-wmf"/>
  <Override PartName="/ppt/media/image65.wmf" ContentType="image/x-wmf"/>
  <Override PartName="/ppt/media/image27.wmf" ContentType="image/x-wmf"/>
  <Override PartName="/ppt/media/image64.wmf" ContentType="image/x-wmf"/>
  <Override PartName="/ppt/media/image26.wmf" ContentType="image/x-wmf"/>
  <Override PartName="/ppt/media/image63.wmf" ContentType="image/x-wmf"/>
  <Override PartName="/ppt/media/image25.wmf" ContentType="image/x-wmf"/>
  <Override PartName="/ppt/media/image62.wmf" ContentType="image/x-wmf"/>
  <Override PartName="/ppt/media/image61.wmf" ContentType="image/x-wmf"/>
  <Override PartName="/ppt/media/image24.wmf" ContentType="image/x-wmf"/>
  <Override PartName="/ppt/media/image59.wmf" ContentType="image/x-wmf"/>
  <Override PartName="/ppt/media/image22.wmf" ContentType="image/x-wmf"/>
  <Override PartName="/ppt/media/image60.wmf" ContentType="image/x-wmf"/>
  <Override PartName="/ppt/media/image23.wmf" ContentType="image/x-wmf"/>
  <Override PartName="/ppt/media/image58.wmf" ContentType="image/x-wmf"/>
  <Override PartName="/ppt/media/image21.wmf" ContentType="image/x-wmf"/>
  <Override PartName="/ppt/media/image28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29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31.wmf" ContentType="image/x-wmf"/>
  <Override PartName="/ppt/media/image40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184C-E123-4AC4-B3C5-5329DAA8F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E524-B814-474E-B52F-1C613F798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81FC-E473-4C0D-A1BC-78623BA8D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CB34-1D55-4EFC-A378-3BEB6F9F5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3A9F-1CA9-4C80-8781-3CA09A935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64AB-60BB-4E92-ACEC-4671B9294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F1DF-6AAC-41E3-9CAD-9CC01BF1A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3C8E-E5FF-4B2D-A353-ADD0A4D06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29E0-B45A-4832-AF85-7C1AC9BEC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B4E8-5383-4EB2-8EF2-9212404DF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E1CF-786C-4EA2-9954-A9236BEFE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E3D0-2971-4F86-8066-F3FD35699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81090-40B1-4202-87FC-A407EDFFCAEF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4.wmf"/><Relationship Id="rId1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2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3.wmf"/><Relationship Id="rId2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0.wmf"/><Relationship Id="rId1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6.wmf"/><Relationship Id="rId1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6.wmf"/><Relationship Id="rId2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2.wmf"/><Relationship Id="rId1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2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2.wmf"/><Relationship Id="rId1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第三单元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函数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苏州幼儿师范高等学校数学教研室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研究函数时常用到区间的概念．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设是两个实数，而且           。我们规定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满足不等式             的实数的集合叫做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闭区间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，记为         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满足不等式             的实数的集合叫做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开区间，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记为         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满足不等式            或           的实数的集合叫做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半开半闭区间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，分别记为          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这里的实数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与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都叫做相应区间的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端点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．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103" name="Object 3"/>
          <p:cNvGraphicFramePr/>
          <p:nvPr/>
        </p:nvGraphicFramePr>
        <p:xfrm>
          <a:off x="4572000" y="1197000"/>
          <a:ext cx="792000" cy="40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197000"/>
                    <a:ext cx="79200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106" name="Object 7"/>
          <p:cNvGraphicFramePr/>
          <p:nvPr/>
        </p:nvGraphicFramePr>
        <p:xfrm>
          <a:off x="3995640" y="1773360"/>
          <a:ext cx="1297080" cy="40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95640" y="1773360"/>
                    <a:ext cx="129708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109" name="Object 9"/>
          <p:cNvGraphicFramePr/>
          <p:nvPr/>
        </p:nvGraphicFramePr>
        <p:xfrm>
          <a:off x="3780000" y="2260440"/>
          <a:ext cx="57600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0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80000" y="2260440"/>
                    <a:ext cx="5760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112" name="Object 11"/>
          <p:cNvGraphicFramePr/>
          <p:nvPr/>
        </p:nvGraphicFramePr>
        <p:xfrm>
          <a:off x="3995640" y="2890800"/>
          <a:ext cx="1152720" cy="358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3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95640" y="2890800"/>
                    <a:ext cx="115272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115" name="Object 13"/>
          <p:cNvGraphicFramePr/>
          <p:nvPr/>
        </p:nvGraphicFramePr>
        <p:xfrm>
          <a:off x="3780000" y="3362400"/>
          <a:ext cx="792000" cy="426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6" name="Object 1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80000" y="3362400"/>
                    <a:ext cx="79200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118" name="Object 15"/>
          <p:cNvGraphicFramePr/>
          <p:nvPr/>
        </p:nvGraphicFramePr>
        <p:xfrm>
          <a:off x="3995640" y="3976560"/>
          <a:ext cx="1368360" cy="425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9" name="Object 1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995640" y="3976560"/>
                    <a:ext cx="136836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121" name="Object 17"/>
          <p:cNvGraphicFramePr/>
          <p:nvPr/>
        </p:nvGraphicFramePr>
        <p:xfrm>
          <a:off x="5724360" y="3962520"/>
          <a:ext cx="1295640" cy="403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2" name="Object 17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724360" y="3962520"/>
                    <a:ext cx="129564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124" name="Object 19"/>
          <p:cNvGraphicFramePr/>
          <p:nvPr/>
        </p:nvGraphicFramePr>
        <p:xfrm>
          <a:off x="7020000" y="4437000"/>
          <a:ext cx="1224000" cy="3380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25" name="Object 1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020000" y="4437000"/>
                    <a:ext cx="1224000" cy="3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在数轴上表示区间，用实心点表示包括在区间内的端点，用空心点表示不包括在区间内的端点．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27" name="Group 3"/>
          <p:cNvGrpSpPr/>
          <p:nvPr/>
        </p:nvGrpSpPr>
        <p:grpSpPr>
          <a:xfrm>
            <a:off x="2556000" y="2133720"/>
            <a:ext cx="3889080" cy="2088720"/>
            <a:chOff x="2556000" y="2133720"/>
            <a:chExt cx="3889080" cy="2088720"/>
          </a:xfrm>
        </p:grpSpPr>
        <p:sp>
          <p:nvSpPr>
            <p:cNvPr id="128" name="Line 4"/>
            <p:cNvSpPr/>
            <p:nvPr/>
          </p:nvSpPr>
          <p:spPr>
            <a:xfrm>
              <a:off x="2556000" y="2887200"/>
              <a:ext cx="38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29" name="Line 5"/>
            <p:cNvSpPr/>
            <p:nvPr/>
          </p:nvSpPr>
          <p:spPr>
            <a:xfrm>
              <a:off x="2556000" y="3346560"/>
              <a:ext cx="38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0" name="Text Box 6"/>
            <p:cNvSpPr/>
            <p:nvPr/>
          </p:nvSpPr>
          <p:spPr>
            <a:xfrm>
              <a:off x="2746440" y="2133720"/>
              <a:ext cx="85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</a:rPr>
                <a:t>集  合</a:t>
              </a:r>
              <a:endParaRPr b="0" lang="en-US" sz="1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1" name="Text Box 7"/>
            <p:cNvSpPr/>
            <p:nvPr/>
          </p:nvSpPr>
          <p:spPr>
            <a:xfrm>
              <a:off x="3789000" y="2165040"/>
              <a:ext cx="758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</a:rPr>
                <a:t>名  称</a:t>
              </a:r>
              <a:endParaRPr b="0" lang="en-US" sz="1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2" name="Text Box 8"/>
            <p:cNvSpPr/>
            <p:nvPr/>
          </p:nvSpPr>
          <p:spPr>
            <a:xfrm>
              <a:off x="4683240" y="2165040"/>
              <a:ext cx="812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</a:rPr>
                <a:t>记  号</a:t>
              </a:r>
              <a:endParaRPr b="0" lang="en-US" sz="1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3" name="Text Box 9"/>
            <p:cNvSpPr/>
            <p:nvPr/>
          </p:nvSpPr>
          <p:spPr>
            <a:xfrm>
              <a:off x="5394600" y="2152800"/>
              <a:ext cx="105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</a:rPr>
                <a:t>数轴表示</a:t>
              </a:r>
              <a:endParaRPr b="0" lang="en-US" sz="1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134" name="Object 10"/>
            <p:cNvGraphicFramePr/>
            <p:nvPr/>
          </p:nvGraphicFramePr>
          <p:xfrm>
            <a:off x="2556000" y="2572200"/>
            <a:ext cx="1043280" cy="259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5" name="Object 1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56000" y="2572200"/>
                      <a:ext cx="1043280" cy="25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6" name="Object 11"/>
            <p:cNvGraphicFramePr/>
            <p:nvPr/>
          </p:nvGraphicFramePr>
          <p:xfrm>
            <a:off x="2556000" y="3021120"/>
            <a:ext cx="1043280" cy="259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7" name="Object 11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556000" y="3021120"/>
                      <a:ext cx="1043280" cy="25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8" name="Object 12"/>
            <p:cNvGraphicFramePr/>
            <p:nvPr/>
          </p:nvGraphicFramePr>
          <p:xfrm>
            <a:off x="2556000" y="3479040"/>
            <a:ext cx="1043280" cy="2599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39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556000" y="3479040"/>
                      <a:ext cx="1043280" cy="25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0" name="Object 13"/>
            <p:cNvGraphicFramePr/>
            <p:nvPr/>
          </p:nvGraphicFramePr>
          <p:xfrm>
            <a:off x="2556000" y="3962520"/>
            <a:ext cx="1043280" cy="2599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41" name="Object 13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556000" y="3962520"/>
                      <a:ext cx="1043280" cy="25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2" name="Text Box 14"/>
            <p:cNvSpPr/>
            <p:nvPr/>
          </p:nvSpPr>
          <p:spPr>
            <a:xfrm>
              <a:off x="3749400" y="2500200"/>
              <a:ext cx="798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</a:rPr>
                <a:t>闭区间</a:t>
              </a:r>
              <a:endParaRPr b="0" lang="en-US" sz="1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3" name="Text Box 15"/>
            <p:cNvSpPr/>
            <p:nvPr/>
          </p:nvSpPr>
          <p:spPr>
            <a:xfrm>
              <a:off x="3749400" y="2940120"/>
              <a:ext cx="893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</a:rPr>
                <a:t>开区间</a:t>
              </a:r>
              <a:endParaRPr b="0" lang="en-US" sz="1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4" name="Text Box 16"/>
            <p:cNvSpPr/>
            <p:nvPr/>
          </p:nvSpPr>
          <p:spPr>
            <a:xfrm>
              <a:off x="3538440" y="3420720"/>
              <a:ext cx="1293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</a:rPr>
                <a:t>半开半闭区间</a:t>
              </a:r>
              <a:endParaRPr b="0" lang="en-US" sz="1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5" name="Text Box 17"/>
            <p:cNvSpPr/>
            <p:nvPr/>
          </p:nvSpPr>
          <p:spPr>
            <a:xfrm>
              <a:off x="3533760" y="3880080"/>
              <a:ext cx="1298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</a:rPr>
                <a:t>半开半闭区间</a:t>
              </a:r>
              <a:endParaRPr b="0" lang="en-US" sz="1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6" name="Text Box 18"/>
            <p:cNvSpPr/>
            <p:nvPr/>
          </p:nvSpPr>
          <p:spPr>
            <a:xfrm>
              <a:off x="4662360" y="2952360"/>
              <a:ext cx="833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( a , b)</a:t>
              </a:r>
              <a:endParaRPr b="0" lang="en-US" sz="1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7" name="Text Box 19"/>
            <p:cNvSpPr/>
            <p:nvPr/>
          </p:nvSpPr>
          <p:spPr>
            <a:xfrm>
              <a:off x="4623120" y="3417840"/>
              <a:ext cx="872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[ a , b )</a:t>
              </a:r>
              <a:endParaRPr b="0" lang="en-US" sz="1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8" name="Text Box 20"/>
            <p:cNvSpPr/>
            <p:nvPr/>
          </p:nvSpPr>
          <p:spPr>
            <a:xfrm>
              <a:off x="4623120" y="3880080"/>
              <a:ext cx="779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( a , b ]</a:t>
              </a:r>
              <a:endParaRPr b="0" lang="en-US" sz="1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149" name="Group 21"/>
            <p:cNvGrpSpPr/>
            <p:nvPr/>
          </p:nvGrpSpPr>
          <p:grpSpPr>
            <a:xfrm>
              <a:off x="5401440" y="2428200"/>
              <a:ext cx="948240" cy="321120"/>
              <a:chOff x="5401440" y="2428200"/>
              <a:chExt cx="948240" cy="321120"/>
            </a:xfrm>
          </p:grpSpPr>
          <p:sp>
            <p:nvSpPr>
              <p:cNvPr id="150" name="Line 22"/>
              <p:cNvSpPr/>
              <p:nvPr/>
            </p:nvSpPr>
            <p:spPr>
              <a:xfrm>
                <a:off x="5401440" y="2709000"/>
                <a:ext cx="94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51" name="Oval 23"/>
              <p:cNvSpPr/>
              <p:nvPr/>
            </p:nvSpPr>
            <p:spPr>
              <a:xfrm>
                <a:off x="5495760" y="2657520"/>
                <a:ext cx="94680" cy="918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52" name="Oval 24"/>
              <p:cNvSpPr/>
              <p:nvPr/>
            </p:nvSpPr>
            <p:spPr>
              <a:xfrm>
                <a:off x="5970600" y="2651760"/>
                <a:ext cx="94320" cy="918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53" name="Line 25"/>
              <p:cNvSpPr/>
              <p:nvPr/>
            </p:nvSpPr>
            <p:spPr>
              <a:xfrm>
                <a:off x="5590800" y="2703600"/>
                <a:ext cx="379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54" name="Text Box 26"/>
              <p:cNvSpPr/>
              <p:nvPr/>
            </p:nvSpPr>
            <p:spPr>
              <a:xfrm>
                <a:off x="5403240" y="2428200"/>
                <a:ext cx="237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55" name="Text Box 27"/>
              <p:cNvSpPr/>
              <p:nvPr/>
            </p:nvSpPr>
            <p:spPr>
              <a:xfrm>
                <a:off x="5871600" y="243180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28"/>
            <p:cNvGrpSpPr/>
            <p:nvPr/>
          </p:nvGrpSpPr>
          <p:grpSpPr>
            <a:xfrm>
              <a:off x="5401440" y="2875680"/>
              <a:ext cx="948240" cy="320400"/>
              <a:chOff x="5401440" y="2875680"/>
              <a:chExt cx="948240" cy="320400"/>
            </a:xfrm>
          </p:grpSpPr>
          <p:sp>
            <p:nvSpPr>
              <p:cNvPr id="157" name="Line 29"/>
              <p:cNvSpPr/>
              <p:nvPr/>
            </p:nvSpPr>
            <p:spPr>
              <a:xfrm>
                <a:off x="5401440" y="3156840"/>
                <a:ext cx="94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58" name="Oval 30"/>
              <p:cNvSpPr/>
              <p:nvPr/>
            </p:nvSpPr>
            <p:spPr>
              <a:xfrm>
                <a:off x="5495760" y="3105000"/>
                <a:ext cx="94680" cy="91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59" name="Oval 31"/>
              <p:cNvSpPr/>
              <p:nvPr/>
            </p:nvSpPr>
            <p:spPr>
              <a:xfrm>
                <a:off x="5970600" y="3099240"/>
                <a:ext cx="94320" cy="91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60" name="Line 32"/>
              <p:cNvSpPr/>
              <p:nvPr/>
            </p:nvSpPr>
            <p:spPr>
              <a:xfrm>
                <a:off x="5590800" y="3150720"/>
                <a:ext cx="379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61" name="Text Box 33"/>
              <p:cNvSpPr/>
              <p:nvPr/>
            </p:nvSpPr>
            <p:spPr>
              <a:xfrm>
                <a:off x="5403240" y="2875680"/>
                <a:ext cx="237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62" name="Text Box 34"/>
              <p:cNvSpPr/>
              <p:nvPr/>
            </p:nvSpPr>
            <p:spPr>
              <a:xfrm>
                <a:off x="5871600" y="287928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163" name="Group 35"/>
            <p:cNvGrpSpPr/>
            <p:nvPr/>
          </p:nvGrpSpPr>
          <p:grpSpPr>
            <a:xfrm>
              <a:off x="5401440" y="3323520"/>
              <a:ext cx="948240" cy="320760"/>
              <a:chOff x="5401440" y="3323520"/>
              <a:chExt cx="948240" cy="320760"/>
            </a:xfrm>
          </p:grpSpPr>
          <p:sp>
            <p:nvSpPr>
              <p:cNvPr id="164" name="Line 36"/>
              <p:cNvSpPr/>
              <p:nvPr/>
            </p:nvSpPr>
            <p:spPr>
              <a:xfrm>
                <a:off x="5401440" y="3603960"/>
                <a:ext cx="94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65" name="Oval 37"/>
              <p:cNvSpPr/>
              <p:nvPr/>
            </p:nvSpPr>
            <p:spPr>
              <a:xfrm>
                <a:off x="5495760" y="3552480"/>
                <a:ext cx="94680" cy="918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66" name="Oval 38"/>
              <p:cNvSpPr/>
              <p:nvPr/>
            </p:nvSpPr>
            <p:spPr>
              <a:xfrm>
                <a:off x="5970600" y="3547080"/>
                <a:ext cx="94320" cy="91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67" name="Line 39"/>
              <p:cNvSpPr/>
              <p:nvPr/>
            </p:nvSpPr>
            <p:spPr>
              <a:xfrm>
                <a:off x="5590800" y="3598560"/>
                <a:ext cx="379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68" name="Text Box 40"/>
              <p:cNvSpPr/>
              <p:nvPr/>
            </p:nvSpPr>
            <p:spPr>
              <a:xfrm>
                <a:off x="5403240" y="3323520"/>
                <a:ext cx="237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69" name="Text Box 41"/>
              <p:cNvSpPr/>
              <p:nvPr/>
            </p:nvSpPr>
            <p:spPr>
              <a:xfrm>
                <a:off x="5871600" y="332712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170" name="Group 42"/>
            <p:cNvGrpSpPr/>
            <p:nvPr/>
          </p:nvGrpSpPr>
          <p:grpSpPr>
            <a:xfrm>
              <a:off x="5401440" y="3789000"/>
              <a:ext cx="948240" cy="320760"/>
              <a:chOff x="5401440" y="3789000"/>
              <a:chExt cx="948240" cy="320760"/>
            </a:xfrm>
          </p:grpSpPr>
          <p:sp>
            <p:nvSpPr>
              <p:cNvPr id="171" name="Line 43"/>
              <p:cNvSpPr/>
              <p:nvPr/>
            </p:nvSpPr>
            <p:spPr>
              <a:xfrm>
                <a:off x="5401440" y="4069440"/>
                <a:ext cx="94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72" name="Oval 44"/>
              <p:cNvSpPr/>
              <p:nvPr/>
            </p:nvSpPr>
            <p:spPr>
              <a:xfrm>
                <a:off x="5496120" y="4017960"/>
                <a:ext cx="94320" cy="91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73" name="Oval 45"/>
              <p:cNvSpPr/>
              <p:nvPr/>
            </p:nvSpPr>
            <p:spPr>
              <a:xfrm>
                <a:off x="5970240" y="4012560"/>
                <a:ext cx="94680" cy="910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74" name="Line 46"/>
              <p:cNvSpPr/>
              <p:nvPr/>
            </p:nvSpPr>
            <p:spPr>
              <a:xfrm>
                <a:off x="5590800" y="4064040"/>
                <a:ext cx="379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75" name="Text Box 47"/>
              <p:cNvSpPr/>
              <p:nvPr/>
            </p:nvSpPr>
            <p:spPr>
              <a:xfrm>
                <a:off x="5403240" y="3789000"/>
                <a:ext cx="237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76" name="Text Box 48"/>
              <p:cNvSpPr/>
              <p:nvPr/>
            </p:nvSpPr>
            <p:spPr>
              <a:xfrm>
                <a:off x="5871240" y="379260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0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求下列函数的定义域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                  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                  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                   ．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179" name="Object 4"/>
          <p:cNvGraphicFramePr/>
          <p:nvPr/>
        </p:nvGraphicFramePr>
        <p:xfrm>
          <a:off x="1835280" y="1093680"/>
          <a:ext cx="1657080" cy="78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1093680"/>
                    <a:ext cx="1657080" cy="7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Rectangle 7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182" name="Object 6"/>
          <p:cNvGraphicFramePr/>
          <p:nvPr/>
        </p:nvGraphicFramePr>
        <p:xfrm>
          <a:off x="1835280" y="2319480"/>
          <a:ext cx="2016000" cy="484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3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35280" y="2319480"/>
                    <a:ext cx="201600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Rectangle 9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185" name="Object 8"/>
          <p:cNvGraphicFramePr/>
          <p:nvPr/>
        </p:nvGraphicFramePr>
        <p:xfrm>
          <a:off x="1763640" y="3429000"/>
          <a:ext cx="2308320" cy="657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6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63640" y="3429000"/>
                    <a:ext cx="2308320" cy="6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分析：函数的定义域通常由问题的实际背景确定。如果只给出解析式           ，而没有指明它的定义域，那么函数的定义域就是指能使这个式子有意义的实数的集合．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189" name="Object 3"/>
          <p:cNvGraphicFramePr/>
          <p:nvPr/>
        </p:nvGraphicFramePr>
        <p:xfrm>
          <a:off x="5724360" y="1125360"/>
          <a:ext cx="1224000" cy="42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360" y="1125360"/>
                    <a:ext cx="122400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解：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因为                ，即       时，分式没有意义，而        时，分式       有意义． 所以，这个函数的定义域是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因为             ，即        时，根式      没有意义，而           时，即         时，根式才有意义． 所以，这个函数的定义域是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193" name="Object 3"/>
          <p:cNvGraphicFramePr/>
          <p:nvPr/>
        </p:nvGraphicFramePr>
        <p:xfrm>
          <a:off x="3635280" y="620640"/>
          <a:ext cx="1152720" cy="35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5280" y="620640"/>
                    <a:ext cx="115272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196" name="Object 5"/>
          <p:cNvGraphicFramePr/>
          <p:nvPr/>
        </p:nvGraphicFramePr>
        <p:xfrm>
          <a:off x="6156360" y="620640"/>
          <a:ext cx="79200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56360" y="620640"/>
                    <a:ext cx="79200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199" name="Object 7"/>
          <p:cNvGraphicFramePr/>
          <p:nvPr/>
        </p:nvGraphicFramePr>
        <p:xfrm>
          <a:off x="108000" y="907920"/>
          <a:ext cx="771480" cy="790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0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000" y="907920"/>
                    <a:ext cx="77148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202" name="Object 9"/>
          <p:cNvGraphicFramePr/>
          <p:nvPr/>
        </p:nvGraphicFramePr>
        <p:xfrm>
          <a:off x="3421080" y="1150920"/>
          <a:ext cx="790560" cy="406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3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21080" y="1150920"/>
                    <a:ext cx="79056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Rectangle 12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205" name="Object 11"/>
          <p:cNvGraphicFramePr/>
          <p:nvPr/>
        </p:nvGraphicFramePr>
        <p:xfrm>
          <a:off x="5940360" y="907920"/>
          <a:ext cx="703440" cy="720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6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940360" y="907920"/>
                    <a:ext cx="70344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208" name="Object 13"/>
          <p:cNvGraphicFramePr/>
          <p:nvPr/>
        </p:nvGraphicFramePr>
        <p:xfrm>
          <a:off x="3564000" y="2133720"/>
          <a:ext cx="1152360" cy="519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9" name="Object 1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64000" y="2133720"/>
                    <a:ext cx="115236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211" name="Object 15"/>
          <p:cNvGraphicFramePr/>
          <p:nvPr/>
        </p:nvGraphicFramePr>
        <p:xfrm>
          <a:off x="2700360" y="3387600"/>
          <a:ext cx="1440000" cy="4017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12" name="Object 15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700360" y="3387600"/>
                    <a:ext cx="144000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214" name="Object 17"/>
          <p:cNvGraphicFramePr/>
          <p:nvPr/>
        </p:nvGraphicFramePr>
        <p:xfrm>
          <a:off x="5076720" y="3240000"/>
          <a:ext cx="863640" cy="6937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15" name="Object 17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076720" y="3240000"/>
                    <a:ext cx="863640" cy="6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217" name="Object 19"/>
          <p:cNvGraphicFramePr/>
          <p:nvPr/>
        </p:nvGraphicFramePr>
        <p:xfrm>
          <a:off x="7524720" y="3274920"/>
          <a:ext cx="1079640" cy="453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18" name="Object 19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524720" y="3274920"/>
                    <a:ext cx="1079640" cy="45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220" name="Object 21"/>
          <p:cNvGraphicFramePr/>
          <p:nvPr/>
        </p:nvGraphicFramePr>
        <p:xfrm>
          <a:off x="3348000" y="3645000"/>
          <a:ext cx="1008000" cy="8096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21" name="Object 2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348000" y="3645000"/>
                    <a:ext cx="100800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223" name="Object 23"/>
          <p:cNvGraphicFramePr/>
          <p:nvPr/>
        </p:nvGraphicFramePr>
        <p:xfrm>
          <a:off x="5724360" y="3851280"/>
          <a:ext cx="1079640" cy="4539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24" name="Object 23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724360" y="3851280"/>
                    <a:ext cx="1079640" cy="45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226" name="Object 25"/>
          <p:cNvGraphicFramePr/>
          <p:nvPr/>
        </p:nvGraphicFramePr>
        <p:xfrm>
          <a:off x="3492360" y="4691160"/>
          <a:ext cx="1224000" cy="7840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27" name="Object 25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492360" y="4691160"/>
                    <a:ext cx="1224000" cy="78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使根式        有意义的实数    的集合是            ，使分式           有意义的实数的集合是          。所以，这个函数的定义域是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                    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230" name="Object 3"/>
          <p:cNvGraphicFramePr/>
          <p:nvPr/>
        </p:nvGraphicFramePr>
        <p:xfrm>
          <a:off x="3132000" y="620640"/>
          <a:ext cx="935280" cy="4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620640"/>
                    <a:ext cx="93528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Rectangle 6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233" name="Object 5"/>
          <p:cNvGraphicFramePr/>
          <p:nvPr/>
        </p:nvGraphicFramePr>
        <p:xfrm>
          <a:off x="6550200" y="620640"/>
          <a:ext cx="326880" cy="50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50200" y="620640"/>
                    <a:ext cx="32688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236" name="Object 7"/>
          <p:cNvGraphicFramePr/>
          <p:nvPr/>
        </p:nvGraphicFramePr>
        <p:xfrm>
          <a:off x="1332000" y="1060560"/>
          <a:ext cx="1368360" cy="552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7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1060560"/>
                    <a:ext cx="1368360" cy="55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239" name="Object 9"/>
          <p:cNvGraphicFramePr/>
          <p:nvPr/>
        </p:nvGraphicFramePr>
        <p:xfrm>
          <a:off x="4500720" y="836640"/>
          <a:ext cx="842760" cy="863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0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00720" y="836640"/>
                    <a:ext cx="84276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242" name="Object 11"/>
          <p:cNvGraphicFramePr/>
          <p:nvPr/>
        </p:nvGraphicFramePr>
        <p:xfrm>
          <a:off x="2124000" y="1557360"/>
          <a:ext cx="1224000" cy="550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3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124000" y="1557360"/>
                    <a:ext cx="122400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Rectangle 14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245" name="Object 13"/>
          <p:cNvGraphicFramePr/>
          <p:nvPr/>
        </p:nvGraphicFramePr>
        <p:xfrm>
          <a:off x="1116000" y="2133720"/>
          <a:ext cx="2665440" cy="555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6" name="Object 1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116000" y="2133720"/>
                    <a:ext cx="266544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248" name="Object 15"/>
          <p:cNvGraphicFramePr/>
          <p:nvPr/>
        </p:nvGraphicFramePr>
        <p:xfrm>
          <a:off x="3851280" y="2205000"/>
          <a:ext cx="2881440" cy="522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49" name="Object 15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851280" y="2205000"/>
                    <a:ext cx="288144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539640" y="353880"/>
            <a:ext cx="8229600" cy="55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251" name="Object 8"/>
          <p:cNvGraphicFramePr/>
          <p:nvPr/>
        </p:nvGraphicFramePr>
        <p:xfrm>
          <a:off x="2268360" y="1125360"/>
          <a:ext cx="3747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1125360"/>
                    <a:ext cx="3747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Object 7"/>
          <p:cNvGraphicFramePr/>
          <p:nvPr/>
        </p:nvGraphicFramePr>
        <p:xfrm>
          <a:off x="7740720" y="1197000"/>
          <a:ext cx="249120" cy="28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4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40720" y="1197000"/>
                    <a:ext cx="249120" cy="2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Object 6"/>
          <p:cNvGraphicFramePr/>
          <p:nvPr/>
        </p:nvGraphicFramePr>
        <p:xfrm>
          <a:off x="5137200" y="1844640"/>
          <a:ext cx="514440" cy="300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6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37200" y="1844640"/>
                    <a:ext cx="514440" cy="3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7" name="Object 5"/>
          <p:cNvGraphicFramePr/>
          <p:nvPr/>
        </p:nvGraphicFramePr>
        <p:xfrm>
          <a:off x="2700360" y="2708280"/>
          <a:ext cx="1871640" cy="371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8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00360" y="2708280"/>
                    <a:ext cx="187164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9" name="Object 4"/>
          <p:cNvGraphicFramePr/>
          <p:nvPr/>
        </p:nvGraphicFramePr>
        <p:xfrm>
          <a:off x="5292720" y="2708280"/>
          <a:ext cx="647640" cy="333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0" name="Object 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292720" y="2708280"/>
                    <a:ext cx="64764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Object 3"/>
          <p:cNvGraphicFramePr/>
          <p:nvPr/>
        </p:nvGraphicFramePr>
        <p:xfrm>
          <a:off x="1979640" y="3357720"/>
          <a:ext cx="3097080" cy="452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62" name="Object 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979640" y="3357720"/>
                    <a:ext cx="309708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Rectangle 9"/>
          <p:cNvSpPr/>
          <p:nvPr/>
        </p:nvSpPr>
        <p:spPr>
          <a:xfrm>
            <a:off x="899280" y="1046880"/>
            <a:ext cx="113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自变量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4" name="Rectangle 10"/>
          <p:cNvSpPr/>
          <p:nvPr/>
        </p:nvSpPr>
        <p:spPr>
          <a:xfrm>
            <a:off x="4772520" y="10375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在定义域中任取一个确定的值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5" name="Rectangle 11"/>
          <p:cNvSpPr/>
          <p:nvPr/>
        </p:nvSpPr>
        <p:spPr>
          <a:xfrm>
            <a:off x="1276920" y="1699560"/>
            <a:ext cx="321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时，对应的函数值用符号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6" name="Rectangle 12"/>
          <p:cNvSpPr/>
          <p:nvPr/>
        </p:nvSpPr>
        <p:spPr>
          <a:xfrm>
            <a:off x="396720" y="2195280"/>
            <a:ext cx="295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来表示．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例如，函数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7" name="Rectangle 13"/>
          <p:cNvSpPr/>
          <p:nvPr/>
        </p:nvSpPr>
        <p:spPr>
          <a:xfrm>
            <a:off x="4467960" y="2635920"/>
            <a:ext cx="8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  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，当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8" name="Rectangle 14"/>
          <p:cNvSpPr/>
          <p:nvPr/>
        </p:nvSpPr>
        <p:spPr>
          <a:xfrm>
            <a:off x="6079680" y="2618280"/>
            <a:ext cx="16070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时的函数值是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               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9" name="Rectangle 15"/>
          <p:cNvSpPr/>
          <p:nvPr/>
        </p:nvSpPr>
        <p:spPr>
          <a:xfrm>
            <a:off x="3529800" y="4860000"/>
            <a:ext cx="25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。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0" name="Object 12"/>
          <p:cNvGraphicFramePr/>
          <p:nvPr/>
        </p:nvGraphicFramePr>
        <p:xfrm>
          <a:off x="2916360" y="318960"/>
          <a:ext cx="2049480" cy="3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318960"/>
                    <a:ext cx="2049480" cy="3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Object 11"/>
          <p:cNvGraphicFramePr/>
          <p:nvPr/>
        </p:nvGraphicFramePr>
        <p:xfrm>
          <a:off x="1619280" y="836640"/>
          <a:ext cx="2736720" cy="363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3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19280" y="836640"/>
                    <a:ext cx="273672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4" name="Object 10"/>
          <p:cNvGraphicFramePr/>
          <p:nvPr/>
        </p:nvGraphicFramePr>
        <p:xfrm>
          <a:off x="2195640" y="1557360"/>
          <a:ext cx="2663640" cy="341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5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95640" y="1557360"/>
                    <a:ext cx="266364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6" name="Object 9"/>
          <p:cNvGraphicFramePr/>
          <p:nvPr/>
        </p:nvGraphicFramePr>
        <p:xfrm>
          <a:off x="2050920" y="1989000"/>
          <a:ext cx="4176720" cy="443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7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50920" y="1989000"/>
                    <a:ext cx="4176720" cy="4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Object 8"/>
          <p:cNvGraphicFramePr/>
          <p:nvPr/>
        </p:nvGraphicFramePr>
        <p:xfrm>
          <a:off x="3059280" y="2492280"/>
          <a:ext cx="1584000" cy="392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9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59280" y="2492280"/>
                    <a:ext cx="158400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" name="Object 7"/>
          <p:cNvGraphicFramePr/>
          <p:nvPr/>
        </p:nvGraphicFramePr>
        <p:xfrm>
          <a:off x="3032280" y="2997360"/>
          <a:ext cx="1323720" cy="447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1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032280" y="2997360"/>
                    <a:ext cx="1323720" cy="4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2" name="Object 6"/>
          <p:cNvGraphicFramePr/>
          <p:nvPr/>
        </p:nvGraphicFramePr>
        <p:xfrm>
          <a:off x="1908000" y="3645000"/>
          <a:ext cx="2159280" cy="392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83" name="Object 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908000" y="3645000"/>
                    <a:ext cx="2159280" cy="39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4" name="Object 5"/>
          <p:cNvGraphicFramePr/>
          <p:nvPr/>
        </p:nvGraphicFramePr>
        <p:xfrm>
          <a:off x="1979640" y="4221000"/>
          <a:ext cx="3886200" cy="425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85" name="Object 5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979640" y="4221000"/>
                    <a:ext cx="3886200" cy="4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6" name="Object 4"/>
          <p:cNvGraphicFramePr/>
          <p:nvPr/>
        </p:nvGraphicFramePr>
        <p:xfrm>
          <a:off x="3348000" y="4797360"/>
          <a:ext cx="2664000" cy="3398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87" name="Object 4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348000" y="4797360"/>
                    <a:ext cx="2664000" cy="3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8" name="Object 3"/>
          <p:cNvGraphicFramePr/>
          <p:nvPr/>
        </p:nvGraphicFramePr>
        <p:xfrm>
          <a:off x="2987640" y="5300640"/>
          <a:ext cx="1297080" cy="4064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89" name="Object 3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2987640" y="5300640"/>
                    <a:ext cx="129708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" name="Rectangle 13"/>
          <p:cNvSpPr/>
          <p:nvPr/>
        </p:nvSpPr>
        <p:spPr>
          <a:xfrm>
            <a:off x="933840" y="259200"/>
            <a:ext cx="174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例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 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已知函数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1" name="Rectangle 14"/>
          <p:cNvSpPr/>
          <p:nvPr/>
        </p:nvSpPr>
        <p:spPr>
          <a:xfrm>
            <a:off x="4999320" y="23400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，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2" name="Rectangle 15"/>
          <p:cNvSpPr/>
          <p:nvPr/>
        </p:nvSpPr>
        <p:spPr>
          <a:xfrm>
            <a:off x="1263960" y="1195920"/>
            <a:ext cx="7322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解：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3" name="Rectangle 16"/>
          <p:cNvSpPr/>
          <p:nvPr/>
        </p:nvSpPr>
        <p:spPr>
          <a:xfrm>
            <a:off x="4789440" y="1482840"/>
            <a:ext cx="86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；</a:t>
            </a:r>
            <a:br>
              <a:rPr sz="2400"/>
            </a:br>
            <a:r>
              <a:rPr b="0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        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4" name="Rectangle 17"/>
          <p:cNvSpPr/>
          <p:nvPr/>
        </p:nvSpPr>
        <p:spPr>
          <a:xfrm>
            <a:off x="2278080" y="21326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           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5" name="Rectangle 18"/>
          <p:cNvSpPr/>
          <p:nvPr/>
        </p:nvSpPr>
        <p:spPr>
          <a:xfrm>
            <a:off x="6094440" y="29232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           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6" name="Rectangle 19"/>
          <p:cNvSpPr/>
          <p:nvPr/>
        </p:nvSpPr>
        <p:spPr>
          <a:xfrm>
            <a:off x="5446800" y="36820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    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7" name="Rectangle 20"/>
          <p:cNvSpPr/>
          <p:nvPr/>
        </p:nvSpPr>
        <p:spPr>
          <a:xfrm>
            <a:off x="3602160" y="4370760"/>
            <a:ext cx="5616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    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8" name="Rectangle 21"/>
          <p:cNvSpPr/>
          <p:nvPr/>
        </p:nvSpPr>
        <p:spPr>
          <a:xfrm>
            <a:off x="1855440" y="4723200"/>
            <a:ext cx="12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=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9" name="Rectangle 22"/>
          <p:cNvSpPr/>
          <p:nvPr/>
        </p:nvSpPr>
        <p:spPr>
          <a:xfrm>
            <a:off x="5734080" y="50835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           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0" name="Object 7"/>
          <p:cNvGraphicFramePr/>
          <p:nvPr/>
        </p:nvGraphicFramePr>
        <p:xfrm>
          <a:off x="5508720" y="765000"/>
          <a:ext cx="934920" cy="40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720" y="765000"/>
                    <a:ext cx="934920" cy="4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Object 6"/>
          <p:cNvGraphicFramePr/>
          <p:nvPr/>
        </p:nvGraphicFramePr>
        <p:xfrm>
          <a:off x="2771640" y="1557360"/>
          <a:ext cx="1008360" cy="369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3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71640" y="1557360"/>
                    <a:ext cx="100836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4" name="Object 5"/>
          <p:cNvGraphicFramePr/>
          <p:nvPr/>
        </p:nvGraphicFramePr>
        <p:xfrm>
          <a:off x="5003640" y="1522440"/>
          <a:ext cx="936720" cy="444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5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03640" y="1522440"/>
                    <a:ext cx="93672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6" name="Object 4"/>
          <p:cNvGraphicFramePr/>
          <p:nvPr/>
        </p:nvGraphicFramePr>
        <p:xfrm>
          <a:off x="7308720" y="1522440"/>
          <a:ext cx="935280" cy="444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7" name="Object 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308720" y="1522440"/>
                    <a:ext cx="93528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8" name="Rectangle 8"/>
          <p:cNvSpPr/>
          <p:nvPr/>
        </p:nvSpPr>
        <p:spPr>
          <a:xfrm>
            <a:off x="1335240" y="619920"/>
            <a:ext cx="365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例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3 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下列函数中哪个函数与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9" name="Rectangle 9"/>
          <p:cNvSpPr/>
          <p:nvPr/>
        </p:nvSpPr>
        <p:spPr>
          <a:xfrm>
            <a:off x="2567880" y="1125000"/>
            <a:ext cx="108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是同一个函数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（</a:t>
            </a:r>
            <a:r>
              <a:rPr b="0" lang="en-US" sz="28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1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0" name="Rectangle 10"/>
          <p:cNvSpPr/>
          <p:nvPr/>
        </p:nvSpPr>
        <p:spPr>
          <a:xfrm>
            <a:off x="3674160" y="1610280"/>
            <a:ext cx="12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； （</a:t>
            </a:r>
            <a:r>
              <a:rPr b="0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2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）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1" name="Rectangle 11"/>
          <p:cNvSpPr/>
          <p:nvPr/>
        </p:nvSpPr>
        <p:spPr>
          <a:xfrm>
            <a:off x="5755320" y="1591200"/>
            <a:ext cx="12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；    （</a:t>
            </a:r>
            <a:r>
              <a:rPr b="0" lang="en-US" sz="2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3</a:t>
            </a:r>
            <a:r>
              <a:rPr b="0" lang="zh-CN" sz="2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）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2" name="Rectangle 12"/>
          <p:cNvSpPr/>
          <p:nvPr/>
        </p:nvSpPr>
        <p:spPr>
          <a:xfrm>
            <a:off x="3602880" y="439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．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313" name="Object 14"/>
          <p:cNvGraphicFramePr/>
          <p:nvPr/>
        </p:nvGraphicFramePr>
        <p:xfrm>
          <a:off x="4284720" y="2583000"/>
          <a:ext cx="1871640" cy="341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14" name="Object 1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284720" y="2583000"/>
                    <a:ext cx="187164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5" name="Object 13"/>
          <p:cNvGraphicFramePr/>
          <p:nvPr/>
        </p:nvGraphicFramePr>
        <p:xfrm>
          <a:off x="3635280" y="3357720"/>
          <a:ext cx="1297080" cy="323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16" name="Object 1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635280" y="3357720"/>
                    <a:ext cx="1297080" cy="32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Rectangle 15"/>
          <p:cNvSpPr/>
          <p:nvPr/>
        </p:nvSpPr>
        <p:spPr>
          <a:xfrm>
            <a:off x="1115280" y="2275560"/>
            <a:ext cx="142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解：（</a:t>
            </a:r>
            <a:r>
              <a:rPr b="0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1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）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8" name="Rectangle 16"/>
          <p:cNvSpPr/>
          <p:nvPr/>
        </p:nvSpPr>
        <p:spPr>
          <a:xfrm>
            <a:off x="2520000" y="2530440"/>
            <a:ext cx="143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   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这个函数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与函数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9" name="Rectangle 17"/>
          <p:cNvSpPr/>
          <p:nvPr/>
        </p:nvSpPr>
        <p:spPr>
          <a:xfrm>
            <a:off x="1873440" y="4075200"/>
            <a:ext cx="446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虽然对应关系相同，但是定义域不相同．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所以这两个函数不是同一个函数．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0" name="Object 5"/>
          <p:cNvGraphicFramePr/>
          <p:nvPr/>
        </p:nvGraphicFramePr>
        <p:xfrm>
          <a:off x="2411280" y="1413000"/>
          <a:ext cx="1873440" cy="40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1413000"/>
                    <a:ext cx="1873440" cy="40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2" name="Object 4"/>
          <p:cNvGraphicFramePr/>
          <p:nvPr/>
        </p:nvGraphicFramePr>
        <p:xfrm>
          <a:off x="7020000" y="1413000"/>
          <a:ext cx="1655640" cy="41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20000" y="1413000"/>
                    <a:ext cx="165564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4" name="Rectangle 6"/>
          <p:cNvSpPr/>
          <p:nvPr/>
        </p:nvSpPr>
        <p:spPr>
          <a:xfrm>
            <a:off x="1335600" y="1483200"/>
            <a:ext cx="95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（</a:t>
            </a:r>
            <a:r>
              <a:rPr b="0" lang="en-US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2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）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5" name="Rectangle 7"/>
          <p:cNvSpPr/>
          <p:nvPr/>
        </p:nvSpPr>
        <p:spPr>
          <a:xfrm>
            <a:off x="4417920" y="1411920"/>
            <a:ext cx="20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，这个函数与函数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6" name="Rectangle 8"/>
          <p:cNvSpPr/>
          <p:nvPr/>
        </p:nvSpPr>
        <p:spPr>
          <a:xfrm>
            <a:off x="2953080" y="2635560"/>
            <a:ext cx="446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不仅对应关系相同，而且定义域也相同．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所以这两个函数是同一个函数．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．</a:t>
            </a:r>
            <a:r>
              <a:rPr b="1" lang="en-US" sz="4400" spc="-1" strike="noStrike">
                <a:solidFill>
                  <a:srgbClr val="003399"/>
                </a:solidFill>
                <a:latin typeface="Arial"/>
              </a:rPr>
              <a:t>1 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函数的概念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2786040"/>
            <a:ext cx="822960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在初中我们已经学习过函数的概念，现在我们将进一步学习函数及其构成要素，下面先看几个实例 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7" name="Object 8"/>
          <p:cNvGraphicFramePr/>
          <p:nvPr/>
        </p:nvGraphicFramePr>
        <p:xfrm>
          <a:off x="2124000" y="1197000"/>
          <a:ext cx="2592360" cy="76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1197000"/>
                    <a:ext cx="2592360" cy="7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9" name="Object 7"/>
          <p:cNvGraphicFramePr/>
          <p:nvPr/>
        </p:nvGraphicFramePr>
        <p:xfrm>
          <a:off x="3276720" y="2187720"/>
          <a:ext cx="1655640" cy="41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0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2187720"/>
                    <a:ext cx="165564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1" name="Object 6"/>
          <p:cNvGraphicFramePr/>
          <p:nvPr/>
        </p:nvGraphicFramePr>
        <p:xfrm>
          <a:off x="684360" y="3068640"/>
          <a:ext cx="40608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2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4360" y="3068640"/>
                    <a:ext cx="40608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3" name="Object 5"/>
          <p:cNvGraphicFramePr/>
          <p:nvPr/>
        </p:nvGraphicFramePr>
        <p:xfrm>
          <a:off x="2987640" y="3068640"/>
          <a:ext cx="792360" cy="417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4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87640" y="3068640"/>
                    <a:ext cx="79236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5" name="Object 4"/>
          <p:cNvGraphicFramePr/>
          <p:nvPr/>
        </p:nvGraphicFramePr>
        <p:xfrm>
          <a:off x="-36360" y="4005360"/>
          <a:ext cx="1800000" cy="450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36" name="Object 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-36360" y="4005360"/>
                    <a:ext cx="180000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Rectangle 9"/>
          <p:cNvSpPr/>
          <p:nvPr/>
        </p:nvSpPr>
        <p:spPr>
          <a:xfrm>
            <a:off x="975240" y="134064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（</a:t>
            </a:r>
            <a:r>
              <a:rPr b="0" lang="en-US" sz="28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3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8" name="Rectangle 10"/>
          <p:cNvSpPr/>
          <p:nvPr/>
        </p:nvSpPr>
        <p:spPr>
          <a:xfrm>
            <a:off x="1107720" y="2133000"/>
            <a:ext cx="211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这个函数与函数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9" name="Rectangle 11"/>
          <p:cNvSpPr/>
          <p:nvPr/>
        </p:nvSpPr>
        <p:spPr>
          <a:xfrm>
            <a:off x="5148360" y="2133000"/>
            <a:ext cx="266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的定义域都是实数集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0" name="Rectangle 12"/>
          <p:cNvSpPr/>
          <p:nvPr/>
        </p:nvSpPr>
        <p:spPr>
          <a:xfrm>
            <a:off x="1277280" y="2996640"/>
            <a:ext cx="12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，但是当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1" name="Rectangle 13"/>
          <p:cNvSpPr/>
          <p:nvPr/>
        </p:nvSpPr>
        <p:spPr>
          <a:xfrm>
            <a:off x="4324680" y="2996640"/>
            <a:ext cx="29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时它的对应关系与函数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2" name="Rectangle 14"/>
          <p:cNvSpPr/>
          <p:nvPr/>
        </p:nvSpPr>
        <p:spPr>
          <a:xfrm>
            <a:off x="4647600" y="393300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不相同。所以这两个函数不是同一个函数．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457200" y="520560"/>
            <a:ext cx="8229600" cy="55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a77"/>
                </a:solidFill>
                <a:latin typeface="Arial"/>
              </a:rPr>
              <a:t>小结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函数的概念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区间的表示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WordArt 7"/>
          <p:cNvSpPr txBox="1"/>
          <p:nvPr/>
        </p:nvSpPr>
        <p:spPr>
          <a:xfrm>
            <a:off x="1979640" y="2492280"/>
            <a:ext cx="406404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88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8b04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布置作业：</a:t>
            </a:r>
            <a:endParaRPr b="1" lang="en-US" sz="40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f8b049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549360"/>
            <a:ext cx="8229600" cy="66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一枚炮弹发射后，经过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6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落到地面击中目标。炮弹的射高（射高是指斜抛运动中物体飞行轨迹最高点的高度）为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845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，且炮弹距地面的高度（单位：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m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随时间（单位：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变化的规律是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                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这里，炮弹飞行时间的变化范围是数集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A=               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， 炮弹距地面的高度的变化范围是数集．从问题的实际意义可知，对于数集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中的任意一个时间，按照对应关系，在数集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中都有唯一确定的高度和它对应．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47" name="Object 4"/>
          <p:cNvGraphicFramePr/>
          <p:nvPr/>
        </p:nvGraphicFramePr>
        <p:xfrm>
          <a:off x="4788000" y="2565360"/>
          <a:ext cx="2233440" cy="50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8000" y="2565360"/>
                    <a:ext cx="2233440" cy="5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Rectangle 10"/>
          <p:cNvSpPr/>
          <p:nvPr/>
        </p:nvSpPr>
        <p:spPr>
          <a:xfrm>
            <a:off x="1440" y="-72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50" name="Object 9"/>
          <p:cNvGraphicFramePr/>
          <p:nvPr/>
        </p:nvGraphicFramePr>
        <p:xfrm>
          <a:off x="7236000" y="2565360"/>
          <a:ext cx="576000" cy="525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36000" y="2565360"/>
                    <a:ext cx="576000" cy="5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Rectangle 11"/>
          <p:cNvSpPr/>
          <p:nvPr/>
        </p:nvSpPr>
        <p:spPr>
          <a:xfrm>
            <a:off x="7453080" y="2707200"/>
            <a:ext cx="21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54" name="Object 12"/>
          <p:cNvGraphicFramePr/>
          <p:nvPr/>
        </p:nvGraphicFramePr>
        <p:xfrm>
          <a:off x="1332000" y="3610080"/>
          <a:ext cx="1965240" cy="610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610080"/>
                    <a:ext cx="1965240" cy="61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图为某市一天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4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小时的气温变化图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                 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图根据图中的曲线可知，时间的变化范围是数集，气温的变化范围是数集，并且，对于数集中的每一个时刻，按照图中曲线，在数集中都有唯一确定的温度和它对应．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57" name="Group 4"/>
          <p:cNvGrpSpPr/>
          <p:nvPr/>
        </p:nvGrpSpPr>
        <p:grpSpPr>
          <a:xfrm>
            <a:off x="1619280" y="1341360"/>
            <a:ext cx="6048000" cy="2664000"/>
            <a:chOff x="1619280" y="1341360"/>
            <a:chExt cx="6048000" cy="2664000"/>
          </a:xfrm>
        </p:grpSpPr>
        <p:grpSp>
          <p:nvGrpSpPr>
            <p:cNvPr id="58" name="Group 5"/>
            <p:cNvGrpSpPr/>
            <p:nvPr/>
          </p:nvGrpSpPr>
          <p:grpSpPr>
            <a:xfrm>
              <a:off x="1847520" y="1421640"/>
              <a:ext cx="5231520" cy="2337840"/>
              <a:chOff x="1847520" y="1421640"/>
              <a:chExt cx="5231520" cy="2337840"/>
            </a:xfrm>
          </p:grpSpPr>
          <p:sp>
            <p:nvSpPr>
              <p:cNvPr id="59" name="Freeform 6"/>
              <p:cNvSpPr/>
              <p:nvPr/>
            </p:nvSpPr>
            <p:spPr>
              <a:xfrm>
                <a:off x="1847520" y="3311640"/>
                <a:ext cx="5231520" cy="100800"/>
              </a:xfrm>
              <a:custGeom>
                <a:avLst/>
                <a:gdLst>
                  <a:gd name="textAreaLeft" fmla="*/ 0 w 5231520"/>
                  <a:gd name="textAreaRight" fmla="*/ 5231880 w 523152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3230" h="1">
                    <a:moveTo>
                      <a:pt x="0" y="0"/>
                    </a:moveTo>
                    <a:lnTo>
                      <a:pt x="323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60" name="Line 7"/>
              <p:cNvSpPr/>
              <p:nvPr/>
            </p:nvSpPr>
            <p:spPr>
              <a:xfrm>
                <a:off x="4036320" y="3247920"/>
                <a:ext cx="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61" name="Line 8"/>
              <p:cNvSpPr/>
              <p:nvPr/>
            </p:nvSpPr>
            <p:spPr>
              <a:xfrm>
                <a:off x="4409640" y="3238200"/>
                <a:ext cx="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62" name="Line 9"/>
              <p:cNvSpPr/>
              <p:nvPr/>
            </p:nvSpPr>
            <p:spPr>
              <a:xfrm>
                <a:off x="4776120" y="3238200"/>
                <a:ext cx="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63" name="Line 10"/>
              <p:cNvSpPr/>
              <p:nvPr/>
            </p:nvSpPr>
            <p:spPr>
              <a:xfrm>
                <a:off x="5142240" y="3238200"/>
                <a:ext cx="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64" name="Line 11"/>
              <p:cNvSpPr/>
              <p:nvPr/>
            </p:nvSpPr>
            <p:spPr>
              <a:xfrm>
                <a:off x="5508720" y="3238200"/>
                <a:ext cx="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65" name="Line 12"/>
              <p:cNvSpPr/>
              <p:nvPr/>
            </p:nvSpPr>
            <p:spPr>
              <a:xfrm>
                <a:off x="3361680" y="3238200"/>
                <a:ext cx="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66" name="Line 13"/>
              <p:cNvSpPr/>
              <p:nvPr/>
            </p:nvSpPr>
            <p:spPr>
              <a:xfrm>
                <a:off x="2946240" y="3238200"/>
                <a:ext cx="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67" name="Line 14"/>
              <p:cNvSpPr/>
              <p:nvPr/>
            </p:nvSpPr>
            <p:spPr>
              <a:xfrm>
                <a:off x="2580120" y="3238200"/>
                <a:ext cx="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68" name="Line 15"/>
              <p:cNvSpPr/>
              <p:nvPr/>
            </p:nvSpPr>
            <p:spPr>
              <a:xfrm>
                <a:off x="5874840" y="3238200"/>
                <a:ext cx="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69" name="Line 16"/>
              <p:cNvSpPr/>
              <p:nvPr/>
            </p:nvSpPr>
            <p:spPr>
              <a:xfrm>
                <a:off x="6240960" y="3238200"/>
                <a:ext cx="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0" name="Freeform 17"/>
              <p:cNvSpPr/>
              <p:nvPr/>
            </p:nvSpPr>
            <p:spPr>
              <a:xfrm>
                <a:off x="4768920" y="1924560"/>
                <a:ext cx="8640" cy="138672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386720"/>
                  <a:gd name="textAreaBottom" fmla="*/ 1387080 h 1386720"/>
                </a:gdLst>
                <a:ahLst/>
                <a:rect l="textAreaLeft" t="textAreaTop" r="textAreaRight" b="textAreaBottom"/>
                <a:pathLst>
                  <a:path w="5" h="912">
                    <a:moveTo>
                      <a:pt x="0" y="0"/>
                    </a:moveTo>
                    <a:lnTo>
                      <a:pt x="5" y="91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1" name="Freeform 18"/>
              <p:cNvSpPr/>
              <p:nvPr/>
            </p:nvSpPr>
            <p:spPr>
              <a:xfrm>
                <a:off x="2229480" y="1932840"/>
                <a:ext cx="2539440" cy="1080"/>
              </a:xfrm>
              <a:custGeom>
                <a:avLst/>
                <a:gdLst>
                  <a:gd name="textAreaLeft" fmla="*/ 0 w 2539440"/>
                  <a:gd name="textAreaRight" fmla="*/ 2539800 w 2539440"/>
                  <a:gd name="textAreaTop" fmla="*/ 0 h 1080"/>
                  <a:gd name="textAreaBottom" fmla="*/ 1440 h 1080"/>
                </a:gdLst>
                <a:ahLst/>
                <a:rect l="textAreaLeft" t="textAreaTop" r="textAreaRight" b="textAreaBottom"/>
                <a:pathLst>
                  <a:path w="1332" h="1">
                    <a:moveTo>
                      <a:pt x="0" y="0"/>
                    </a:moveTo>
                    <a:lnTo>
                      <a:pt x="1332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2" name="Line 19"/>
              <p:cNvSpPr/>
              <p:nvPr/>
            </p:nvSpPr>
            <p:spPr>
              <a:xfrm flipV="1">
                <a:off x="2206800" y="1421640"/>
                <a:ext cx="0" cy="2337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3" name="Line 20"/>
              <p:cNvSpPr/>
              <p:nvPr/>
            </p:nvSpPr>
            <p:spPr>
              <a:xfrm flipH="1">
                <a:off x="2210400" y="2359800"/>
                <a:ext cx="91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4" name="Line 21"/>
              <p:cNvSpPr/>
              <p:nvPr/>
            </p:nvSpPr>
            <p:spPr>
              <a:xfrm flipH="1">
                <a:off x="2210400" y="2066760"/>
                <a:ext cx="91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5" name="Line 22"/>
              <p:cNvSpPr/>
              <p:nvPr/>
            </p:nvSpPr>
            <p:spPr>
              <a:xfrm flipH="1">
                <a:off x="2210400" y="1775160"/>
                <a:ext cx="91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6" name="Line 23"/>
              <p:cNvSpPr/>
              <p:nvPr/>
            </p:nvSpPr>
            <p:spPr>
              <a:xfrm flipH="1">
                <a:off x="2190600" y="2948040"/>
                <a:ext cx="91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7" name="Line 24"/>
              <p:cNvSpPr/>
              <p:nvPr/>
            </p:nvSpPr>
            <p:spPr>
              <a:xfrm flipH="1">
                <a:off x="2190600" y="2655360"/>
                <a:ext cx="91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8" name="Line 25"/>
              <p:cNvSpPr/>
              <p:nvPr/>
            </p:nvSpPr>
            <p:spPr>
              <a:xfrm flipH="1">
                <a:off x="2190600" y="3605760"/>
                <a:ext cx="91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79" name="Line 26"/>
              <p:cNvSpPr/>
              <p:nvPr/>
            </p:nvSpPr>
            <p:spPr>
              <a:xfrm flipH="1">
                <a:off x="2190600" y="3312720"/>
                <a:ext cx="91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80" name="Line 27"/>
              <p:cNvSpPr/>
              <p:nvPr/>
            </p:nvSpPr>
            <p:spPr>
              <a:xfrm>
                <a:off x="3715920" y="3247920"/>
                <a:ext cx="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81" name="Line 28"/>
              <p:cNvSpPr/>
              <p:nvPr/>
            </p:nvSpPr>
            <p:spPr>
              <a:xfrm>
                <a:off x="6621480" y="3247920"/>
                <a:ext cx="0" cy="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82" name="Line 29"/>
              <p:cNvSpPr/>
              <p:nvPr/>
            </p:nvSpPr>
            <p:spPr>
              <a:xfrm>
                <a:off x="2949840" y="3321360"/>
                <a:ext cx="0" cy="2912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83" name="Line 30"/>
              <p:cNvSpPr/>
              <p:nvPr/>
            </p:nvSpPr>
            <p:spPr>
              <a:xfrm>
                <a:off x="2229480" y="3604680"/>
                <a:ext cx="73224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84" name="Freeform 31"/>
              <p:cNvSpPr/>
              <p:nvPr/>
            </p:nvSpPr>
            <p:spPr>
              <a:xfrm>
                <a:off x="2229480" y="1810080"/>
                <a:ext cx="4426920" cy="1783440"/>
              </a:xfrm>
              <a:custGeom>
                <a:avLst/>
                <a:gdLst>
                  <a:gd name="textAreaLeft" fmla="*/ 0 w 4426920"/>
                  <a:gd name="textAreaRight" fmla="*/ 4427280 w 4426920"/>
                  <a:gd name="textAreaTop" fmla="*/ 0 h 1783440"/>
                  <a:gd name="textAreaBottom" fmla="*/ 1783800 h 1783440"/>
                </a:gdLst>
                <a:ahLst/>
                <a:rect l="textAreaLeft" t="textAreaTop" r="textAreaRight" b="textAreaBottom"/>
                <a:pathLst>
                  <a:path w="2322" h="1172">
                    <a:moveTo>
                      <a:pt x="0" y="1005"/>
                    </a:moveTo>
                    <a:cubicBezTo>
                      <a:pt x="63" y="1032"/>
                      <a:pt x="265" y="1172"/>
                      <a:pt x="378" y="1167"/>
                    </a:cubicBezTo>
                    <a:cubicBezTo>
                      <a:pt x="491" y="1162"/>
                      <a:pt x="531" y="1150"/>
                      <a:pt x="678" y="975"/>
                    </a:cubicBezTo>
                    <a:cubicBezTo>
                      <a:pt x="825" y="800"/>
                      <a:pt x="1117" y="234"/>
                      <a:pt x="1260" y="117"/>
                    </a:cubicBezTo>
                    <a:cubicBezTo>
                      <a:pt x="1403" y="0"/>
                      <a:pt x="1434" y="237"/>
                      <a:pt x="1536" y="273"/>
                    </a:cubicBezTo>
                    <a:cubicBezTo>
                      <a:pt x="1638" y="309"/>
                      <a:pt x="1759" y="212"/>
                      <a:pt x="1872" y="333"/>
                    </a:cubicBezTo>
                    <a:cubicBezTo>
                      <a:pt x="1985" y="454"/>
                      <a:pt x="2139" y="869"/>
                      <a:pt x="2214" y="999"/>
                    </a:cubicBezTo>
                    <a:cubicBezTo>
                      <a:pt x="2289" y="1129"/>
                      <a:pt x="2300" y="1089"/>
                      <a:pt x="2322" y="111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85" name="Text Box 32"/>
            <p:cNvSpPr/>
            <p:nvPr/>
          </p:nvSpPr>
          <p:spPr>
            <a:xfrm>
              <a:off x="1619280" y="3142800"/>
              <a:ext cx="5544360" cy="4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7a77"/>
                  </a:solidFill>
                  <a:latin typeface="Times New Roman"/>
                </a:rPr>
                <a:t>0     2    4     6     8   10    12   14   16   18    20    22   24</a:t>
              </a:r>
              <a:endParaRPr b="0" lang="en-US" sz="5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86" name="Text Box 33"/>
            <p:cNvSpPr/>
            <p:nvPr/>
          </p:nvSpPr>
          <p:spPr>
            <a:xfrm>
              <a:off x="6827400" y="3207960"/>
              <a:ext cx="839880" cy="60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t/h</a:t>
              </a:r>
              <a:endParaRPr b="0" lang="en-US" sz="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87" name="Text Box 34"/>
            <p:cNvSpPr/>
            <p:nvPr/>
          </p:nvSpPr>
          <p:spPr>
            <a:xfrm>
              <a:off x="2081160" y="1341360"/>
              <a:ext cx="1428120" cy="6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θ /℃</a:t>
              </a:r>
              <a:endParaRPr b="0" lang="en-US" sz="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88" name="Text Box 35"/>
            <p:cNvSpPr/>
            <p:nvPr/>
          </p:nvSpPr>
          <p:spPr>
            <a:xfrm>
              <a:off x="1745280" y="1442160"/>
              <a:ext cx="755640" cy="256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lnSpc>
                  <a:spcPct val="8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7a77"/>
                  </a:solidFill>
                  <a:latin typeface="Times New Roman"/>
                </a:rPr>
                <a:t>10</a:t>
              </a:r>
              <a:endParaRPr b="0" lang="en-US" sz="500" spc="-1" strike="noStrike">
                <a:solidFill>
                  <a:srgbClr val="007a77"/>
                </a:solidFill>
                <a:latin typeface="Arial"/>
              </a:endParaRPr>
            </a:p>
            <a:p>
              <a:pPr algn="just">
                <a:lnSpc>
                  <a:spcPct val="8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7a77"/>
                  </a:solidFill>
                  <a:latin typeface="Times New Roman"/>
                </a:rPr>
                <a:t>8</a:t>
              </a:r>
              <a:endParaRPr b="0" lang="en-US" sz="500" spc="-1" strike="noStrike">
                <a:solidFill>
                  <a:srgbClr val="007a77"/>
                </a:solidFill>
                <a:latin typeface="Arial"/>
              </a:endParaRPr>
            </a:p>
            <a:p>
              <a:pPr algn="just">
                <a:lnSpc>
                  <a:spcPct val="8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7a77"/>
                  </a:solidFill>
                  <a:latin typeface="Times New Roman"/>
                </a:rPr>
                <a:t>6</a:t>
              </a:r>
              <a:endParaRPr b="0" lang="en-US" sz="500" spc="-1" strike="noStrike">
                <a:solidFill>
                  <a:srgbClr val="007a77"/>
                </a:solidFill>
                <a:latin typeface="Arial"/>
              </a:endParaRPr>
            </a:p>
            <a:p>
              <a:pPr algn="just">
                <a:lnSpc>
                  <a:spcPct val="8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7a77"/>
                  </a:solidFill>
                  <a:latin typeface="Times New Roman"/>
                </a:rPr>
                <a:t>4</a:t>
              </a:r>
              <a:endParaRPr b="0" lang="en-US" sz="500" spc="-1" strike="noStrike">
                <a:solidFill>
                  <a:srgbClr val="007a77"/>
                </a:solidFill>
                <a:latin typeface="Arial"/>
              </a:endParaRPr>
            </a:p>
            <a:p>
              <a:pPr algn="just">
                <a:lnSpc>
                  <a:spcPct val="8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7a77"/>
                  </a:solidFill>
                  <a:latin typeface="Times New Roman"/>
                </a:rPr>
                <a:t>2</a:t>
              </a:r>
              <a:endParaRPr b="0" lang="en-US" sz="500" spc="-1" strike="noStrike">
                <a:solidFill>
                  <a:srgbClr val="007a77"/>
                </a:solidFill>
                <a:latin typeface="Arial"/>
              </a:endParaRPr>
            </a:p>
            <a:p>
              <a:pPr algn="just">
                <a:lnSpc>
                  <a:spcPct val="8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7a77"/>
                </a:solidFill>
                <a:latin typeface="Arial"/>
              </a:endParaRPr>
            </a:p>
            <a:p>
              <a:pPr algn="just">
                <a:lnSpc>
                  <a:spcPct val="8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7a77"/>
                </a:solidFill>
                <a:latin typeface="Arial"/>
              </a:endParaRPr>
            </a:p>
            <a:p>
              <a:pPr algn="just">
                <a:lnSpc>
                  <a:spcPct val="88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7a77"/>
                  </a:solidFill>
                  <a:latin typeface="Times New Roman"/>
                </a:rPr>
                <a:t>-2</a:t>
              </a:r>
              <a:endParaRPr b="0" lang="en-US" sz="5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估计人口数量变化趋势是我们制定一系列相关政策的依据。从人口统计年鉴中可以查得我国从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949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年至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999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年人口数据资料如表所示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表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—1—1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476360" y="3213000"/>
          <a:ext cx="6192720" cy="1297080"/>
        </p:xfrm>
        <a:graphic>
          <a:graphicData uri="http://schemas.openxmlformats.org/drawingml/2006/table">
            <a:tbl>
              <a:tblPr/>
              <a:tblGrid>
                <a:gridCol w="915840"/>
                <a:gridCol w="479520"/>
                <a:gridCol w="479520"/>
                <a:gridCol w="479520"/>
                <a:gridCol w="479160"/>
                <a:gridCol w="481320"/>
                <a:gridCol w="479160"/>
                <a:gridCol w="479520"/>
                <a:gridCol w="479520"/>
                <a:gridCol w="480960"/>
                <a:gridCol w="479520"/>
                <a:gridCol w="479160"/>
              </a:tblGrid>
              <a:tr h="606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7a77"/>
                          </a:solidFill>
                          <a:latin typeface="Times New Roman"/>
                          <a:ea typeface="Times New Roman"/>
                        </a:rPr>
                        <a:t>年   份</a:t>
                      </a:r>
                      <a:endParaRPr b="0" lang="en-US" sz="9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7a77"/>
                          </a:solidFill>
                          <a:latin typeface="Times New Roman"/>
                          <a:ea typeface="Times New Roman"/>
                        </a:rPr>
                        <a:t>1949</a:t>
                      </a:r>
                      <a:endParaRPr b="0" lang="en-US" sz="9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7a77"/>
                          </a:solidFill>
                          <a:latin typeface="Times New Roman"/>
                          <a:ea typeface="Times New Roman"/>
                        </a:rPr>
                        <a:t>1954</a:t>
                      </a:r>
                      <a:endParaRPr b="0" lang="en-US" sz="9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7a77"/>
                          </a:solidFill>
                          <a:latin typeface="Times New Roman"/>
                          <a:ea typeface="Times New Roman"/>
                        </a:rPr>
                        <a:t>1959</a:t>
                      </a:r>
                      <a:endParaRPr b="0" lang="en-US" sz="9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7a77"/>
                          </a:solidFill>
                          <a:latin typeface="Times New Roman"/>
                          <a:ea typeface="Times New Roman"/>
                        </a:rPr>
                        <a:t>1964</a:t>
                      </a:r>
                      <a:endParaRPr b="0" lang="en-US" sz="9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7a77"/>
                          </a:solidFill>
                          <a:latin typeface="Times New Roman"/>
                          <a:ea typeface="Times New Roman"/>
                        </a:rPr>
                        <a:t>1969</a:t>
                      </a:r>
                      <a:endParaRPr b="0" lang="en-US" sz="9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7a77"/>
                          </a:solidFill>
                          <a:latin typeface="Times New Roman"/>
                          <a:ea typeface="Times New Roman"/>
                        </a:rPr>
                        <a:t>1974</a:t>
                      </a:r>
                      <a:endParaRPr b="0" lang="en-US" sz="9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7a77"/>
                          </a:solidFill>
                          <a:latin typeface="Times New Roman"/>
                          <a:ea typeface="Times New Roman"/>
                        </a:rPr>
                        <a:t>1979</a:t>
                      </a:r>
                      <a:endParaRPr b="0" lang="en-US" sz="9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7a77"/>
                          </a:solidFill>
                          <a:latin typeface="Times New Roman"/>
                          <a:ea typeface="Times New Roman"/>
                        </a:rPr>
                        <a:t>1984</a:t>
                      </a:r>
                      <a:endParaRPr b="0" lang="en-US" sz="9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7a77"/>
                          </a:solidFill>
                          <a:latin typeface="Times New Roman"/>
                          <a:ea typeface="Times New Roman"/>
                        </a:rPr>
                        <a:t>1989</a:t>
                      </a:r>
                      <a:endParaRPr b="0" lang="en-US" sz="9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7a77"/>
                          </a:solidFill>
                          <a:latin typeface="Times New Roman"/>
                          <a:ea typeface="Times New Roman"/>
                        </a:rPr>
                        <a:t>1994</a:t>
                      </a:r>
                      <a:endParaRPr b="0" lang="en-US" sz="9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7a77"/>
                          </a:solidFill>
                          <a:latin typeface="Times New Roman"/>
                          <a:ea typeface="Times New Roman"/>
                        </a:rPr>
                        <a:t>1999</a:t>
                      </a:r>
                      <a:endParaRPr b="0" lang="en-US" sz="9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7a77"/>
                          </a:solidFill>
                          <a:latin typeface="Times New Roman"/>
                          <a:ea typeface="Times New Roman"/>
                        </a:rPr>
                        <a:t>人口数</a:t>
                      </a:r>
                      <a:r>
                        <a:rPr b="0" lang="en-US" sz="900" spc="-1" strike="noStrike">
                          <a:solidFill>
                            <a:srgbClr val="007a77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zh-CN" sz="900" spc="-1" strike="noStrike">
                          <a:solidFill>
                            <a:srgbClr val="007a77"/>
                          </a:solidFill>
                          <a:latin typeface="Times New Roman"/>
                          <a:ea typeface="Times New Roman"/>
                        </a:rPr>
                        <a:t>百万</a:t>
                      </a:r>
                      <a:endParaRPr b="0" lang="en-US" sz="9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7a77"/>
                          </a:solidFill>
                          <a:latin typeface="Times New Roman"/>
                          <a:ea typeface="Times New Roman"/>
                        </a:rPr>
                        <a:t>542</a:t>
                      </a:r>
                      <a:endParaRPr b="0" lang="en-US" sz="9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7a77"/>
                          </a:solidFill>
                          <a:latin typeface="Times New Roman"/>
                          <a:ea typeface="Times New Roman"/>
                        </a:rPr>
                        <a:t>603</a:t>
                      </a:r>
                      <a:endParaRPr b="0" lang="en-US" sz="9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7a77"/>
                          </a:solidFill>
                          <a:latin typeface="Times New Roman"/>
                          <a:ea typeface="Times New Roman"/>
                        </a:rPr>
                        <a:t>672</a:t>
                      </a:r>
                      <a:endParaRPr b="0" lang="en-US" sz="9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7a77"/>
                          </a:solidFill>
                          <a:latin typeface="Times New Roman"/>
                          <a:ea typeface="Times New Roman"/>
                        </a:rPr>
                        <a:t>705</a:t>
                      </a:r>
                      <a:endParaRPr b="0" lang="en-US" sz="9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7a77"/>
                          </a:solidFill>
                          <a:latin typeface="Times New Roman"/>
                          <a:ea typeface="Times New Roman"/>
                        </a:rPr>
                        <a:t>807</a:t>
                      </a:r>
                      <a:endParaRPr b="0" lang="en-US" sz="9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7a77"/>
                          </a:solidFill>
                          <a:latin typeface="Times New Roman"/>
                          <a:ea typeface="Times New Roman"/>
                        </a:rPr>
                        <a:t>909</a:t>
                      </a:r>
                      <a:endParaRPr b="0" lang="en-US" sz="9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7a77"/>
                          </a:solidFill>
                          <a:latin typeface="Times New Roman"/>
                          <a:ea typeface="Times New Roman"/>
                        </a:rPr>
                        <a:t>975</a:t>
                      </a:r>
                      <a:endParaRPr b="0" lang="en-US" sz="9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7a77"/>
                          </a:solidFill>
                          <a:latin typeface="Times New Roman"/>
                          <a:ea typeface="Times New Roman"/>
                        </a:rPr>
                        <a:t>1035</a:t>
                      </a:r>
                      <a:endParaRPr b="0" lang="en-US" sz="9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7a77"/>
                          </a:solidFill>
                          <a:latin typeface="Times New Roman"/>
                          <a:ea typeface="Times New Roman"/>
                        </a:rPr>
                        <a:t>1107</a:t>
                      </a:r>
                      <a:endParaRPr b="0" lang="en-US" sz="9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7a77"/>
                          </a:solidFill>
                          <a:latin typeface="Times New Roman"/>
                          <a:ea typeface="Times New Roman"/>
                        </a:rPr>
                        <a:t>1177</a:t>
                      </a:r>
                      <a:endParaRPr b="0" lang="en-US" sz="9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7a77"/>
                          </a:solidFill>
                          <a:latin typeface="Times New Roman"/>
                          <a:ea typeface="Times New Roman"/>
                        </a:rPr>
                        <a:t>1246</a:t>
                      </a:r>
                      <a:endParaRPr b="0" lang="en-US" sz="9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请你仿照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、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）描述表中人口数量和时间的关系．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以上三个实例，它们有什么共同特点？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函数的概念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上述例子的共同特点是：变量之间的关系都可以描述为：对于数集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中的每一个，按照某种对应关系，在数集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中都有惟一确定的和对应．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一般地，我们有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设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，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是两个非空的数集，如果按照某种确定的对应关系，使对于集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中的任意一个数，在集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中都有惟一确定的数和对应，那么就称为从集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到集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的一个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函数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，记作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         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或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其中，集合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叫做函数的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定义域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；与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x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的值相对应的的值叫做函数值，函数值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y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的集合叫做函数的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值域．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95" name="Object 3"/>
          <p:cNvGraphicFramePr/>
          <p:nvPr/>
        </p:nvGraphicFramePr>
        <p:xfrm>
          <a:off x="2627280" y="3213000"/>
          <a:ext cx="2160720" cy="44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3213000"/>
                    <a:ext cx="2160720" cy="4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98" name="Object 5"/>
          <p:cNvGraphicFramePr/>
          <p:nvPr/>
        </p:nvGraphicFramePr>
        <p:xfrm>
          <a:off x="2987640" y="3789360"/>
          <a:ext cx="1297080" cy="37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3789360"/>
                    <a:ext cx="129708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我们所熟悉的一次函数的定义域是，值域也是．对于中的任意一个数，在中都有惟一一个数和它对应．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二次函数的定义域是，值域是 。对于中的任意一个数，在值域中都有惟一一个数和它对应．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思考  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反比例函数的定义域、对应关系和值域各是什么？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Administrator</dc:creator>
  <dc:description/>
  <cp:keywords/>
  <dc:language>en-US</dc:language>
  <cp:lastModifiedBy>Administrator</cp:lastModifiedBy>
  <dcterms:modified xsi:type="dcterms:W3CDTF">2021-12-17T13:11:58Z</dcterms:modified>
  <cp:revision>25</cp:revision>
  <dc:subject/>
  <dc:title>函数与映射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