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50DF-F9E2-4CC9-824C-B1D48A79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F1F-1793-4484-AF3F-BB0BE926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E78E-0DDE-44C9-B2C5-F034BB7BC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9B1D-14EF-46CB-89F2-3A10B48E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B9D6-9C5E-45C6-BD60-389173AB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A041-BC5D-49EF-8900-7B1797F5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4B6D-03CE-4334-BCB7-B3F48A6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FF4A-8EAF-4C31-AD5C-841FE549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1271-2F63-434F-A77D-2A55072B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B21E-7FA5-4DF6-9E14-000B755E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A9CC6-CBAA-4B53-8A9C-2E2ED542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B2EE-0BA3-4794-A663-ABB43B67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EAC8-D776-46D0-B43D-609E287B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4DDB-59F6-4CE2-9F86-B86573C4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A73-63CD-4AB0-A0AC-93ADA45B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5F58-50C9-4504-A04E-17F15793D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F4AB-5BAD-45B4-B0D4-1B94FA70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DB2D-C438-48B9-8F5F-F6BE3CEB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253-8D0D-467C-B2F5-BB4AEB5B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948-2461-4C1F-B951-9B95EDD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5FD5-DBB1-4A0B-87B2-55163DC1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1C9-6384-485E-9962-338600FC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174F-F0B1-4573-85B4-E1F38A58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68F0-90BC-4237-95CC-898F14E9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9685-3F76-46F6-A320-39A897ED63A7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E0A2-2E3D-40D6-97E3-FB71E8183B3A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82880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第三章 数列 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95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苏州高等幼儿师范学校数学教研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762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练习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P112.1-4  P113.1-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2952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小结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1905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作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 A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组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  P114.1(1)(2)(3)  2,  3(1),4(1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819520"/>
            <a:ext cx="861048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补充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  1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设数列的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f(n)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是一个函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它的定义域是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非负整数      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B.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一定是正整数集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正整数集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一个有限子集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D.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正整数集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*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1,2,3…,n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和记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S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S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2n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+1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则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a</a:t>
            </a:r>
            <a:r>
              <a:rPr b="1" lang="zh-CN" sz="2400" spc="-1" strike="noStrike" baseline="-25000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值分别为</a:t>
            </a:r>
            <a:r>
              <a:rPr b="0" lang="zh-CN" sz="24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8632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知识与实践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 集体活动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按数拍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我们来听数拍手，我报几你们就拍几下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） 认识序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出示黑板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朵花。黑板上有几朵花？第一朵花在哪里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我们按顺序说一说每朵花的位置。教师手指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朵花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是第几朵花？谁会用一个数字来表示花的位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在这里放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表示什么意思？我们平时用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可以表示什么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现在你知道数字有几个好处了？（表示物体的位置，表示物体的数量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能在每朵花的下面都放一个数字来表示它的位置吗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教师拿掉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朵花。谁能说说，哪几朵花不见了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又是怎么发现的？谁帮助你一看就知道第几朵花不见了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40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引言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914400"/>
            <a:ext cx="8001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国际象棋的传说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国际象棋起源于古代印度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国王要奖赏国际象棋的发明者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问他有什么要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发明者说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“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请在棋盘的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个格子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里放上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麦粒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在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格子里放上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麦粒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在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格子里放上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麦粒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在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格子里放上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麦粒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依此类推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每个格子里放的麦粒数是前一个格子里放的麦粒数的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直到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64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个格子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请给我足够的粮食来实现上述要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国王欣然同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但大臣们计算之后发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这个数大得惊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国王根本无法满足发明者的要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为什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?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4114800"/>
            <a:ext cx="4343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各个格子里的麦粒数依次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,   2,   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…,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6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4648320"/>
            <a:ext cx="1600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通项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: a</a:t>
            </a:r>
            <a:r>
              <a:rPr b="1" lang="zh-CN" sz="2400" spc="-1" strike="noStrike" baseline="-25000">
                <a:solidFill>
                  <a:srgbClr val="66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520" y="510552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发明者要求的麦粒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总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就是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+ 2+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+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+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+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+…+2</a:t>
            </a:r>
            <a:r>
              <a:rPr b="0" lang="zh-CN" sz="2400" spc="-1" strike="noStrike" baseline="30000">
                <a:solidFill>
                  <a:srgbClr val="007a77"/>
                </a:solidFill>
                <a:latin typeface="Times New Roman"/>
              </a:rPr>
              <a:t>6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53341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前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项和</a:t>
            </a:r>
            <a:r>
              <a:rPr b="1" lang="zh-CN" sz="2400" spc="-1" strike="noStrike">
                <a:solidFill>
                  <a:srgbClr val="660066"/>
                </a:solidFill>
                <a:latin typeface="Times New Roman"/>
              </a:rPr>
              <a:t>:S</a:t>
            </a:r>
            <a:r>
              <a:rPr b="1" lang="zh-CN" sz="2400" spc="-1" strike="noStrike" baseline="-25000">
                <a:solidFill>
                  <a:srgbClr val="660066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2120" y="914400"/>
            <a:ext cx="769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§3.1  </a:t>
            </a:r>
            <a:r>
              <a:rPr b="1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数列的概念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33720" y="2362320"/>
            <a:ext cx="647676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中宋"/>
                <a:ea typeface="华文中宋"/>
              </a:rPr>
              <a:t>本节课的目标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理解数列等的概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列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项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列的一般形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及简单记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项公式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)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了解数列通项公式的意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了解递推公式是给出数列的一种方法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并能根据递推公式写出数列的前几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阅读脉络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3578400"/>
            <a:ext cx="83808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定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3429000"/>
            <a:ext cx="83844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表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4419720"/>
            <a:ext cx="190512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数列的分类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2819520"/>
            <a:ext cx="152424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通项公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48240" y="3581280"/>
            <a:ext cx="1524240" cy="45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递推公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133720" y="3654360"/>
            <a:ext cx="838080" cy="7632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133720" y="3882960"/>
            <a:ext cx="990360" cy="76212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038480" y="3124080"/>
            <a:ext cx="1143000" cy="45720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3733920"/>
            <a:ext cx="1447560" cy="15228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457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观察下列数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14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343400" y="762120"/>
            <a:ext cx="3124080" cy="799920"/>
            <a:chOff x="4343400" y="762120"/>
            <a:chExt cx="3124080" cy="799920"/>
          </a:xfrm>
        </p:grpSpPr>
        <p:sp>
          <p:nvSpPr>
            <p:cNvPr id="107" name=""/>
            <p:cNvSpPr/>
            <p:nvPr/>
          </p:nvSpPr>
          <p:spPr>
            <a:xfrm>
              <a:off x="4343400" y="91440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5334120" y="762120"/>
                  <a:ext cx="21333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9" name="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.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.41,1.414,…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1600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4)  -1, 1,  -1,  1,  …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20574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5)  1,  1,  1,  1,  …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2971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定义：按一定次序排列的一列数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2280" y="34290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数列中的每一个数叫做这个数列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各项依次叫做这个数列的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首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)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…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4419720"/>
            <a:ext cx="8991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数列的一般形式写成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 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… ,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  …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4952880"/>
            <a:ext cx="487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是数列的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第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4952880"/>
            <a:ext cx="533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有时我们把上面的数列简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5486400"/>
            <a:ext cx="792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如果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与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之间用一个公式来表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那么这个公式就叫做这个数列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" y="25146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观察以上数列有何共同特点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从数列的项数分为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有穷数列，无穷数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2952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从数列的项与项的大小分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递增数列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递减数列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常数项，摆动数列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18288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观察下列数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362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648320" y="2209680"/>
            <a:ext cx="3124080" cy="800280"/>
            <a:chOff x="4648320" y="2209680"/>
            <a:chExt cx="3124080" cy="800280"/>
          </a:xfrm>
        </p:grpSpPr>
        <p:sp>
          <p:nvSpPr>
            <p:cNvPr id="124" name=""/>
            <p:cNvSpPr/>
            <p:nvPr/>
          </p:nvSpPr>
          <p:spPr>
            <a:xfrm>
              <a:off x="4648320" y="236232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）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639040" y="2209680"/>
                  <a:ext cx="2133360" cy="800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"/>
          <p:cNvSpPr/>
          <p:nvPr/>
        </p:nvSpPr>
        <p:spPr>
          <a:xfrm>
            <a:off x="22860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3048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1)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n+3   (n≤7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800600" y="2895480"/>
            <a:ext cx="2209680" cy="914400"/>
            <a:chOff x="4800600" y="2895480"/>
            <a:chExt cx="2209680" cy="914400"/>
          </a:xfrm>
        </p:grpSpPr>
        <p:sp>
          <p:nvSpPr>
            <p:cNvPr id="129" name=""/>
            <p:cNvSpPr/>
            <p:nvPr/>
          </p:nvSpPr>
          <p:spPr>
            <a:xfrm>
              <a:off x="4800600" y="3136680"/>
              <a:ext cx="2209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(2)  a</a:t>
              </a:r>
              <a:r>
                <a:rPr b="0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165720" y="2895480"/>
                  <a:ext cx="3520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" name=""/>
          <p:cNvSpPr/>
          <p:nvPr/>
        </p:nvSpPr>
        <p:spPr>
          <a:xfrm>
            <a:off x="304920" y="3581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按一定次序排列的一列数叫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4114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序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41148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     2     3     4     5      6     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124080" y="4495680"/>
            <a:ext cx="3314520" cy="635040"/>
            <a:chOff x="3124080" y="4495680"/>
            <a:chExt cx="3314520" cy="635040"/>
          </a:xfrm>
        </p:grpSpPr>
        <p:sp>
          <p:nvSpPr>
            <p:cNvPr id="137" name=""/>
            <p:cNvSpPr/>
            <p:nvPr/>
          </p:nvSpPr>
          <p:spPr>
            <a:xfrm>
              <a:off x="3124080" y="452124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38600" y="452124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67280" y="449568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57600" y="452124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70400" y="4508280"/>
              <a:ext cx="0" cy="6098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36880" y="452124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203720" y="4508280"/>
              <a:ext cx="0" cy="6098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2971800" y="5105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     5     6     7     8      9     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705720" y="3886200"/>
            <a:ext cx="838080" cy="1647720"/>
            <a:chOff x="6705720" y="3886200"/>
            <a:chExt cx="838080" cy="1647720"/>
          </a:xfrm>
        </p:grpSpPr>
        <p:sp>
          <p:nvSpPr>
            <p:cNvPr id="146" name=""/>
            <p:cNvSpPr/>
            <p:nvPr/>
          </p:nvSpPr>
          <p:spPr>
            <a:xfrm>
              <a:off x="6781680" y="388620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Times New Roman"/>
                </a:rPr>
                <a:t>n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05720" y="501336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n+3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010280" y="4465800"/>
              <a:ext cx="0" cy="609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54864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如上是序号集合到数的集合的映射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5867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从映射、函数的观点看，数列可以看作是一个函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6858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列表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2666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297180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1)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n+3   (n≤7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序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     2     3     4     5      6     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     5     6     7     8      9     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438280" y="1600200"/>
            <a:ext cx="3314520" cy="635040"/>
            <a:chOff x="2438280" y="1600200"/>
            <a:chExt cx="3314520" cy="635040"/>
          </a:xfrm>
        </p:grpSpPr>
        <p:sp>
          <p:nvSpPr>
            <p:cNvPr id="160" name=""/>
            <p:cNvSpPr/>
            <p:nvPr/>
          </p:nvSpPr>
          <p:spPr>
            <a:xfrm>
              <a:off x="2438280" y="162576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52800" y="162576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81480" y="160020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71800" y="162576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84600" y="1612800"/>
              <a:ext cx="0" cy="6098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51080" y="1625760"/>
              <a:ext cx="0" cy="6094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517920" y="1612800"/>
              <a:ext cx="0" cy="6098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095880" y="10666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5880" y="22096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n+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24480" y="1676520"/>
            <a:ext cx="0" cy="609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5909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解析式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533520" y="2936880"/>
            <a:ext cx="3961800" cy="3922920"/>
            <a:chOff x="533520" y="2936880"/>
            <a:chExt cx="3961800" cy="3922920"/>
          </a:xfrm>
        </p:grpSpPr>
        <p:sp>
          <p:nvSpPr>
            <p:cNvPr id="172" name=""/>
            <p:cNvSpPr/>
            <p:nvPr/>
          </p:nvSpPr>
          <p:spPr>
            <a:xfrm flipV="1">
              <a:off x="845280" y="3203280"/>
              <a:ext cx="0" cy="32025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533520" y="2936880"/>
              <a:ext cx="3961800" cy="3922920"/>
              <a:chOff x="533520" y="2936880"/>
              <a:chExt cx="3961800" cy="3922920"/>
            </a:xfrm>
          </p:grpSpPr>
          <p:sp>
            <p:nvSpPr>
              <p:cNvPr id="174" name=""/>
              <p:cNvSpPr/>
              <p:nvPr/>
            </p:nvSpPr>
            <p:spPr>
              <a:xfrm>
                <a:off x="595440" y="6139440"/>
                <a:ext cx="3681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21280" y="607248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33520" y="2936880"/>
                <a:ext cx="436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r>
                  <a:rPr b="0" lang="en-US" sz="2400" spc="-1" strike="noStrike" baseline="-25000">
                    <a:solidFill>
                      <a:srgbClr val="007a77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33520" y="6093360"/>
                <a:ext cx="37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1053360" y="6139440"/>
                <a:ext cx="2204280" cy="144000"/>
                <a:chOff x="1053360" y="6139440"/>
                <a:chExt cx="2204280" cy="1440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105336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128196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51056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864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00080" y="61502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91628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02868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13444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35296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25764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71120" y="6139440"/>
                  <a:ext cx="0" cy="13320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803520" y="3548160"/>
                <a:ext cx="134640" cy="2357280"/>
                <a:chOff x="803520" y="3548160"/>
                <a:chExt cx="134640" cy="235728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803520" y="590544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803520" y="566064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803520" y="541620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3520" y="519408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813600" y="403740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803520" y="498276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803520" y="379296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803520" y="474948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803520" y="451584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03520" y="354816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803520" y="4282200"/>
                  <a:ext cx="124560" cy="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"/>
              <p:cNvSpPr/>
              <p:nvPr/>
            </p:nvSpPr>
            <p:spPr>
              <a:xfrm>
                <a:off x="969840" y="6339600"/>
                <a:ext cx="2558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7a77"/>
                    </a:solidFill>
                    <a:latin typeface="Times New Roman"/>
                  </a:rPr>
                  <a:t>1    2    3    4    5    6   7    8    9    10    11</a:t>
                </a:r>
                <a:endParaRPr b="0" lang="en-US" sz="1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flipV="1" rot="5400000">
                <a:off x="-543240" y="4377600"/>
                <a:ext cx="2735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7a77"/>
                    </a:solidFill>
                    <a:latin typeface="Times New Roman"/>
                  </a:rPr>
                  <a:t>1    2    3    4    5    6   7    8    9    10    11</a:t>
                </a:r>
                <a:endParaRPr b="0" lang="en-US" sz="1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"/>
          <p:cNvGrpSpPr/>
          <p:nvPr/>
        </p:nvGrpSpPr>
        <p:grpSpPr>
          <a:xfrm>
            <a:off x="990720" y="3733920"/>
            <a:ext cx="2171160" cy="2072520"/>
            <a:chOff x="990720" y="3733920"/>
            <a:chExt cx="2171160" cy="2072520"/>
          </a:xfrm>
        </p:grpSpPr>
        <p:sp>
          <p:nvSpPr>
            <p:cNvPr id="205" name=""/>
            <p:cNvSpPr/>
            <p:nvPr/>
          </p:nvSpPr>
          <p:spPr>
            <a:xfrm>
              <a:off x="2006640" y="43182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90640" y="458460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11280" y="482616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2760" y="37339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231920" y="510552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86000" y="4025880"/>
              <a:ext cx="60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90720" y="5346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267080" y="37339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，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，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，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，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图象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76920" y="502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图象是孤立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609480"/>
            <a:ext cx="685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根据下面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写出它的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52280" y="990720"/>
            <a:ext cx="5791320" cy="761760"/>
            <a:chOff x="152280" y="990720"/>
            <a:chExt cx="5791320" cy="761760"/>
          </a:xfrm>
        </p:grpSpPr>
        <p:sp>
          <p:nvSpPr>
            <p:cNvPr id="217" name=""/>
            <p:cNvSpPr/>
            <p:nvPr/>
          </p:nvSpPr>
          <p:spPr>
            <a:xfrm>
              <a:off x="152280" y="1142640"/>
              <a:ext cx="5791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(1)  a</a:t>
              </a:r>
              <a:r>
                <a:rPr b="0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=                    (2)  a</a:t>
              </a:r>
              <a:r>
                <a:rPr b="0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=  (-1)</a:t>
              </a:r>
              <a:r>
                <a:rPr b="0" lang="zh-CN" sz="2400" spc="-1" strike="noStrike" baseline="30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·n .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8" name=""/>
                <p:cNvSpPr txBox="1"/>
                <p:nvPr/>
              </p:nvSpPr>
              <p:spPr>
                <a:xfrm>
                  <a:off x="1295280" y="990720"/>
                  <a:ext cx="74628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n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9" name=""/>
          <p:cNvSpPr/>
          <p:nvPr/>
        </p:nvSpPr>
        <p:spPr>
          <a:xfrm>
            <a:off x="228600" y="175248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1)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在通项公式中依次取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=1,2,3,4,5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得到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914400" y="2209680"/>
                <a:ext cx="29844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228600" y="3048120"/>
            <a:ext cx="868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2)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在通项公式中依次取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n=1,2,3,4,5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得到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35812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-1,   2,   -3,   4,   -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写出下面数列的一个通项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使它的前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分别是下列各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1)   1,   3,   5,   7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819520" y="449568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cc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=2n-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5029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685800" y="4876920"/>
                <a:ext cx="380988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24280" y="4800600"/>
                <a:ext cx="17528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04920" y="5486400"/>
                <a:ext cx="4419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-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0" name=""/>
          <p:cNvGrpSpPr/>
          <p:nvPr/>
        </p:nvGrpSpPr>
        <p:grpSpPr>
          <a:xfrm>
            <a:off x="4800600" y="5638680"/>
            <a:ext cx="2133360" cy="830160"/>
            <a:chOff x="4800600" y="5638680"/>
            <a:chExt cx="2133360" cy="830160"/>
          </a:xfrm>
        </p:grpSpPr>
        <p:sp>
          <p:nvSpPr>
            <p:cNvPr id="231" name=""/>
            <p:cNvSpPr/>
            <p:nvPr/>
          </p:nvSpPr>
          <p:spPr>
            <a:xfrm>
              <a:off x="4800600" y="5789520"/>
              <a:ext cx="1447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=(-1)</a:t>
              </a:r>
              <a:r>
                <a:rPr b="0" lang="en-US" sz="2400" spc="-1" strike="noStrike" baseline="30000">
                  <a:solidFill>
                    <a:srgbClr val="007a77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5911560" y="5638680"/>
                  <a:ext cx="1022400" cy="83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  <m:r>
                            <m:t xml:space="preserve">(</m:t>
                          </m:r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106668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5,8,11,14,17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7,14,11,8,5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2,2,2,2,2,  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24080" y="10666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=3n+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895480" y="1676520"/>
            <a:ext cx="2057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=-3n+2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8120" y="220968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= 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0" y="2590920"/>
            <a:ext cx="8381880" cy="1145520"/>
            <a:chOff x="0" y="2590920"/>
            <a:chExt cx="8381880" cy="1145520"/>
          </a:xfrm>
        </p:grpSpPr>
        <p:sp>
          <p:nvSpPr>
            <p:cNvPr id="238" name=""/>
            <p:cNvSpPr/>
            <p:nvPr/>
          </p:nvSpPr>
          <p:spPr>
            <a:xfrm>
              <a:off x="0" y="2845080"/>
              <a:ext cx="6858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例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3.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已知数列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{a</a:t>
              </a:r>
              <a:r>
                <a:rPr b="0" lang="zh-CN" sz="2400" spc="-1" strike="noStrike" baseline="-25000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}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的第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项是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1,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以后的各项由公式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6477120" y="2590920"/>
                  <a:ext cx="1904760" cy="97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40" name=""/>
            <p:cNvSpPr/>
            <p:nvPr/>
          </p:nvSpPr>
          <p:spPr>
            <a:xfrm>
              <a:off x="152280" y="327672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给出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写出这个数列的前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项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0" y="38098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其中数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{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的第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或前几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已知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任一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与它的前一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n-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或前几项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间的关系用一个公式来表示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那么这个公式就叫做这个数列的递推公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52280" y="502920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递推公式也是给出数列的一种方法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5638680"/>
            <a:ext cx="2133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: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1,   a</a:t>
            </a:r>
            <a:r>
              <a:rPr b="0" lang="zh-CN" sz="24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=2,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590920" y="5486400"/>
                <a:ext cx="88236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3657600" y="5410080"/>
                <a:ext cx="10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876920" y="5334120"/>
                <a:ext cx="10666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2-26T00:33:27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