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whoosh.wav" ContentType="audio/x-wav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EF53-3293-48ED-AA44-E1ABB370E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D58-22B0-4CCA-8BD9-53481859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754-EC98-467F-A446-5DA99F342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859A-71BF-4D9F-8A6B-30467F32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CB53-84EA-48DD-9FF3-E1BA2836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B445-B159-44FA-8F3D-7ABFE433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09A2-74F8-4525-AA0A-6B26533A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8559-4DBA-4DC9-9CD2-57409129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FE7E-22C4-4D81-AD2A-AFA24908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99F8-BAE9-47CD-8A31-CFD24670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F178-674D-402B-9276-2EF0A07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FDF0-7EAB-4FBA-8215-0075B687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D0F9-D234-4973-B2B1-91E6233B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C295-02C4-4396-8396-B11FB2B5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1AEA-06DF-4922-BA8F-7C83DB4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B82C-4276-41FD-88B6-CA083D18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833D-E000-403B-AF94-2DF94D081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C015-CA61-4961-965A-BCC19435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DA54-B42A-4A69-AA19-4DBA34A5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937B-1C01-4AE0-88F4-F3F9762A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D32-5768-4013-BB50-E78E0C4E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114-3D6E-4DFB-8616-2FE1CB0B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556F-E2AB-4507-A125-C1DD37F11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4D40-A51B-4A73-9B40-8C5A197D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443B-3A83-4615-B634-E3DEE32A23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6B5B-8137-4345-905D-F4C2377BA91C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80880" y="175248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8000" spc="-1" strike="noStrike">
                <a:solidFill>
                  <a:srgbClr val="0066ff"/>
                </a:solidFill>
                <a:latin typeface="宋体"/>
              </a:rPr>
              <a:t>排  列</a:t>
            </a: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1371600" y="40384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12" name="Group 4"/>
          <p:cNvGrpSpPr/>
          <p:nvPr/>
        </p:nvGrpSpPr>
        <p:grpSpPr>
          <a:xfrm>
            <a:off x="380880" y="684360"/>
            <a:ext cx="7991640" cy="1228680"/>
            <a:chOff x="380880" y="684360"/>
            <a:chExt cx="7991640" cy="1228680"/>
          </a:xfrm>
        </p:grpSpPr>
        <p:sp>
          <p:nvSpPr>
            <p:cNvPr id="213" name="Text Box 5"/>
            <p:cNvSpPr/>
            <p:nvPr/>
          </p:nvSpPr>
          <p:spPr>
            <a:xfrm>
              <a:off x="380880" y="684360"/>
              <a:ext cx="799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探究：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从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个不同元素中取出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2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个元素的排列数   是多少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4" name="Object 6"/>
                <p:cNvSpPr txBox="1"/>
                <p:nvPr/>
              </p:nvSpPr>
              <p:spPr>
                <a:xfrm>
                  <a:off x="914400" y="1141560"/>
                  <a:ext cx="59508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5" name="Group 7"/>
          <p:cNvGrpSpPr/>
          <p:nvPr/>
        </p:nvGrpSpPr>
        <p:grpSpPr>
          <a:xfrm>
            <a:off x="4800600" y="1141560"/>
            <a:ext cx="1693800" cy="771480"/>
            <a:chOff x="4800600" y="1141560"/>
            <a:chExt cx="1693800" cy="771480"/>
          </a:xfrm>
        </p:grpSpPr>
        <p:sp>
          <p:nvSpPr>
            <p:cNvPr id="216" name="Text Box 8"/>
            <p:cNvSpPr/>
            <p:nvPr/>
          </p:nvSpPr>
          <p:spPr>
            <a:xfrm>
              <a:off x="5413320" y="1192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呢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9"/>
                <p:cNvSpPr txBox="1"/>
                <p:nvPr/>
              </p:nvSpPr>
              <p:spPr>
                <a:xfrm>
                  <a:off x="4800600" y="1141560"/>
                  <a:ext cx="66996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8" name="Group 10"/>
          <p:cNvGrpSpPr/>
          <p:nvPr/>
        </p:nvGrpSpPr>
        <p:grpSpPr>
          <a:xfrm>
            <a:off x="3124080" y="1141560"/>
            <a:ext cx="1584360" cy="771480"/>
            <a:chOff x="3124080" y="1141560"/>
            <a:chExt cx="1584360" cy="771480"/>
          </a:xfrm>
        </p:grpSpPr>
        <p:sp>
          <p:nvSpPr>
            <p:cNvPr id="219" name="Text Box 11"/>
            <p:cNvSpPr/>
            <p:nvPr/>
          </p:nvSpPr>
          <p:spPr>
            <a:xfrm>
              <a:off x="3627360" y="119232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宋体"/>
                </a:rPr>
                <a:t>呢</a:t>
              </a: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？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0" name="Object 12"/>
                <p:cNvSpPr txBox="1"/>
                <p:nvPr/>
              </p:nvSpPr>
              <p:spPr>
                <a:xfrm>
                  <a:off x="3124080" y="1141560"/>
                  <a:ext cx="59544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3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221" name=""/>
          <p:cNvGraphicFramePr/>
          <p:nvPr/>
        </p:nvGraphicFramePr>
        <p:xfrm>
          <a:off x="1293840" y="3898800"/>
          <a:ext cx="6095880" cy="533520"/>
        </p:xfrm>
        <a:graphic>
          <a:graphicData uri="http://schemas.openxmlformats.org/drawingml/2006/table">
            <a:tbl>
              <a:tblPr/>
              <a:tblGrid>
                <a:gridCol w="1219320"/>
                <a:gridCol w="1218960"/>
                <a:gridCol w="1219320"/>
                <a:gridCol w="1219320"/>
                <a:gridCol w="12189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……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2" name="Group 27"/>
          <p:cNvGrpSpPr/>
          <p:nvPr/>
        </p:nvGrpSpPr>
        <p:grpSpPr>
          <a:xfrm>
            <a:off x="1489680" y="3441600"/>
            <a:ext cx="5695920" cy="398880"/>
            <a:chOff x="1489680" y="3441600"/>
            <a:chExt cx="5695920" cy="398880"/>
          </a:xfrm>
        </p:grpSpPr>
        <p:sp>
          <p:nvSpPr>
            <p:cNvPr id="223" name="Text Box 28"/>
            <p:cNvSpPr/>
            <p:nvPr/>
          </p:nvSpPr>
          <p:spPr>
            <a:xfrm>
              <a:off x="1489680" y="3441600"/>
              <a:ext cx="7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第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位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Text Box 29"/>
            <p:cNvSpPr/>
            <p:nvPr/>
          </p:nvSpPr>
          <p:spPr>
            <a:xfrm>
              <a:off x="2709000" y="3441600"/>
              <a:ext cx="7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第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位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Text Box 30"/>
            <p:cNvSpPr/>
            <p:nvPr/>
          </p:nvSpPr>
          <p:spPr>
            <a:xfrm>
              <a:off x="3927960" y="3441600"/>
              <a:ext cx="73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第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3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位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Text Box 31"/>
            <p:cNvSpPr/>
            <p:nvPr/>
          </p:nvSpPr>
          <p:spPr>
            <a:xfrm>
              <a:off x="6366960" y="3441600"/>
              <a:ext cx="81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第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m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位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27" name="Group 32"/>
          <p:cNvGrpSpPr/>
          <p:nvPr/>
        </p:nvGrpSpPr>
        <p:grpSpPr>
          <a:xfrm>
            <a:off x="1549440" y="4431960"/>
            <a:ext cx="3426120" cy="688680"/>
            <a:chOff x="1549440" y="4431960"/>
            <a:chExt cx="3426120" cy="688680"/>
          </a:xfrm>
        </p:grpSpPr>
        <p:grpSp>
          <p:nvGrpSpPr>
            <p:cNvPr id="228" name="Group 33"/>
            <p:cNvGrpSpPr/>
            <p:nvPr/>
          </p:nvGrpSpPr>
          <p:grpSpPr>
            <a:xfrm>
              <a:off x="1549440" y="4431960"/>
              <a:ext cx="605880" cy="688680"/>
              <a:chOff x="1549440" y="4431960"/>
              <a:chExt cx="605880" cy="688680"/>
            </a:xfrm>
          </p:grpSpPr>
          <p:sp>
            <p:nvSpPr>
              <p:cNvPr id="229" name="Text Box 34"/>
              <p:cNvSpPr/>
              <p:nvPr/>
            </p:nvSpPr>
            <p:spPr>
              <a:xfrm>
                <a:off x="1549440" y="4660920"/>
                <a:ext cx="60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n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种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0" name="Line 35"/>
              <p:cNvSpPr/>
              <p:nvPr/>
            </p:nvSpPr>
            <p:spPr>
              <a:xfrm flipV="1">
                <a:off x="1827360" y="4431960"/>
                <a:ext cx="0" cy="304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36"/>
            <p:cNvGrpSpPr/>
            <p:nvPr/>
          </p:nvGrpSpPr>
          <p:grpSpPr>
            <a:xfrm>
              <a:off x="2691720" y="4431960"/>
              <a:ext cx="1064520" cy="688680"/>
              <a:chOff x="2691720" y="4431960"/>
              <a:chExt cx="1064520" cy="688680"/>
            </a:xfrm>
          </p:grpSpPr>
          <p:sp>
            <p:nvSpPr>
              <p:cNvPr id="232" name="Text Box 37"/>
              <p:cNvSpPr/>
              <p:nvPr/>
            </p:nvSpPr>
            <p:spPr>
              <a:xfrm>
                <a:off x="2691720" y="4660920"/>
                <a:ext cx="106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(n-1)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种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3" name="Line 38"/>
              <p:cNvSpPr/>
              <p:nvPr/>
            </p:nvSpPr>
            <p:spPr>
              <a:xfrm flipV="1">
                <a:off x="3198960" y="4431960"/>
                <a:ext cx="0" cy="304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9"/>
            <p:cNvGrpSpPr/>
            <p:nvPr/>
          </p:nvGrpSpPr>
          <p:grpSpPr>
            <a:xfrm>
              <a:off x="3911040" y="4431960"/>
              <a:ext cx="1064520" cy="688680"/>
              <a:chOff x="3911040" y="4431960"/>
              <a:chExt cx="1064520" cy="688680"/>
            </a:xfrm>
          </p:grpSpPr>
          <p:sp>
            <p:nvSpPr>
              <p:cNvPr id="235" name="Text Box 40"/>
              <p:cNvSpPr/>
              <p:nvPr/>
            </p:nvSpPr>
            <p:spPr>
              <a:xfrm>
                <a:off x="3911040" y="4660920"/>
                <a:ext cx="1064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(n-2)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种</a:t>
                </a:r>
                <a:endParaRPr b="0" lang="en-US" sz="24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6" name="Line 41"/>
              <p:cNvSpPr/>
              <p:nvPr/>
            </p:nvSpPr>
            <p:spPr>
              <a:xfrm flipV="1">
                <a:off x="4341960" y="4431960"/>
                <a:ext cx="0" cy="30492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Group 42"/>
          <p:cNvGrpSpPr/>
          <p:nvPr/>
        </p:nvGrpSpPr>
        <p:grpSpPr>
          <a:xfrm>
            <a:off x="6196320" y="4431960"/>
            <a:ext cx="1492920" cy="688680"/>
            <a:chOff x="6196320" y="4431960"/>
            <a:chExt cx="1492920" cy="688680"/>
          </a:xfrm>
        </p:grpSpPr>
        <p:sp>
          <p:nvSpPr>
            <p:cNvPr id="238" name="Text Box 43"/>
            <p:cNvSpPr/>
            <p:nvPr/>
          </p:nvSpPr>
          <p:spPr>
            <a:xfrm>
              <a:off x="6196320" y="4660920"/>
              <a:ext cx="149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(n-m+1)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种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39" name="Line 44"/>
            <p:cNvSpPr/>
            <p:nvPr/>
          </p:nvSpPr>
          <p:spPr>
            <a:xfrm flipV="1">
              <a:off x="6779880" y="4431960"/>
              <a:ext cx="0" cy="30492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aphicFrame>
        <p:nvGraphicFramePr>
          <p:cNvPr id="240" name="Object 45"/>
          <p:cNvGraphicFramePr/>
          <p:nvPr/>
        </p:nvGraphicFramePr>
        <p:xfrm>
          <a:off x="608040" y="2146320"/>
          <a:ext cx="182880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146320"/>
                    <a:ext cx="1828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46"/>
          <p:cNvGraphicFramePr/>
          <p:nvPr/>
        </p:nvGraphicFramePr>
        <p:xfrm>
          <a:off x="379440" y="2679840"/>
          <a:ext cx="2895480" cy="583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440" y="2679840"/>
                    <a:ext cx="2895480" cy="58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47"/>
          <p:cNvGraphicFramePr/>
          <p:nvPr/>
        </p:nvGraphicFramePr>
        <p:xfrm>
          <a:off x="3351240" y="2146320"/>
          <a:ext cx="5562720" cy="669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4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1240" y="2146320"/>
                    <a:ext cx="55627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108000" y="189864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0" y="11336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排列数公式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Object 5"/>
              <p:cNvSpPr txBox="1"/>
              <p:nvPr/>
            </p:nvSpPr>
            <p:spPr>
              <a:xfrm>
                <a:off x="228600" y="1981080"/>
                <a:ext cx="8305920" cy="70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0" name="Text Box 6"/>
          <p:cNvSpPr/>
          <p:nvPr/>
        </p:nvSpPr>
        <p:spPr>
          <a:xfrm>
            <a:off x="533520" y="28195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当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m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＝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时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7"/>
              <p:cNvSpPr txBox="1"/>
              <p:nvPr/>
            </p:nvSpPr>
            <p:spPr>
              <a:xfrm>
                <a:off x="2362320" y="2743200"/>
                <a:ext cx="43434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52" name="Group 8"/>
          <p:cNvGrpSpPr/>
          <p:nvPr/>
        </p:nvGrpSpPr>
        <p:grpSpPr>
          <a:xfrm>
            <a:off x="228600" y="3581280"/>
            <a:ext cx="9073800" cy="520560"/>
            <a:chOff x="228600" y="3581280"/>
            <a:chExt cx="9073800" cy="520560"/>
          </a:xfrm>
        </p:grpSpPr>
        <p:sp>
          <p:nvSpPr>
            <p:cNvPr id="253" name="Text Box 9"/>
            <p:cNvSpPr/>
            <p:nvPr/>
          </p:nvSpPr>
          <p:spPr>
            <a:xfrm>
              <a:off x="228600" y="3581280"/>
              <a:ext cx="907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正整数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到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的连乘积，叫做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2800" spc="-1" strike="noStrike">
                  <a:solidFill>
                    <a:srgbClr val="007a77"/>
                  </a:solidFill>
                  <a:latin typeface="宋体"/>
                </a:rPr>
                <a:t>的阶乘，用  表示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4" name="Object 10"/>
                <p:cNvSpPr txBox="1"/>
                <p:nvPr/>
              </p:nvSpPr>
              <p:spPr>
                <a:xfrm>
                  <a:off x="6630120" y="3581280"/>
                  <a:ext cx="38736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!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5" name="Text Box 11"/>
          <p:cNvSpPr/>
          <p:nvPr/>
        </p:nvSpPr>
        <p:spPr>
          <a:xfrm>
            <a:off x="457200" y="4419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个不同元素的全排列公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Object 12"/>
              <p:cNvSpPr txBox="1"/>
              <p:nvPr/>
            </p:nvSpPr>
            <p:spPr>
              <a:xfrm>
                <a:off x="5105520" y="4343400"/>
                <a:ext cx="1143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34800" y="84132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227160" y="1312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排列数公式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5"/>
              <p:cNvSpPr txBox="1"/>
              <p:nvPr/>
            </p:nvSpPr>
            <p:spPr>
              <a:xfrm>
                <a:off x="3732120" y="1084320"/>
                <a:ext cx="19051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6"/>
          <p:cNvSpPr/>
          <p:nvPr/>
        </p:nvSpPr>
        <p:spPr>
          <a:xfrm>
            <a:off x="455760" y="22273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为了使当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＝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时上面的公式也成立，规定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7"/>
              <p:cNvSpPr txBox="1"/>
              <p:nvPr/>
            </p:nvSpPr>
            <p:spPr>
              <a:xfrm>
                <a:off x="7313760" y="2227320"/>
                <a:ext cx="96840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!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Object 8"/>
              <p:cNvSpPr txBox="1"/>
              <p:nvPr/>
            </p:nvSpPr>
            <p:spPr>
              <a:xfrm>
                <a:off x="809640" y="3035160"/>
                <a:ext cx="677052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  <m:r>
                          <m:t xml:space="preserve">⋯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⋯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⋯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9"/>
              <p:cNvSpPr txBox="1"/>
              <p:nvPr/>
            </p:nvSpPr>
            <p:spPr>
              <a:xfrm>
                <a:off x="1284120" y="3951360"/>
                <a:ext cx="52675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⋯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10"/>
              <p:cNvSpPr txBox="1"/>
              <p:nvPr/>
            </p:nvSpPr>
            <p:spPr>
              <a:xfrm>
                <a:off x="6794640" y="3951360"/>
                <a:ext cx="103644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34800" y="84132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67" name="Group 3"/>
          <p:cNvGrpSpPr/>
          <p:nvPr/>
        </p:nvGrpSpPr>
        <p:grpSpPr>
          <a:xfrm>
            <a:off x="687240" y="2133720"/>
            <a:ext cx="7977240" cy="1325520"/>
            <a:chOff x="687240" y="2133720"/>
            <a:chExt cx="7977240" cy="1325520"/>
          </a:xfrm>
        </p:grpSpPr>
        <p:sp>
          <p:nvSpPr>
            <p:cNvPr id="268" name="Text Box 4"/>
            <p:cNvSpPr/>
            <p:nvPr/>
          </p:nvSpPr>
          <p:spPr>
            <a:xfrm>
              <a:off x="687240" y="2567160"/>
              <a:ext cx="797724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变式</a:t>
              </a: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1</a:t>
              </a: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：</a:t>
              </a: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计算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69" name="Object 5"/>
            <p:cNvGraphicFramePr/>
            <p:nvPr/>
          </p:nvGraphicFramePr>
          <p:xfrm>
            <a:off x="3149280" y="2133720"/>
            <a:ext cx="1731960" cy="1325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149280" y="2133720"/>
                      <a:ext cx="1731960" cy="132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1" name="Text Box 6"/>
          <p:cNvSpPr/>
          <p:nvPr/>
        </p:nvSpPr>
        <p:spPr>
          <a:xfrm>
            <a:off x="968040" y="609480"/>
            <a:ext cx="16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练习：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计算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Object 7"/>
              <p:cNvSpPr txBox="1"/>
              <p:nvPr/>
            </p:nvSpPr>
            <p:spPr>
              <a:xfrm>
                <a:off x="685800" y="1371600"/>
                <a:ext cx="38624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    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</m:e>
                    </m:d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6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73" name="Text Box 8"/>
          <p:cNvSpPr/>
          <p:nvPr/>
        </p:nvSpPr>
        <p:spPr>
          <a:xfrm>
            <a:off x="5257800" y="609480"/>
            <a:ext cx="431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华文新魏"/>
              </a:rPr>
              <a:t>几个常见阶层数值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74" name="Group 9"/>
          <p:cNvGrpSpPr/>
          <p:nvPr/>
        </p:nvGrpSpPr>
        <p:grpSpPr>
          <a:xfrm>
            <a:off x="533520" y="4267080"/>
            <a:ext cx="7977240" cy="1230120"/>
            <a:chOff x="533520" y="4267080"/>
            <a:chExt cx="7977240" cy="1230120"/>
          </a:xfrm>
        </p:grpSpPr>
        <p:sp>
          <p:nvSpPr>
            <p:cNvPr id="275" name="Text Box 10"/>
            <p:cNvSpPr/>
            <p:nvPr/>
          </p:nvSpPr>
          <p:spPr>
            <a:xfrm>
              <a:off x="533520" y="4267080"/>
              <a:ext cx="7977240" cy="12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变式</a:t>
              </a: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2</a:t>
              </a: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：</a:t>
              </a: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用排列数表示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76" name="Object 11"/>
            <p:cNvGraphicFramePr/>
            <p:nvPr/>
          </p:nvGraphicFramePr>
          <p:xfrm>
            <a:off x="600120" y="4824360"/>
            <a:ext cx="7491600" cy="660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7" name="Object 1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00120" y="4824360"/>
                      <a:ext cx="7491600" cy="660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2"/>
          <p:cNvGraphicFramePr/>
          <p:nvPr/>
        </p:nvGraphicFramePr>
        <p:xfrm>
          <a:off x="533520" y="5486400"/>
          <a:ext cx="475272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5486400"/>
                    <a:ext cx="47527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13"/>
          <p:cNvGraphicFramePr/>
          <p:nvPr/>
        </p:nvGraphicFramePr>
        <p:xfrm>
          <a:off x="6553080" y="1447920"/>
          <a:ext cx="1257480" cy="284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553080" y="1447920"/>
                    <a:ext cx="1257480" cy="28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34800" y="84132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236600" y="69228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求证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4"/>
              <p:cNvSpPr txBox="1"/>
              <p:nvPr/>
            </p:nvSpPr>
            <p:spPr>
              <a:xfrm>
                <a:off x="2432160" y="692280"/>
                <a:ext cx="327960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Object 5"/>
              <p:cNvSpPr txBox="1"/>
              <p:nvPr/>
            </p:nvSpPr>
            <p:spPr>
              <a:xfrm>
                <a:off x="620640" y="1392120"/>
                <a:ext cx="6715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Object 6"/>
              <p:cNvSpPr txBox="1"/>
              <p:nvPr/>
            </p:nvSpPr>
            <p:spPr>
              <a:xfrm>
                <a:off x="2752560" y="2757600"/>
                <a:ext cx="458316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!</m:t>
                        </m:r>
                      </m:num>
                      <m:den>
                        <m:r>
                          <m:t xml:space="preserve">（</m:t>
                        </m:r>
                        <m:r>
                          <m:rPr>
                            <m:lit/>
                            <m:nor/>
                          </m:rPr>
                          <m:t xml:space="preserve">n-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）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7"/>
              <p:cNvSpPr txBox="1"/>
              <p:nvPr/>
            </p:nvSpPr>
            <p:spPr>
              <a:xfrm>
                <a:off x="2736720" y="4243320"/>
                <a:ext cx="259740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！</m:t>
                        </m:r>
                      </m:num>
                      <m:den>
                        <m:r>
                          <m:t xml:space="preserve">（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-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8"/>
              <p:cNvSpPr txBox="1"/>
              <p:nvPr/>
            </p:nvSpPr>
            <p:spPr>
              <a:xfrm>
                <a:off x="5894280" y="4521240"/>
                <a:ext cx="16956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289" name="Rectangle 9"/>
          <p:cNvSpPr/>
          <p:nvPr/>
        </p:nvSpPr>
        <p:spPr>
          <a:xfrm>
            <a:off x="475920" y="6922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例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黑体"/>
              </a:rPr>
              <a:t>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334800" y="84132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2666880" y="762120"/>
            <a:ext cx="3851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课堂小结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80880" y="1676520"/>
            <a:ext cx="84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列、排列数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Text Box 6"/>
          <p:cNvSpPr/>
          <p:nvPr/>
        </p:nvSpPr>
        <p:spPr>
          <a:xfrm>
            <a:off x="380880" y="3429000"/>
            <a:ext cx="76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列数公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6"/>
              <p:cNvSpPr txBox="1"/>
              <p:nvPr/>
            </p:nvSpPr>
            <p:spPr>
              <a:xfrm>
                <a:off x="609480" y="2362320"/>
                <a:ext cx="83059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⋯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*,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Object 7"/>
              <p:cNvSpPr txBox="1"/>
              <p:nvPr/>
            </p:nvSpPr>
            <p:spPr>
              <a:xfrm>
                <a:off x="3124080" y="3352680"/>
                <a:ext cx="190512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34800" y="84132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362320" y="2057400"/>
            <a:ext cx="3851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布置作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26280" y="68580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复习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080160" y="838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两个基本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025360" y="15415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分类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计数原理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类类独立，不重不漏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642960" y="2573280"/>
            <a:ext cx="81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分步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计数原理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步步相依，步骤完整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228600" y="3809880"/>
            <a:ext cx="82296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问：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用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......8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，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可组成多少个无重复数字的六位数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685800" y="510552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步骤繁多，如何简化？——排列问题公式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8012160" y="259092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乘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012160" y="1523880"/>
            <a:ext cx="66852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加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22860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8600" y="608040"/>
            <a:ext cx="851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问题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: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北京、上海、广州三个 民航站之间的直达航线， 需要准备多少种不同的飞机票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7986600" y="1676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终点站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98" name="Group 6"/>
          <p:cNvGrpSpPr/>
          <p:nvPr/>
        </p:nvGrpSpPr>
        <p:grpSpPr>
          <a:xfrm>
            <a:off x="5347080" y="1752480"/>
            <a:ext cx="820800" cy="3732120"/>
            <a:chOff x="5347080" y="1752480"/>
            <a:chExt cx="820800" cy="3732120"/>
          </a:xfrm>
        </p:grpSpPr>
        <p:sp>
          <p:nvSpPr>
            <p:cNvPr id="99" name="Text Box 7"/>
            <p:cNvSpPr/>
            <p:nvPr/>
          </p:nvSpPr>
          <p:spPr>
            <a:xfrm>
              <a:off x="5347080" y="17524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起点站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0" name="Text Box 8"/>
            <p:cNvSpPr/>
            <p:nvPr/>
          </p:nvSpPr>
          <p:spPr>
            <a:xfrm>
              <a:off x="5425560" y="27208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北京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1" name="Text Box 9"/>
            <p:cNvSpPr/>
            <p:nvPr/>
          </p:nvSpPr>
          <p:spPr>
            <a:xfrm>
              <a:off x="5425560" y="3841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上海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2" name="Text Box 10"/>
            <p:cNvSpPr/>
            <p:nvPr/>
          </p:nvSpPr>
          <p:spPr>
            <a:xfrm>
              <a:off x="5425560" y="4964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广州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6302520" y="2327400"/>
            <a:ext cx="2287440" cy="1149840"/>
            <a:chOff x="6302520" y="2327400"/>
            <a:chExt cx="2287440" cy="1149840"/>
          </a:xfrm>
        </p:grpSpPr>
        <p:sp>
          <p:nvSpPr>
            <p:cNvPr id="104" name="Text Box 12"/>
            <p:cNvSpPr/>
            <p:nvPr/>
          </p:nvSpPr>
          <p:spPr>
            <a:xfrm>
              <a:off x="7952040" y="2327400"/>
              <a:ext cx="63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上</a:t>
              </a: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海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05" name="Text Box 13"/>
            <p:cNvSpPr/>
            <p:nvPr/>
          </p:nvSpPr>
          <p:spPr>
            <a:xfrm>
              <a:off x="7952040" y="2895840"/>
              <a:ext cx="63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广</a:t>
              </a:r>
              <a:r>
                <a:rPr b="0" lang="zh-CN" sz="32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州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06" name="AutoShape 14"/>
            <p:cNvCxnSpPr>
              <a:stCxn id="100" idx="3"/>
              <a:endCxn id="104" idx="1"/>
            </p:cNvCxnSpPr>
            <p:nvPr/>
          </p:nvCxnSpPr>
          <p:spPr>
            <a:xfrm flipV="1">
              <a:off x="6302520" y="2617560"/>
              <a:ext cx="1674000" cy="357840"/>
            </a:xfrm>
            <a:prstGeom prst="straightConnector1">
              <a:avLst/>
            </a:prstGeom>
            <a:ln w="28440">
              <a:solidFill>
                <a:srgbClr val="3366ff"/>
              </a:solidFill>
              <a:miter/>
            </a:ln>
          </p:spPr>
        </p:cxnSp>
        <p:cxnSp>
          <p:nvCxnSpPr>
            <p:cNvPr id="107" name="AutoShape 15"/>
            <p:cNvCxnSpPr>
              <a:stCxn id="100" idx="3"/>
              <a:endCxn id="105" idx="1"/>
            </p:cNvCxnSpPr>
            <p:nvPr/>
          </p:nvCxnSpPr>
          <p:spPr>
            <a:xfrm>
              <a:off x="6302520" y="2974680"/>
              <a:ext cx="1674000" cy="212040"/>
            </a:xfrm>
            <a:prstGeom prst="straightConnector1">
              <a:avLst/>
            </a:prstGeom>
            <a:ln w="28440">
              <a:solidFill>
                <a:srgbClr val="3366ff"/>
              </a:solidFill>
              <a:miter/>
            </a:ln>
          </p:spPr>
        </p:cxnSp>
      </p:grpSp>
      <p:grpSp>
        <p:nvGrpSpPr>
          <p:cNvPr id="108" name="Group 16"/>
          <p:cNvGrpSpPr/>
          <p:nvPr/>
        </p:nvGrpSpPr>
        <p:grpSpPr>
          <a:xfrm>
            <a:off x="6302520" y="3463920"/>
            <a:ext cx="2271960" cy="1087200"/>
            <a:chOff x="6302520" y="3463920"/>
            <a:chExt cx="2271960" cy="1087200"/>
          </a:xfrm>
        </p:grpSpPr>
        <p:sp>
          <p:nvSpPr>
            <p:cNvPr id="109" name="Text Box 17"/>
            <p:cNvSpPr/>
            <p:nvPr/>
          </p:nvSpPr>
          <p:spPr>
            <a:xfrm>
              <a:off x="7967160" y="3463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北京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0" name="Text Box 18"/>
            <p:cNvSpPr/>
            <p:nvPr/>
          </p:nvSpPr>
          <p:spPr>
            <a:xfrm>
              <a:off x="7967160" y="4030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广州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11" name="AutoShape 19"/>
            <p:cNvCxnSpPr>
              <a:stCxn id="101" idx="3"/>
              <a:endCxn id="109" idx="1"/>
            </p:cNvCxnSpPr>
            <p:nvPr/>
          </p:nvCxnSpPr>
          <p:spPr>
            <a:xfrm flipV="1">
              <a:off x="6302520" y="3754080"/>
              <a:ext cx="1674000" cy="342000"/>
            </a:xfrm>
            <a:prstGeom prst="straightConnector1">
              <a:avLst/>
            </a:prstGeom>
            <a:ln w="28440">
              <a:solidFill>
                <a:srgbClr val="3366ff"/>
              </a:solidFill>
              <a:miter/>
            </a:ln>
          </p:spPr>
        </p:cxnSp>
        <p:cxnSp>
          <p:nvCxnSpPr>
            <p:cNvPr id="112" name="AutoShape 20"/>
            <p:cNvCxnSpPr>
              <a:stCxn id="101" idx="3"/>
              <a:endCxn id="110" idx="1"/>
            </p:cNvCxnSpPr>
            <p:nvPr/>
          </p:nvCxnSpPr>
          <p:spPr>
            <a:xfrm>
              <a:off x="6302520" y="4095720"/>
              <a:ext cx="1674000" cy="226080"/>
            </a:xfrm>
            <a:prstGeom prst="straightConnector1">
              <a:avLst/>
            </a:prstGeom>
            <a:ln w="28440">
              <a:solidFill>
                <a:srgbClr val="3366ff"/>
              </a:solidFill>
              <a:miter/>
            </a:ln>
          </p:spPr>
        </p:cxnSp>
      </p:grpSp>
      <p:grpSp>
        <p:nvGrpSpPr>
          <p:cNvPr id="113" name="Group 21"/>
          <p:cNvGrpSpPr/>
          <p:nvPr/>
        </p:nvGrpSpPr>
        <p:grpSpPr>
          <a:xfrm>
            <a:off x="6302520" y="4599000"/>
            <a:ext cx="2271960" cy="1087200"/>
            <a:chOff x="6302520" y="4599000"/>
            <a:chExt cx="2271960" cy="1087200"/>
          </a:xfrm>
        </p:grpSpPr>
        <p:sp>
          <p:nvSpPr>
            <p:cNvPr id="114" name="Text Box 22"/>
            <p:cNvSpPr/>
            <p:nvPr/>
          </p:nvSpPr>
          <p:spPr>
            <a:xfrm>
              <a:off x="7967160" y="51656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上海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15" name="Text Box 23"/>
            <p:cNvSpPr/>
            <p:nvPr/>
          </p:nvSpPr>
          <p:spPr>
            <a:xfrm>
              <a:off x="7967160" y="45990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7a77"/>
                  </a:solidFill>
                  <a:latin typeface="Times New Roman"/>
                  <a:ea typeface="黑体"/>
                </a:rPr>
                <a:t>北京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cxnSp>
          <p:nvCxnSpPr>
            <p:cNvPr id="116" name="AutoShape 24"/>
            <p:cNvCxnSpPr>
              <a:stCxn id="102" idx="3"/>
              <a:endCxn id="115" idx="1"/>
            </p:cNvCxnSpPr>
            <p:nvPr/>
          </p:nvCxnSpPr>
          <p:spPr>
            <a:xfrm flipV="1">
              <a:off x="6302520" y="4889160"/>
              <a:ext cx="1674000" cy="329040"/>
            </a:xfrm>
            <a:prstGeom prst="straightConnector1">
              <a:avLst/>
            </a:prstGeom>
            <a:ln w="28440">
              <a:solidFill>
                <a:srgbClr val="3366ff"/>
              </a:solidFill>
              <a:miter/>
            </a:ln>
          </p:spPr>
        </p:cxnSp>
        <p:cxnSp>
          <p:nvCxnSpPr>
            <p:cNvPr id="117" name="AutoShape 25"/>
            <p:cNvCxnSpPr>
              <a:stCxn id="102" idx="3"/>
              <a:endCxn id="114" idx="1"/>
            </p:cNvCxnSpPr>
            <p:nvPr/>
          </p:nvCxnSpPr>
          <p:spPr>
            <a:xfrm>
              <a:off x="6302520" y="5217840"/>
              <a:ext cx="1674000" cy="238680"/>
            </a:xfrm>
            <a:prstGeom prst="straightConnector1">
              <a:avLst/>
            </a:prstGeom>
            <a:ln w="28440">
              <a:solidFill>
                <a:srgbClr val="3366ff"/>
              </a:solidFill>
              <a:miter/>
            </a:ln>
          </p:spPr>
        </p:cxnSp>
      </p:grpSp>
      <p:sp>
        <p:nvSpPr>
          <p:cNvPr id="118" name="Text Box 26"/>
          <p:cNvSpPr/>
          <p:nvPr/>
        </p:nvSpPr>
        <p:spPr>
          <a:xfrm>
            <a:off x="152280" y="1676520"/>
            <a:ext cx="29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分两步完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230040" y="2286000"/>
            <a:ext cx="533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步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: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确定起点站，在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个民航站中任选一个，有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种方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1160640" indent="-11606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第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步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: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确定确定终点站，当选定起点站后，终点站就只能从其余两个站中去选择，因此只有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黑体"/>
              </a:rPr>
              <a:t>种选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28"/>
          <p:cNvSpPr/>
          <p:nvPr/>
        </p:nvSpPr>
        <p:spPr>
          <a:xfrm>
            <a:off x="1339560" y="5029200"/>
            <a:ext cx="209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=3×2=6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29"/>
          <p:cNvSpPr/>
          <p:nvPr/>
        </p:nvSpPr>
        <p:spPr>
          <a:xfrm>
            <a:off x="1561320" y="5791320"/>
            <a:ext cx="1887480" cy="581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对象排列有先后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845280" y="91764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元素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  被取的对象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62080" y="2347920"/>
            <a:ext cx="866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从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个不同的元素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a,b,c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中任取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个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然后按照一定的顺序排成一列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,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一共有多少种不同的排列方法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120760" y="3552840"/>
            <a:ext cx="54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ab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  </a:t>
            </a:r>
            <a:r>
              <a:rPr b="0" i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ac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  </a:t>
            </a:r>
            <a:r>
              <a:rPr b="0" i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ba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   </a:t>
            </a:r>
            <a:r>
              <a:rPr b="0" i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bc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   </a:t>
            </a:r>
            <a:r>
              <a:rPr b="0" i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ca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,  </a:t>
            </a:r>
            <a:r>
              <a:rPr b="0" i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cb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857880" y="4653000"/>
            <a:ext cx="252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共有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×2=6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种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37920" y="1619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问题转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425520" y="1181160"/>
            <a:ext cx="8612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般地，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不同的元素中取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m(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m≤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元素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按照一定的顺序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排成一列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叫做从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不同元素中取出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个元素的一个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排列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arrangement)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47840" y="5214960"/>
            <a:ext cx="858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新魏"/>
              </a:rPr>
              <a:t>注意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新魏"/>
              </a:rPr>
              <a:t>、</a:t>
            </a:r>
            <a:r>
              <a:rPr b="1" lang="zh-CN" sz="2800" spc="-1" strike="noStrike">
                <a:solidFill>
                  <a:srgbClr val="007a77"/>
                </a:solidFill>
                <a:latin typeface="华文行楷"/>
                <a:ea typeface="华文新魏"/>
              </a:rPr>
              <a:t>当两个排列的元素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新魏"/>
              </a:rPr>
              <a:t>完全相同</a:t>
            </a:r>
            <a:r>
              <a:rPr b="1" lang="zh-CN" sz="2800" spc="-1" strike="noStrike">
                <a:solidFill>
                  <a:srgbClr val="007a77"/>
                </a:solidFill>
                <a:latin typeface="华文行楷"/>
                <a:ea typeface="华文新魏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华文行楷"/>
                <a:ea typeface="华文新魏"/>
              </a:rPr>
              <a:t>且元素的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新魏"/>
              </a:rPr>
              <a:t>排列顺序相同</a:t>
            </a:r>
            <a:r>
              <a:rPr b="1" lang="zh-CN" sz="2800" spc="-1" strike="noStrike">
                <a:solidFill>
                  <a:srgbClr val="007a77"/>
                </a:solidFill>
                <a:latin typeface="华文行楷"/>
                <a:ea typeface="华文新魏"/>
              </a:rPr>
              <a:t>称两个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华文新魏"/>
              </a:rPr>
              <a:t>排列相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3048120" y="-71280"/>
            <a:ext cx="2286000" cy="642600"/>
          </a:xfrm>
          <a:prstGeom prst="rect">
            <a:avLst/>
          </a:prstGeom>
          <a:gradFill rotWithShape="0">
            <a:gsLst>
              <a:gs pos="0">
                <a:srgbClr val="ebf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基本概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47840" y="280512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按一定顺序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就是与位置有关，这是判断一个问题是否是排列问题的关键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425520" y="376884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m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时的排列叫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选排列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，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m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时的排列叫</a:t>
            </a:r>
            <a:r>
              <a:rPr b="1" lang="zh-CN" sz="2400" spc="-1" strike="noStrike">
                <a:solidFill>
                  <a:srgbClr val="0033cc"/>
                </a:solidFill>
                <a:latin typeface="华文新魏"/>
                <a:ea typeface="华文新魏"/>
              </a:rPr>
              <a:t>全排列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47840" y="43927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注意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为了使写出的所有排列情况既不重复也不遗漏，可以采用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新魏"/>
              </a:rPr>
              <a:t>“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树形图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425520" y="5652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排列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28600" y="152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例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下列问题中哪些是排列问题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7318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名学生中抽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名学生开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0" y="12477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名学生中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名做正、副组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0" y="17668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,3,5,7,1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任取两个数相乘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0" y="228600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从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2,3,5,7,1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中任取两个数相除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0" y="280512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位同学互通一次电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0" y="32623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位同学互通一封信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0" y="38098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以圆上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点为端点作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0" y="44956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）以圆上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个点中的某一点为起点，作过另一个点的射线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51274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车站，共需要多少种车票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14"/>
          <p:cNvSpPr/>
          <p:nvPr/>
        </p:nvSpPr>
        <p:spPr>
          <a:xfrm>
            <a:off x="0" y="572148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）有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7a77"/>
                </a:solidFill>
                <a:latin typeface="宋体"/>
              </a:rPr>
              <a:t>个车站，共需要多少种不同的票价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06360" y="609480"/>
            <a:ext cx="845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问题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2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从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名女运动员中选出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人参加接力赛，并排好出场的先后次序，问有多少种参赛方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04920" y="16765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是在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名女运动员中任选一名运动员首先出场，从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人中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名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选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是确定第二个出场的运动员，因为第一个出场运动员已经确定，并且她不能再次出场，所以第二个出场的运动员只能从余下的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名女运动员中选出，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选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是从剩余的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名女运动员中任选一名第三个出场，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选择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是从剩余的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名女运动员中任选一名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出场，有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选择方法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Picture 6" descr="QQ图片20140225135205"/>
          <p:cNvPicPr/>
          <p:nvPr/>
        </p:nvPicPr>
        <p:blipFill>
          <a:blip r:embed="rId1"/>
          <a:stretch/>
        </p:blipFill>
        <p:spPr>
          <a:xfrm>
            <a:off x="2133720" y="5105520"/>
            <a:ext cx="468792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3808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30492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排列数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80880" y="884160"/>
            <a:ext cx="8280360" cy="1685880"/>
            <a:chOff x="380880" y="884160"/>
            <a:chExt cx="8280360" cy="1685880"/>
          </a:xfrm>
        </p:grpSpPr>
        <p:sp>
          <p:nvSpPr>
            <p:cNvPr id="160" name="Text Box 6"/>
            <p:cNvSpPr/>
            <p:nvPr/>
          </p:nvSpPr>
          <p:spPr>
            <a:xfrm>
              <a:off x="380880" y="884160"/>
              <a:ext cx="8280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    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从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个不同的元素中取出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m(m≤n)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个元素的所有排列的个数，叫做从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n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个不同的元素中取出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m</a:t>
              </a:r>
              <a:r>
                <a:rPr b="1" lang="zh-CN" sz="3200" spc="-1" strike="noStrike">
                  <a:solidFill>
                    <a:srgbClr val="007a77"/>
                  </a:solidFill>
                  <a:latin typeface="宋体"/>
                </a:rPr>
                <a:t>个元素的排列数。用符号   表示。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7"/>
                <p:cNvSpPr txBox="1"/>
                <p:nvPr/>
              </p:nvSpPr>
              <p:spPr>
                <a:xfrm>
                  <a:off x="6019560" y="1798560"/>
                  <a:ext cx="669960" cy="77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" name="Text Box 8"/>
          <p:cNvSpPr/>
          <p:nvPr/>
        </p:nvSpPr>
        <p:spPr>
          <a:xfrm>
            <a:off x="685800" y="251460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排列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排列数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有什么区别和联系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3" name="Group 9"/>
          <p:cNvGrpSpPr/>
          <p:nvPr/>
        </p:nvGrpSpPr>
        <p:grpSpPr>
          <a:xfrm>
            <a:off x="680400" y="4572720"/>
            <a:ext cx="8092800" cy="1587240"/>
            <a:chOff x="680400" y="4572720"/>
            <a:chExt cx="8092800" cy="1587240"/>
          </a:xfrm>
        </p:grpSpPr>
        <p:sp>
          <p:nvSpPr>
            <p:cNvPr id="164" name="Rectangle 10"/>
            <p:cNvSpPr/>
            <p:nvPr/>
          </p:nvSpPr>
          <p:spPr>
            <a:xfrm>
              <a:off x="3673440" y="5639400"/>
              <a:ext cx="35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不同的排列种数，而不表示具体的排列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65" name="Group 11"/>
            <p:cNvGrpSpPr/>
            <p:nvPr/>
          </p:nvGrpSpPr>
          <p:grpSpPr>
            <a:xfrm>
              <a:off x="680400" y="4572720"/>
              <a:ext cx="8092800" cy="1067400"/>
              <a:chOff x="680400" y="4572720"/>
              <a:chExt cx="8092800" cy="1067400"/>
            </a:xfrm>
          </p:grpSpPr>
          <p:grpSp>
            <p:nvGrpSpPr>
              <p:cNvPr id="166" name="Group 12"/>
              <p:cNvGrpSpPr/>
              <p:nvPr/>
            </p:nvGrpSpPr>
            <p:grpSpPr>
              <a:xfrm>
                <a:off x="680400" y="4572720"/>
                <a:ext cx="7857720" cy="977760"/>
                <a:chOff x="680400" y="4572720"/>
                <a:chExt cx="7857720" cy="977760"/>
              </a:xfrm>
            </p:grpSpPr>
            <p:sp>
              <p:nvSpPr>
                <p:cNvPr id="167" name="Rectangle 13"/>
                <p:cNvSpPr/>
                <p:nvPr/>
              </p:nvSpPr>
              <p:spPr>
                <a:xfrm>
                  <a:off x="2689920" y="5029920"/>
                  <a:ext cx="535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所有排列的个数，是一个数；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168" name="Group 14"/>
                <p:cNvGrpSpPr/>
                <p:nvPr/>
              </p:nvGrpSpPr>
              <p:grpSpPr>
                <a:xfrm>
                  <a:off x="680400" y="4572720"/>
                  <a:ext cx="7857720" cy="534240"/>
                  <a:chOff x="680400" y="4572720"/>
                  <a:chExt cx="7857720" cy="534240"/>
                </a:xfrm>
              </p:grpSpPr>
              <p:grpSp>
                <p:nvGrpSpPr>
                  <p:cNvPr id="169" name="Group 15"/>
                  <p:cNvGrpSpPr/>
                  <p:nvPr/>
                </p:nvGrpSpPr>
                <p:grpSpPr>
                  <a:xfrm>
                    <a:off x="680400" y="4572720"/>
                    <a:ext cx="6645240" cy="534240"/>
                    <a:chOff x="680400" y="4572720"/>
                    <a:chExt cx="6645240" cy="534240"/>
                  </a:xfrm>
                </p:grpSpPr>
                <p:graphicFrame>
                  <p:nvGraphicFramePr>
                    <p:cNvPr id="170" name="Object 16"/>
                    <p:cNvGraphicFramePr/>
                    <p:nvPr/>
                  </p:nvGraphicFramePr>
                  <p:xfrm>
                    <a:off x="6792480" y="4649760"/>
                    <a:ext cx="533160" cy="450720"/>
                  </p:xfrm>
                  <a:graphic>
                    <a:graphicData uri="http://schemas.openxmlformats.org/presentationml/2006/ole">
                      <p:oleObj r:id="rId1" spid="">
                        <p:embed/>
                        <p:pic>
                          <p:nvPicPr>
                            <p:cNvPr id="171" name="Object 16" descr=""/>
                            <p:cNvPicPr/>
                            <p:nvPr/>
                          </p:nvPicPr>
                          <p:blipFill>
                            <a:blip r:embed="rId2"/>
                            <a:stretch/>
                          </p:blipFill>
                          <p:spPr>
                            <a:xfrm>
                              <a:off x="6792480" y="4649760"/>
                              <a:ext cx="533160" cy="450720"/>
                            </a:xfrm>
                            <a:prstGeom prst="rect">
                              <a:avLst/>
                            </a:prstGeom>
                            <a:ln w="0">
                              <a:noFill/>
                            </a:ln>
                          </p:spPr>
                        </p:pic>
                      </p:oleObj>
                    </a:graphicData>
                  </a:graphic>
                </p:graphicFrame>
                <p:grpSp>
                  <p:nvGrpSpPr>
                    <p:cNvPr id="172" name="Group 17"/>
                    <p:cNvGrpSpPr/>
                    <p:nvPr/>
                  </p:nvGrpSpPr>
                  <p:grpSpPr>
                    <a:xfrm>
                      <a:off x="680400" y="4572720"/>
                      <a:ext cx="5637960" cy="534240"/>
                      <a:chOff x="680400" y="4572720"/>
                      <a:chExt cx="5637960" cy="534240"/>
                    </a:xfrm>
                  </p:grpSpPr>
                  <p:grpSp>
                    <p:nvGrpSpPr>
                      <p:cNvPr id="173" name="Group 18"/>
                      <p:cNvGrpSpPr/>
                      <p:nvPr/>
                    </p:nvGrpSpPr>
                    <p:grpSpPr>
                      <a:xfrm>
                        <a:off x="680400" y="4572720"/>
                        <a:ext cx="2895480" cy="534240"/>
                        <a:chOff x="680400" y="4572720"/>
                        <a:chExt cx="2895480" cy="534240"/>
                      </a:xfrm>
                    </p:grpSpPr>
                    <p:graphicFrame>
                      <p:nvGraphicFramePr>
                        <p:cNvPr id="174" name="Object 19"/>
                        <p:cNvGraphicFramePr/>
                        <p:nvPr/>
                      </p:nvGraphicFramePr>
                      <p:xfrm>
                        <a:off x="3144600" y="4649760"/>
                        <a:ext cx="431280" cy="457200"/>
                      </p:xfrm>
                      <a:graphic>
                        <a:graphicData uri="http://schemas.openxmlformats.org/presentationml/2006/ole">
                          <p:oleObj r:id="rId3" spid="">
                            <p:embed/>
                            <p:pic>
                              <p:nvPicPr>
                                <p:cNvPr id="175" name="Object 19" descr=""/>
                                <p:cNvPicPr/>
                                <p:nvPr/>
                              </p:nvPicPr>
                              <p:blipFill>
                                <a:blip r:embed="rId4"/>
                                <a:stretch/>
                              </p:blipFill>
                              <p:spPr>
                                <a:xfrm>
                                  <a:off x="3144600" y="4649760"/>
                                  <a:ext cx="431280" cy="4572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oleObj>
                        </a:graphicData>
                      </a:graphic>
                    </p:graphicFrame>
                    <p:sp>
                      <p:nvSpPr>
                        <p:cNvPr id="176" name="Rectangle 20"/>
                        <p:cNvSpPr/>
                        <p:nvPr/>
                      </p:nvSpPr>
                      <p:spPr>
                        <a:xfrm>
                          <a:off x="680400" y="4572720"/>
                          <a:ext cx="2257920" cy="520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</a:rPr>
                            <a:t>“</a:t>
                          </a:r>
                          <a:r>
                            <a:rPr b="1" lang="zh-CN" sz="2800" spc="-1" strike="noStrike">
                              <a:solidFill>
                                <a:srgbClr val="ff0000"/>
                              </a:solidFill>
                              <a:latin typeface="宋体"/>
                              <a:ea typeface="Times New Roman"/>
                            </a:rPr>
                            <a:t>排列数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Times New Roman"/>
                            </a:rPr>
                            <a:t>”</a:t>
                          </a:r>
                          <a:r>
                            <a:rPr b="1" lang="zh-CN" sz="2800" spc="-1" strike="noStrike">
                              <a:solidFill>
                                <a:srgbClr val="000000"/>
                              </a:solidFill>
                              <a:latin typeface="宋体"/>
                              <a:ea typeface="Times New Roman"/>
                            </a:rPr>
                            <a:t>是指从</a:t>
                          </a:r>
                          <a:endParaRPr b="0" lang="en-US" sz="2800" spc="-1" strike="noStrike">
                            <a:solidFill>
                              <a:srgbClr val="007a77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77" name="Rectangle 21"/>
                      <p:cNvSpPr/>
                      <p:nvPr/>
                    </p:nvSpPr>
                    <p:spPr>
                      <a:xfrm>
                        <a:off x="3655080" y="4572720"/>
                        <a:ext cx="2663280" cy="5205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800" spc="-1" strike="noStrike">
                            <a:solidFill>
                              <a:srgbClr val="000000"/>
                            </a:solidFill>
                            <a:latin typeface="宋体"/>
                            <a:ea typeface="Times New Roman"/>
                          </a:rPr>
                          <a:t>个不同元素中，任取</a:t>
                        </a:r>
                        <a:endParaRPr b="0" lang="en-US" sz="2800" spc="-1" strike="noStrike">
                          <a:solidFill>
                            <a:srgbClr val="007a77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78" name="Rectangle 22"/>
                  <p:cNvSpPr/>
                  <p:nvPr/>
                </p:nvSpPr>
                <p:spPr>
                  <a:xfrm>
                    <a:off x="7503840" y="4573440"/>
                    <a:ext cx="10342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Arial"/>
                      </a:rPr>
                      <a:t>个元素的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" name="Group 23"/>
              <p:cNvGrpSpPr/>
              <p:nvPr/>
            </p:nvGrpSpPr>
            <p:grpSpPr>
              <a:xfrm>
                <a:off x="5280480" y="5029920"/>
                <a:ext cx="3492720" cy="610200"/>
                <a:chOff x="5280480" y="5029920"/>
                <a:chExt cx="3492720" cy="610200"/>
              </a:xfrm>
            </p:grpSpPr>
            <p:grpSp>
              <p:nvGrpSpPr>
                <p:cNvPr id="180" name="Group 24"/>
                <p:cNvGrpSpPr/>
                <p:nvPr/>
              </p:nvGrpSpPr>
              <p:grpSpPr>
                <a:xfrm>
                  <a:off x="5280480" y="5029920"/>
                  <a:ext cx="2057760" cy="610200"/>
                  <a:chOff x="5280480" y="5029920"/>
                  <a:chExt cx="2057760" cy="610200"/>
                </a:xfrm>
              </p:grpSpPr>
              <p:graphicFrame>
                <p:nvGraphicFramePr>
                  <p:cNvPr id="181" name="Object 25"/>
                  <p:cNvGraphicFramePr/>
                  <p:nvPr/>
                </p:nvGraphicFramePr>
                <p:xfrm>
                  <a:off x="6792480" y="5030640"/>
                  <a:ext cx="545760" cy="609480"/>
                </p:xfrm>
                <a:graphic>
                  <a:graphicData uri="http://schemas.openxmlformats.org/presentationml/2006/ole">
                    <p:oleObj r:id="rId5" spid="">
                      <p:embed/>
                      <p:pic>
                        <p:nvPicPr>
                          <p:cNvPr id="182" name="Object 25" descr=""/>
                          <p:cNvPicPr/>
                          <p:nvPr/>
                        </p:nvPicPr>
                        <p:blipFill>
                          <a:blip r:embed="rId6"/>
                          <a:stretch/>
                        </p:blipFill>
                        <p:spPr>
                          <a:xfrm>
                            <a:off x="6792480" y="5030640"/>
                            <a:ext cx="545760" cy="6094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183" name="Rectangle 26"/>
                  <p:cNvSpPr/>
                  <p:nvPr/>
                </p:nvSpPr>
                <p:spPr>
                  <a:xfrm>
                    <a:off x="5280480" y="5029920"/>
                    <a:ext cx="12841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000000"/>
                        </a:solidFill>
                        <a:latin typeface="宋体"/>
                        <a:ea typeface="Times New Roman"/>
                      </a:rPr>
                      <a:t>所以符号</a:t>
                    </a:r>
                    <a:endParaRPr b="0" lang="en-US" sz="2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4" name="Rectangle 27"/>
                <p:cNvSpPr/>
                <p:nvPr/>
              </p:nvSpPr>
              <p:spPr>
                <a:xfrm>
                  <a:off x="7325640" y="5056200"/>
                  <a:ext cx="14475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只表示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" name="Group 28"/>
          <p:cNvGrpSpPr/>
          <p:nvPr/>
        </p:nvGrpSpPr>
        <p:grpSpPr>
          <a:xfrm>
            <a:off x="475920" y="3277440"/>
            <a:ext cx="8236080" cy="1057680"/>
            <a:chOff x="475920" y="3277440"/>
            <a:chExt cx="8236080" cy="1057680"/>
          </a:xfrm>
        </p:grpSpPr>
        <p:graphicFrame>
          <p:nvGraphicFramePr>
            <p:cNvPr id="186" name="Object 29"/>
            <p:cNvGraphicFramePr/>
            <p:nvPr/>
          </p:nvGraphicFramePr>
          <p:xfrm>
            <a:off x="3592080" y="3325680"/>
            <a:ext cx="429840" cy="457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7" name="Object 2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592080" y="3325680"/>
                      <a:ext cx="429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88" name="Group 30"/>
            <p:cNvGrpSpPr/>
            <p:nvPr/>
          </p:nvGrpSpPr>
          <p:grpSpPr>
            <a:xfrm>
              <a:off x="475920" y="3277440"/>
              <a:ext cx="8236080" cy="1057680"/>
              <a:chOff x="475920" y="3277440"/>
              <a:chExt cx="8236080" cy="1057680"/>
            </a:xfrm>
          </p:grpSpPr>
          <p:graphicFrame>
            <p:nvGraphicFramePr>
              <p:cNvPr id="189" name="Object 31"/>
              <p:cNvGraphicFramePr/>
              <p:nvPr/>
            </p:nvGraphicFramePr>
            <p:xfrm>
              <a:off x="7248600" y="3357360"/>
              <a:ext cx="456840" cy="3859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90" name="Object 31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7248600" y="3357360"/>
                        <a:ext cx="456840" cy="385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91" name="Group 32"/>
              <p:cNvGrpSpPr/>
              <p:nvPr/>
            </p:nvGrpSpPr>
            <p:grpSpPr>
              <a:xfrm>
                <a:off x="475920" y="3277440"/>
                <a:ext cx="8236080" cy="1057680"/>
                <a:chOff x="475920" y="3277440"/>
                <a:chExt cx="8236080" cy="1057680"/>
              </a:xfrm>
            </p:grpSpPr>
            <p:sp>
              <p:nvSpPr>
                <p:cNvPr id="192" name="Rectangle 33"/>
                <p:cNvSpPr/>
                <p:nvPr/>
              </p:nvSpPr>
              <p:spPr>
                <a:xfrm>
                  <a:off x="475920" y="3277440"/>
                  <a:ext cx="2829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“</a:t>
                  </a:r>
                  <a:r>
                    <a:rPr b="1" lang="zh-CN" sz="2800" spc="-1" strike="noStrike">
                      <a:solidFill>
                        <a:srgbClr val="ff3300"/>
                      </a:solidFill>
                      <a:latin typeface="宋体"/>
                      <a:ea typeface="Times New Roman"/>
                    </a:rPr>
                    <a:t>一个排列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”</a:t>
                  </a: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是指：从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34"/>
                <p:cNvSpPr/>
                <p:nvPr/>
              </p:nvSpPr>
              <p:spPr>
                <a:xfrm>
                  <a:off x="4111200" y="3280680"/>
                  <a:ext cx="26632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宋体"/>
                      <a:ea typeface="Times New Roman"/>
                    </a:rPr>
                    <a:t>个不同元素中，任取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35"/>
                <p:cNvSpPr/>
                <p:nvPr/>
              </p:nvSpPr>
              <p:spPr>
                <a:xfrm>
                  <a:off x="2971440" y="3814560"/>
                  <a:ext cx="891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按照一定的顺序排成一列，不是数；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36"/>
                <p:cNvSpPr/>
                <p:nvPr/>
              </p:nvSpPr>
              <p:spPr>
                <a:xfrm>
                  <a:off x="7891200" y="3281400"/>
                  <a:ext cx="820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个元素</a:t>
                  </a:r>
                  <a:endParaRPr b="0" lang="en-US" sz="2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676520" y="2209680"/>
          <a:ext cx="2438280" cy="6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243828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Group 5"/>
          <p:cNvGrpSpPr/>
          <p:nvPr/>
        </p:nvGrpSpPr>
        <p:grpSpPr>
          <a:xfrm>
            <a:off x="304920" y="1143000"/>
            <a:ext cx="7696080" cy="1038240"/>
            <a:chOff x="304920" y="1143000"/>
            <a:chExt cx="7696080" cy="1038240"/>
          </a:xfrm>
        </p:grpSpPr>
        <p:sp>
          <p:nvSpPr>
            <p:cNvPr id="201" name="Text Box 6"/>
            <p:cNvSpPr/>
            <p:nvPr/>
          </p:nvSpPr>
          <p:spPr>
            <a:xfrm>
              <a:off x="304920" y="1143000"/>
              <a:ext cx="7696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问题１中是求从３个不同元素中取出２个元素的排列数，记为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,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已经算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2" name="Object 7"/>
            <p:cNvGraphicFramePr/>
            <p:nvPr/>
          </p:nvGraphicFramePr>
          <p:xfrm>
            <a:off x="2514600" y="1523880"/>
            <a:ext cx="552600" cy="657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3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514600" y="1523880"/>
                      <a:ext cx="552600" cy="65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4" name="Object 8"/>
          <p:cNvGraphicFramePr/>
          <p:nvPr/>
        </p:nvGraphicFramePr>
        <p:xfrm>
          <a:off x="1752480" y="4191120"/>
          <a:ext cx="4540320" cy="7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4191120"/>
                    <a:ext cx="4540320" cy="70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Group 9"/>
          <p:cNvGrpSpPr/>
          <p:nvPr/>
        </p:nvGrpSpPr>
        <p:grpSpPr>
          <a:xfrm>
            <a:off x="304920" y="3048120"/>
            <a:ext cx="7238880" cy="1031760"/>
            <a:chOff x="304920" y="3048120"/>
            <a:chExt cx="7238880" cy="1031760"/>
          </a:xfrm>
        </p:grpSpPr>
        <p:sp>
          <p:nvSpPr>
            <p:cNvPr id="207" name="Text Box 10"/>
            <p:cNvSpPr/>
            <p:nvPr/>
          </p:nvSpPr>
          <p:spPr>
            <a:xfrm>
              <a:off x="304920" y="3048120"/>
              <a:ext cx="7238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问题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中是求从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10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个不同元素中取出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个元素的排列数记为　　，已经算出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aphicFrame>
          <p:nvGraphicFramePr>
            <p:cNvPr id="208" name="Object 11"/>
            <p:cNvGraphicFramePr/>
            <p:nvPr/>
          </p:nvGraphicFramePr>
          <p:xfrm>
            <a:off x="2590920" y="3429000"/>
            <a:ext cx="514440" cy="650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9" name="Object 11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90920" y="3429000"/>
                      <a:ext cx="514440" cy="65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3-15T06:25:45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