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hammer.wav" ContentType="audio/x-wav"/>
  <Override PartName="/ppt/media/bomb.wav" ContentType="audio/x-wav"/>
  <Override PartName="/ppt/media/image5.wmf" ContentType="image/x-wmf"/>
  <Override PartName="/ppt/media/coin.wav" ContentType="audio/x-wav"/>
  <Override PartName="/ppt/media/image12.wmf" ContentType="image/x-wmf"/>
  <Override PartName="/ppt/media/image4.png" ContentType="image/png"/>
  <Override PartName="/ppt/media/image13.wmf" ContentType="image/x-wmf"/>
  <Override PartName="/ppt/media/image1.jpeg" ContentType="image/jpeg"/>
  <Override PartName="/ppt/media/image2.jpeg" ContentType="image/jpeg"/>
  <Override PartName="/ppt/media/image10.wmf" ContentType="image/x-wmf"/>
  <Override PartName="/ppt/media/suction.wav" ContentType="audio/x-wav"/>
  <Override PartName="/ppt/media/image7.wmf" ContentType="image/x-wmf"/>
  <Override PartName="/ppt/media/image6.wmf" ContentType="image/x-wmf"/>
  <Override PartName="/ppt/media/image3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6F8-9304-4DAC-81BD-6E5EA3F5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4FF-8E2B-438F-B3B2-5E210BC3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FD3D-B879-4642-8453-AE5D1DD0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283-8C48-45BD-BADD-379171A4E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2A57-83BA-440D-9306-63290A57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5A6C1-0B6C-4DB9-8911-D67336CC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099E6-9036-4784-875A-F14A295B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929FB-1A03-4AC6-ABE3-32E5D796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82D56-3EA8-4824-A935-9FCC0824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C65D-3AFD-4108-A4BE-C979BD2B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B0D5-7B0E-4E9C-B400-DAD74648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0EA-FCB9-4BAE-B0A7-6C621F8A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0C03-7DA9-409C-A37E-3D8C0B20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8E7C4-AB6F-4FA2-B344-31E9B6BE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BA1C-1BB9-481D-93C8-A508A8C3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DFE94-1DE2-43D4-AF61-50C8E6B8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3EDB-4C5F-4196-A83F-09CA580A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74FD-3C81-4844-859F-5FB2EF99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3429-7A81-4321-97D1-0F61568D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4F2-187B-4498-A3CD-BD11BC3E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4BE4-F7E5-4A23-8C23-6EBE8E4F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1418-BE39-48E1-867D-8BA0E0B4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24D8-2427-4BF9-939F-982902EF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2002-2DA3-40E3-9C4D-D0FFBA6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677B-C951-45D0-A080-A51B1CC14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D81B-52C4-4B81-8406-64FB66E83DA2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7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2" descr=""/>
          <p:cNvPicPr/>
          <p:nvPr/>
        </p:nvPicPr>
        <p:blipFill>
          <a:blip r:embed="rId1"/>
          <a:stretch/>
        </p:blipFill>
        <p:spPr>
          <a:xfrm>
            <a:off x="781200" y="1773360"/>
            <a:ext cx="7643520" cy="1871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行楷"/>
              </a:rPr>
              <a:t>练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不等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|x|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解集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不等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|x|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解集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不等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|x|≤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解集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不等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|4x|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＞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解集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不等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|3x|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解集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不等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|x|≥7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解集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"/>
              <p:cNvSpPr txBox="1"/>
              <p:nvPr/>
            </p:nvSpPr>
            <p:spPr>
              <a:xfrm>
                <a:off x="6696000" y="5229360"/>
                <a:ext cx="244800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≥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或x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148360" y="1413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{x|-5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x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5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219640" y="2205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{x|x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x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-10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5364000" y="299736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{x|-4≤ x≤ 4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300720" y="184464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11"/>
              <p:cNvSpPr txBox="1"/>
              <p:nvPr/>
            </p:nvSpPr>
            <p:spPr>
              <a:xfrm>
                <a:off x="5219640" y="3716280"/>
                <a:ext cx="30956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或x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Rectangle 12"/>
          <p:cNvSpPr/>
          <p:nvPr/>
        </p:nvSpPr>
        <p:spPr>
          <a:xfrm>
            <a:off x="5508720" y="4653000"/>
            <a:ext cx="165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{x|-4&lt;x&lt; 4}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strips dir="lu"/>
    <p:sndAc>
      <p:stSnd>
        <p:snd r:embed="rId1" name="suction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行楷"/>
              </a:rPr>
              <a:t>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原不等式即为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6732720" y="1916280"/>
                <a:ext cx="241128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d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5110200" y="2781360"/>
                <a:ext cx="4033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5" name="Group 5"/>
          <p:cNvGrpSpPr/>
          <p:nvPr/>
        </p:nvGrpSpPr>
        <p:grpSpPr>
          <a:xfrm>
            <a:off x="0" y="1268280"/>
            <a:ext cx="8424720" cy="1066680"/>
            <a:chOff x="0" y="1268280"/>
            <a:chExt cx="8424720" cy="1066680"/>
          </a:xfrm>
        </p:grpSpPr>
        <p:sp>
          <p:nvSpPr>
            <p:cNvPr id="176" name="Rectangle 6"/>
            <p:cNvSpPr/>
            <p:nvPr/>
          </p:nvSpPr>
          <p:spPr>
            <a:xfrm>
              <a:off x="0" y="1268280"/>
              <a:ext cx="84247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　解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设一袋大米的实际重量为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kg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，则   应满足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	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	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" name="Object 7"/>
                <p:cNvSpPr txBox="1"/>
                <p:nvPr/>
              </p:nvSpPr>
              <p:spPr>
                <a:xfrm>
                  <a:off x="5788080" y="1412640"/>
                  <a:ext cx="34920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8" name="Object 8"/>
                <p:cNvSpPr txBox="1"/>
                <p:nvPr/>
              </p:nvSpPr>
              <p:spPr>
                <a:xfrm>
                  <a:off x="7329600" y="1412640"/>
                  <a:ext cx="34920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9" name="Group 10"/>
          <p:cNvGrpSpPr/>
          <p:nvPr/>
        </p:nvGrpSpPr>
        <p:grpSpPr>
          <a:xfrm>
            <a:off x="395280" y="4076640"/>
            <a:ext cx="6800760" cy="1152360"/>
            <a:chOff x="395280" y="4076640"/>
            <a:chExt cx="6800760" cy="1152360"/>
          </a:xfrm>
        </p:grpSpPr>
        <p:sp>
          <p:nvSpPr>
            <p:cNvPr id="180" name="Rectangle 11"/>
            <p:cNvSpPr/>
            <p:nvPr/>
          </p:nvSpPr>
          <p:spPr>
            <a:xfrm>
              <a:off x="395280" y="4076640"/>
              <a:ext cx="1224000" cy="11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2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即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Object 12"/>
                <p:cNvSpPr txBox="1"/>
                <p:nvPr/>
              </p:nvSpPr>
              <p:spPr>
                <a:xfrm>
                  <a:off x="3924360" y="4365720"/>
                  <a:ext cx="327168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Text Box 13"/>
          <p:cNvSpPr/>
          <p:nvPr/>
        </p:nvSpPr>
        <p:spPr>
          <a:xfrm>
            <a:off x="395280" y="5084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答：一袋大米的实际重量应介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19.75k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20.25  kg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之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395280" y="3573360"/>
            <a:ext cx="8061480" cy="581400"/>
            <a:chOff x="395280" y="3573360"/>
            <a:chExt cx="8061480" cy="581400"/>
          </a:xfrm>
        </p:grpSpPr>
        <mc:AlternateContent>
          <mc:Choice xmlns:a14="http://schemas.microsoft.com/office/drawing/2010/main" Requires="a14">
            <p:sp>
              <p:nvSpPr>
                <p:cNvPr id="184" name="Object 15"/>
                <p:cNvSpPr txBox="1"/>
                <p:nvPr/>
              </p:nvSpPr>
              <p:spPr>
                <a:xfrm>
                  <a:off x="1835280" y="3573360"/>
                  <a:ext cx="66214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≤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5" name="Text Box 16"/>
            <p:cNvSpPr/>
            <p:nvPr/>
          </p:nvSpPr>
          <p:spPr>
            <a:xfrm>
              <a:off x="395280" y="3573360"/>
              <a:ext cx="107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所以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wipe dir="d"/>
    <p:sndAc>
      <p:stSnd>
        <p:snd r:embed="rId1" name="coin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华文行楷"/>
              </a:rPr>
              <a:t>例题讲解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684360" y="119700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解下列不等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11280" y="2133720"/>
            <a:ext cx="3390840" cy="763560"/>
            <a:chOff x="611280" y="2133720"/>
            <a:chExt cx="3390840" cy="763560"/>
          </a:xfrm>
        </p:grpSpPr>
        <mc:AlternateContent>
          <mc:Choice xmlns:a14="http://schemas.microsoft.com/office/drawing/2010/main" Requires="a14">
            <p:sp>
              <p:nvSpPr>
                <p:cNvPr id="190" name="Object 5"/>
                <p:cNvSpPr txBox="1"/>
                <p:nvPr/>
              </p:nvSpPr>
              <p:spPr>
                <a:xfrm>
                  <a:off x="1979640" y="2133720"/>
                  <a:ext cx="202248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1" name="Text Box 6"/>
            <p:cNvSpPr/>
            <p:nvPr/>
          </p:nvSpPr>
          <p:spPr>
            <a:xfrm>
              <a:off x="611280" y="220500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（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）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2" name="Group 7"/>
          <p:cNvGrpSpPr/>
          <p:nvPr/>
        </p:nvGrpSpPr>
        <p:grpSpPr>
          <a:xfrm>
            <a:off x="539640" y="3141720"/>
            <a:ext cx="3390840" cy="763560"/>
            <a:chOff x="539640" y="3141720"/>
            <a:chExt cx="3390840" cy="763560"/>
          </a:xfrm>
        </p:grpSpPr>
        <mc:AlternateContent>
          <mc:Choice xmlns:a14="http://schemas.microsoft.com/office/drawing/2010/main" Requires="a14">
            <p:sp>
              <p:nvSpPr>
                <p:cNvPr id="193" name="Object 8"/>
                <p:cNvSpPr txBox="1"/>
                <p:nvPr/>
              </p:nvSpPr>
              <p:spPr>
                <a:xfrm>
                  <a:off x="1908000" y="3141720"/>
                  <a:ext cx="2022480" cy="76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≥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94" name="Text Box 9"/>
            <p:cNvSpPr/>
            <p:nvPr/>
          </p:nvSpPr>
          <p:spPr>
            <a:xfrm>
              <a:off x="539640" y="3286080"/>
              <a:ext cx="1512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（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）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wipe dir="d"/>
    <p:sndAc>
      <p:stSnd>
        <p:snd r:embed="rId1" name="coin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华文行楷"/>
              </a:rPr>
              <a:t>例题讲解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解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去括号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84360" y="119700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解下列不等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98" name="Group 5"/>
          <p:cNvGrpSpPr/>
          <p:nvPr/>
        </p:nvGrpSpPr>
        <p:grpSpPr>
          <a:xfrm>
            <a:off x="611280" y="1989000"/>
            <a:ext cx="4978440" cy="760320"/>
            <a:chOff x="611280" y="1989000"/>
            <a:chExt cx="4978440" cy="760320"/>
          </a:xfrm>
        </p:grpSpPr>
        <mc:AlternateContent>
          <mc:Choice xmlns:a14="http://schemas.microsoft.com/office/drawing/2010/main" Requires="a14">
            <p:sp>
              <p:nvSpPr>
                <p:cNvPr id="199" name="Object 6"/>
                <p:cNvSpPr txBox="1"/>
                <p:nvPr/>
              </p:nvSpPr>
              <p:spPr>
                <a:xfrm>
                  <a:off x="1979640" y="1989000"/>
                  <a:ext cx="361008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(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&lt;</m:t>
                      </m:r>
                      <m:r>
                        <m:t xml:space="preserve">3</m:t>
                      </m:r>
                      <m:r>
                        <m:t xml:space="preserve">(</m:t>
                      </m:r>
                      <m:r>
                        <m:t xml:space="preserve">4</m:t>
                      </m:r>
                      <m:r>
                        <m:t xml:space="preserve">−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Text Box 7"/>
            <p:cNvSpPr/>
            <p:nvPr/>
          </p:nvSpPr>
          <p:spPr>
            <a:xfrm>
              <a:off x="611280" y="2060280"/>
              <a:ext cx="1512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1" name="Group 8"/>
          <p:cNvGrpSpPr/>
          <p:nvPr/>
        </p:nvGrpSpPr>
        <p:grpSpPr>
          <a:xfrm>
            <a:off x="1908000" y="3357720"/>
            <a:ext cx="3862440" cy="1008000"/>
            <a:chOff x="1908000" y="3357720"/>
            <a:chExt cx="3862440" cy="1008000"/>
          </a:xfrm>
        </p:grpSpPr>
        <p:sp>
          <p:nvSpPr>
            <p:cNvPr id="202" name="Rectangle 9"/>
            <p:cNvSpPr/>
            <p:nvPr/>
          </p:nvSpPr>
          <p:spPr>
            <a:xfrm>
              <a:off x="1908000" y="3357720"/>
              <a:ext cx="122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lnSpc>
                  <a:spcPct val="2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所以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3" name="Object 10"/>
                <p:cNvSpPr txBox="1"/>
                <p:nvPr/>
              </p:nvSpPr>
              <p:spPr>
                <a:xfrm>
                  <a:off x="4356000" y="3500640"/>
                  <a:ext cx="1414440" cy="76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4" name="Group 11"/>
          <p:cNvGrpSpPr/>
          <p:nvPr/>
        </p:nvGrpSpPr>
        <p:grpSpPr>
          <a:xfrm>
            <a:off x="900000" y="5229360"/>
            <a:ext cx="7577280" cy="1204920"/>
            <a:chOff x="900000" y="5229360"/>
            <a:chExt cx="7577280" cy="1204920"/>
          </a:xfrm>
        </p:grpSpPr>
        <p:sp>
          <p:nvSpPr>
            <p:cNvPr id="205" name="Text Box 12"/>
            <p:cNvSpPr/>
            <p:nvPr/>
          </p:nvSpPr>
          <p:spPr>
            <a:xfrm>
              <a:off x="900000" y="5516640"/>
              <a:ext cx="482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所以，原不等式的解集是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Object 13"/>
                <p:cNvSpPr txBox="1"/>
                <p:nvPr/>
              </p:nvSpPr>
              <p:spPr>
                <a:xfrm>
                  <a:off x="5651280" y="5229360"/>
                  <a:ext cx="2826000" cy="12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{"/>
                          <m:endChr m:val="}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|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6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  <m:r>
                            <m:t xml:space="preserve">&lt;</m:t>
                          </m:r>
                          <m:r>
                            <m:t xml:space="preserve">x</m:t>
                          </m:r>
                          <m:r>
                            <m:t xml:space="preserve">&lt;</m:t>
                          </m:r>
                          <m:f>
                            <m:num>
                              <m:r>
                                <m:t xml:space="preserve">6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7" name="Object 14"/>
              <p:cNvSpPr txBox="1"/>
              <p:nvPr/>
            </p:nvSpPr>
            <p:spPr>
              <a:xfrm>
                <a:off x="3851280" y="2708280"/>
                <a:ext cx="31924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3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8" name="Group 15"/>
          <p:cNvGrpSpPr/>
          <p:nvPr/>
        </p:nvGrpSpPr>
        <p:grpSpPr>
          <a:xfrm>
            <a:off x="1908000" y="4221000"/>
            <a:ext cx="3919680" cy="1179360"/>
            <a:chOff x="1908000" y="4221000"/>
            <a:chExt cx="3919680" cy="1179360"/>
          </a:xfrm>
        </p:grpSpPr>
        <p:sp>
          <p:nvSpPr>
            <p:cNvPr id="209" name="Text Box 16"/>
            <p:cNvSpPr/>
            <p:nvPr/>
          </p:nvSpPr>
          <p:spPr>
            <a:xfrm>
              <a:off x="1908000" y="4508280"/>
              <a:ext cx="1152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因此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0" name="Object 17"/>
                <p:cNvSpPr txBox="1"/>
                <p:nvPr/>
              </p:nvSpPr>
              <p:spPr>
                <a:xfrm>
                  <a:off x="4572000" y="4221000"/>
                  <a:ext cx="1255680" cy="11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&lt;</m:t>
                      </m:r>
                      <m:f>
                        <m:num>
                          <m:r>
                            <m:t xml:space="preserve">6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p:transition spd="slow">
    <p:wipe dir="d"/>
    <p:sndAc>
      <p:stSnd>
        <p:snd r:embed="rId1" name="coin.wav"/>
      </p:stSnd>
    </p:sndAc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华文行楷"/>
              </a:rPr>
              <a:t>课堂练习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0" y="3213000"/>
                <a:ext cx="23954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&g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684360" y="119700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解下列不等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1187280" y="1917720"/>
                <a:ext cx="254808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≤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6"/>
              <p:cNvSpPr txBox="1"/>
              <p:nvPr/>
            </p:nvSpPr>
            <p:spPr>
              <a:xfrm>
                <a:off x="1116000" y="4508640"/>
                <a:ext cx="2658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ipe dir="d"/>
    <p:sndAc>
      <p:stSnd>
        <p:snd r:embed="rId1" name="coin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华文行楷"/>
              </a:rPr>
              <a:t>课堂小结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）两个“结论”：一，不等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|x|&lt;a(a&gt;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的解集是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{x|-a&lt;x&lt;a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，二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|x|&gt;a(a&gt;0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的解集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{x| x&lt;-a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行楷"/>
              </a:rPr>
              <a:t>x&gt;a}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）含绝对值不等式解法关键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去掉绝对值符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）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行楷"/>
              </a:rPr>
              <a:t>转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”：把含绝对值的不等式转化为不含绝对值的不等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684360" y="5229360"/>
            <a:ext cx="713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a77"/>
                </a:solidFill>
                <a:latin typeface="Arial"/>
                <a:ea typeface="华文行楷"/>
              </a:rPr>
              <a:t>课后作业：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书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  <a:ea typeface="华文行楷"/>
              </a:rPr>
              <a:t>P24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练习第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  <a:ea typeface="华文行楷"/>
              </a:rPr>
              <a:t>2,3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题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strips dir="rd"/>
    <p:sndAc>
      <p:stSnd>
        <p:snd r:embed="rId1" name="bomb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741600" y="234144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华文行楷"/>
              </a:rPr>
              <a:t>思考：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  <a:ea typeface="华文行楷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a&lt;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时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|x|&lt;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|x|&gt;a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的解集？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所以，不等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|x|&lt;a(a&lt;0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的解集是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050920" y="4149720"/>
            <a:ext cx="614520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等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|x|&gt;a(a&lt;0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的解集是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R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23" name="Group 5"/>
          <p:cNvGrpSpPr/>
          <p:nvPr/>
        </p:nvGrpSpPr>
        <p:grpSpPr>
          <a:xfrm>
            <a:off x="684360" y="2205000"/>
            <a:ext cx="2960640" cy="888840"/>
            <a:chOff x="684360" y="2205000"/>
            <a:chExt cx="2960640" cy="888840"/>
          </a:xfrm>
        </p:grpSpPr>
        <mc:AlternateContent>
          <mc:Choice xmlns:a14="http://schemas.microsoft.com/office/drawing/2010/main" Requires="a14">
            <p:sp>
              <p:nvSpPr>
                <p:cNvPr id="224" name="Object 6"/>
                <p:cNvSpPr txBox="1"/>
                <p:nvPr/>
              </p:nvSpPr>
              <p:spPr>
                <a:xfrm>
                  <a:off x="2268720" y="2205000"/>
                  <a:ext cx="137628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</m:e>
                      </m:d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Text Box 7"/>
            <p:cNvSpPr/>
            <p:nvPr/>
          </p:nvSpPr>
          <p:spPr>
            <a:xfrm>
              <a:off x="684360" y="2276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因为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行楷"/>
              </a:rPr>
              <a:t>问题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1197000"/>
            <a:ext cx="8820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按商品质检部门规定，商店出售的标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k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大米，其实际重量与表明重量的误差不超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0.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kg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现有某品牌大米，其单价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kg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则一袋该品牌大米的实际重量可能为多少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8" name="Group 4"/>
          <p:cNvGrpSpPr/>
          <p:nvPr/>
        </p:nvGrpSpPr>
        <p:grpSpPr>
          <a:xfrm>
            <a:off x="324000" y="3213000"/>
            <a:ext cx="8424720" cy="1066680"/>
            <a:chOff x="324000" y="3213000"/>
            <a:chExt cx="8424720" cy="1066680"/>
          </a:xfrm>
        </p:grpSpPr>
        <p:sp>
          <p:nvSpPr>
            <p:cNvPr id="89" name="Rectangle 5"/>
            <p:cNvSpPr/>
            <p:nvPr/>
          </p:nvSpPr>
          <p:spPr>
            <a:xfrm>
              <a:off x="324000" y="3213000"/>
              <a:ext cx="842472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华文行楷"/>
                </a:rPr>
                <a:t>分析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设一袋大米的实际重量为   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kg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，则   应满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Object 6"/>
                <p:cNvSpPr txBox="1"/>
                <p:nvPr/>
              </p:nvSpPr>
              <p:spPr>
                <a:xfrm>
                  <a:off x="6112080" y="3357360"/>
                  <a:ext cx="34920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" name="Object 7"/>
                <p:cNvSpPr txBox="1"/>
                <p:nvPr/>
              </p:nvSpPr>
              <p:spPr>
                <a:xfrm>
                  <a:off x="7653600" y="3357360"/>
                  <a:ext cx="349200" cy="363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1619280" y="3789360"/>
                <a:ext cx="3152880" cy="15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3" name="Text Box 9"/>
          <p:cNvSpPr/>
          <p:nvPr/>
        </p:nvSpPr>
        <p:spPr>
          <a:xfrm>
            <a:off x="684360" y="5373720"/>
            <a:ext cx="136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611280" y="5373720"/>
            <a:ext cx="4387680" cy="1014480"/>
            <a:chOff x="611280" y="5373720"/>
            <a:chExt cx="4387680" cy="1014480"/>
          </a:xfrm>
        </p:grpSpPr>
        <p:sp>
          <p:nvSpPr>
            <p:cNvPr id="95" name="Text Box 11"/>
            <p:cNvSpPr/>
            <p:nvPr/>
          </p:nvSpPr>
          <p:spPr>
            <a:xfrm>
              <a:off x="611280" y="55897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即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Object 12"/>
                <p:cNvSpPr txBox="1"/>
                <p:nvPr/>
              </p:nvSpPr>
              <p:spPr>
                <a:xfrm>
                  <a:off x="1548000" y="5373720"/>
                  <a:ext cx="3450960" cy="1014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Group 13"/>
          <p:cNvGrpSpPr/>
          <p:nvPr/>
        </p:nvGrpSpPr>
        <p:grpSpPr>
          <a:xfrm>
            <a:off x="5219640" y="4005360"/>
            <a:ext cx="3457440" cy="1295280"/>
            <a:chOff x="5219640" y="4005360"/>
            <a:chExt cx="3457440" cy="1295280"/>
          </a:xfrm>
        </p:grpSpPr>
        <p:sp>
          <p:nvSpPr>
            <p:cNvPr id="98" name="AutoShape 14"/>
            <p:cNvSpPr/>
            <p:nvPr/>
          </p:nvSpPr>
          <p:spPr>
            <a:xfrm>
              <a:off x="5219640" y="4005360"/>
              <a:ext cx="3456000" cy="1295280"/>
            </a:xfrm>
            <a:prstGeom prst="cloudCallout">
              <a:avLst>
                <a:gd name="adj1" fmla="val -50365"/>
                <a:gd name="adj2" fmla="val 89092"/>
              </a:avLst>
            </a:prstGeom>
            <a:noFill/>
            <a:ln w="381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Text Box 15"/>
            <p:cNvSpPr/>
            <p:nvPr/>
          </p:nvSpPr>
          <p:spPr>
            <a:xfrm>
              <a:off x="5580000" y="4221360"/>
              <a:ext cx="309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绝对值不等式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0" name="Line 16"/>
          <p:cNvSpPr/>
          <p:nvPr/>
        </p:nvSpPr>
        <p:spPr>
          <a:xfrm>
            <a:off x="6156360" y="220500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WordArt 2" descr=""/>
          <p:cNvPicPr/>
          <p:nvPr/>
        </p:nvPicPr>
        <p:blipFill>
          <a:blip r:embed="rId1"/>
          <a:stretch/>
        </p:blipFill>
        <p:spPr>
          <a:xfrm>
            <a:off x="457200" y="1620720"/>
            <a:ext cx="6357960" cy="13780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3"/>
          <p:cNvSpPr txBox="1"/>
          <p:nvPr/>
        </p:nvSpPr>
        <p:spPr>
          <a:xfrm>
            <a:off x="2413080" y="3747960"/>
            <a:ext cx="3527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宋体"/>
              </a:rPr>
              <a:t>不等式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395280" y="1699920"/>
            <a:ext cx="8424720" cy="1443240"/>
            <a:chOff x="395280" y="1699920"/>
            <a:chExt cx="8424720" cy="1443240"/>
          </a:xfrm>
        </p:grpSpPr>
        <p:sp>
          <p:nvSpPr>
            <p:cNvPr id="106" name="Rectangle 3"/>
            <p:cNvSpPr/>
            <p:nvPr/>
          </p:nvSpPr>
          <p:spPr>
            <a:xfrm>
              <a:off x="395280" y="1699920"/>
              <a:ext cx="8424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（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）代数意义：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|a|=              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；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4"/>
                <p:cNvSpPr txBox="1"/>
                <p:nvPr/>
              </p:nvSpPr>
              <p:spPr>
                <a:xfrm>
                  <a:off x="4572000" y="1771560"/>
                  <a:ext cx="2098800" cy="137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t xml:space="preserve">a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8" name="Group 5"/>
          <p:cNvGrpSpPr/>
          <p:nvPr/>
        </p:nvGrpSpPr>
        <p:grpSpPr>
          <a:xfrm>
            <a:off x="2124000" y="3573360"/>
            <a:ext cx="3990960" cy="724320"/>
            <a:chOff x="2124000" y="3573360"/>
            <a:chExt cx="3990960" cy="724320"/>
          </a:xfrm>
        </p:grpSpPr>
        <p:sp>
          <p:nvSpPr>
            <p:cNvPr id="109" name="Line 6"/>
            <p:cNvSpPr/>
            <p:nvPr/>
          </p:nvSpPr>
          <p:spPr>
            <a:xfrm>
              <a:off x="3954240" y="3644640"/>
              <a:ext cx="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Line 7"/>
            <p:cNvSpPr/>
            <p:nvPr/>
          </p:nvSpPr>
          <p:spPr>
            <a:xfrm>
              <a:off x="4889520" y="3644640"/>
              <a:ext cx="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1" name="Line 8"/>
            <p:cNvSpPr/>
            <p:nvPr/>
          </p:nvSpPr>
          <p:spPr>
            <a:xfrm>
              <a:off x="3017880" y="3644640"/>
              <a:ext cx="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12" name="Group 9"/>
            <p:cNvGrpSpPr/>
            <p:nvPr/>
          </p:nvGrpSpPr>
          <p:grpSpPr>
            <a:xfrm>
              <a:off x="2124000" y="3573360"/>
              <a:ext cx="3990960" cy="724320"/>
              <a:chOff x="2124000" y="3573360"/>
              <a:chExt cx="3990960" cy="724320"/>
            </a:xfrm>
          </p:grpSpPr>
          <p:sp>
            <p:nvSpPr>
              <p:cNvPr id="113" name="Text Box 10"/>
              <p:cNvSpPr/>
              <p:nvPr/>
            </p:nvSpPr>
            <p:spPr>
              <a:xfrm>
                <a:off x="5610240" y="3573360"/>
                <a:ext cx="50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7a77"/>
                    </a:solidFill>
                    <a:latin typeface="Times New Roman"/>
                    <a:ea typeface="宋体"/>
                  </a:rPr>
                  <a:t>x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14" name="Group 11"/>
              <p:cNvGrpSpPr/>
              <p:nvPr/>
            </p:nvGrpSpPr>
            <p:grpSpPr>
              <a:xfrm>
                <a:off x="2124000" y="3573360"/>
                <a:ext cx="3456000" cy="724320"/>
                <a:chOff x="2124000" y="3573360"/>
                <a:chExt cx="3456000" cy="724320"/>
              </a:xfrm>
            </p:grpSpPr>
            <p:sp>
              <p:nvSpPr>
                <p:cNvPr id="115" name="Text Box 12"/>
                <p:cNvSpPr/>
                <p:nvPr/>
              </p:nvSpPr>
              <p:spPr>
                <a:xfrm>
                  <a:off x="2657520" y="3573360"/>
                  <a:ext cx="72072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007a77"/>
                      </a:solidFill>
                      <a:latin typeface="Times New Roman"/>
                      <a:ea typeface="宋体"/>
                    </a:rPr>
                    <a:t>-</a:t>
                  </a:r>
                  <a:r>
                    <a:rPr b="0" lang="en-US" sz="3600" spc="-1" strike="noStrike">
                      <a:solidFill>
                        <a:srgbClr val="007a77"/>
                      </a:solidFill>
                      <a:latin typeface="Times New Roman"/>
                      <a:ea typeface="宋体"/>
                    </a:rPr>
                    <a:t> a</a:t>
                  </a:r>
                  <a:endParaRPr b="0" lang="en-US" sz="36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13"/>
                <p:cNvSpPr/>
                <p:nvPr/>
              </p:nvSpPr>
              <p:spPr>
                <a:xfrm>
                  <a:off x="4673520" y="3573360"/>
                  <a:ext cx="3589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7a77"/>
                      </a:solidFill>
                      <a:latin typeface="Times New Roman"/>
                      <a:ea typeface="宋体"/>
                    </a:rPr>
                    <a:t>a</a:t>
                  </a:r>
                  <a:endParaRPr b="0" lang="en-US" sz="36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7" name="Text Box 14"/>
                <p:cNvSpPr/>
                <p:nvPr/>
              </p:nvSpPr>
              <p:spPr>
                <a:xfrm>
                  <a:off x="3809880" y="3716280"/>
                  <a:ext cx="2872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7a77"/>
                      </a:solidFill>
                      <a:latin typeface="Times New Roman"/>
                      <a:ea typeface="宋体"/>
                    </a:rPr>
                    <a:t>0</a:t>
                  </a:r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5"/>
                <p:cNvSpPr/>
                <p:nvPr/>
              </p:nvSpPr>
              <p:spPr>
                <a:xfrm>
                  <a:off x="2124000" y="3716280"/>
                  <a:ext cx="3456000" cy="0"/>
                </a:xfrm>
                <a:prstGeom prst="line">
                  <a:avLst/>
                </a:prstGeom>
                <a:ln w="255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32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9" name="Rectangle 16"/>
          <p:cNvSpPr/>
          <p:nvPr/>
        </p:nvSpPr>
        <p:spPr>
          <a:xfrm>
            <a:off x="324000" y="4762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绝对值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24000" y="4770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几何意义：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|a|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表示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在数轴上相应点与原点距离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不等式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  <a:ea typeface="华文行楷"/>
              </a:rPr>
              <a:t>|x|&lt;3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的解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方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|x|=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的解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24000" y="393372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|x|&lt;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表示数轴上到原点距离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的点的集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271000" cy="1249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0" y="4508640"/>
            <a:ext cx="8850240" cy="190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3188520" y="14097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x=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x=-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24000" y="602136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|x|&lt;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的解的集合是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{x|-3&lt;x&lt;3}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24000" y="31417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|x|=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表示数轴上到原点距离等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的点的集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不等式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  <a:ea typeface="华文行楷"/>
              </a:rPr>
              <a:t>|x|&gt;3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的解法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方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|x|=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的解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x=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x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3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50920" y="4076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它的解集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8271000" cy="1249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8270640" cy="17668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7"/>
          <p:cNvSpPr/>
          <p:nvPr/>
        </p:nvSpPr>
        <p:spPr>
          <a:xfrm>
            <a:off x="539640" y="4437000"/>
            <a:ext cx="388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79280" y="335772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|x|&gt;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表示数轴上到原点距离大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的点的集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340000" y="407664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{x|x&lt;-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行楷"/>
              </a:rPr>
              <a:t>x&gt;3}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3" name="hammer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611280" y="62064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华文行楷"/>
              </a:rPr>
              <a:t>完成下表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557360"/>
          <a:ext cx="8497800" cy="4245120"/>
        </p:xfrm>
        <a:graphic>
          <a:graphicData uri="http://schemas.openxmlformats.org/drawingml/2006/table">
            <a:tbl>
              <a:tblPr/>
              <a:tblGrid>
                <a:gridCol w="1611360"/>
                <a:gridCol w="2857320"/>
                <a:gridCol w="4029120"/>
              </a:tblGrid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等式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解集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轴表示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x|&lt;3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{x|-3&lt;x&lt;3}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x|&lt;2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x|&gt;3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{x|x&lt;-3</a:t>
                      </a:r>
                      <a:r>
                        <a:rPr b="1" lang="zh-CN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或</a:t>
                      </a:r>
                      <a:r>
                        <a:rPr b="1" lang="en-US" sz="32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x&gt;3}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|x|&gt;5</a:t>
                      </a: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1" name="Picture 29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3771720" cy="1104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0" descr=""/>
          <p:cNvPicPr/>
          <p:nvPr/>
        </p:nvPicPr>
        <p:blipFill>
          <a:blip r:embed="rId2"/>
          <a:stretch/>
        </p:blipFill>
        <p:spPr>
          <a:xfrm>
            <a:off x="4788000" y="2997360"/>
            <a:ext cx="3771720" cy="11048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1" descr=""/>
          <p:cNvPicPr/>
          <p:nvPr/>
        </p:nvPicPr>
        <p:blipFill>
          <a:blip r:embed="rId3"/>
          <a:stretch/>
        </p:blipFill>
        <p:spPr>
          <a:xfrm>
            <a:off x="4932360" y="3789360"/>
            <a:ext cx="3792600" cy="11811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2" descr=""/>
          <p:cNvPicPr/>
          <p:nvPr/>
        </p:nvPicPr>
        <p:blipFill>
          <a:blip r:embed="rId4"/>
          <a:stretch/>
        </p:blipFill>
        <p:spPr>
          <a:xfrm>
            <a:off x="4932360" y="4724280"/>
            <a:ext cx="3789360" cy="11811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3"/>
          <p:cNvSpPr/>
          <p:nvPr/>
        </p:nvSpPr>
        <p:spPr>
          <a:xfrm>
            <a:off x="2270160" y="3141720"/>
            <a:ext cx="21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华文行楷"/>
              </a:rPr>
              <a:t>{x|-2&lt;x&lt;2}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1820880" y="4869000"/>
            <a:ext cx="27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华文行楷"/>
              </a:rPr>
              <a:t>{x|x&lt;-5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或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  <a:ea typeface="华文行楷"/>
              </a:rPr>
              <a:t>x&gt;5}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741600" y="234144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Arial"/>
                <a:ea typeface="华文行楷"/>
              </a:rPr>
              <a:t>|x|&lt;a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，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  <a:ea typeface="华文行楷"/>
              </a:rPr>
              <a:t>|x|&gt;a(a&gt;0)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的解集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等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|x|&lt;a(a&gt;0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的解集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{x|-a&lt;x&lt;a}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250920" y="5516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行楷"/>
              </a:rPr>
              <a:t>注意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上述绝对值不等式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行楷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只表示一个数，还可表示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行楷"/>
              </a:rPr>
              <a:t>“代数式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98440" y="3500280"/>
            <a:ext cx="8845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等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|x|&gt;a(a&gt;0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的解集是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{x| x&lt;-a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x&gt;a}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5513400" cy="11415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6084720" y="24922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两根之间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6084720" y="458136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两根之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Picture 9" descr=""/>
          <p:cNvPicPr/>
          <p:nvPr/>
        </p:nvPicPr>
        <p:blipFill>
          <a:blip r:embed="rId2"/>
          <a:stretch/>
        </p:blipFill>
        <p:spPr>
          <a:xfrm>
            <a:off x="250920" y="4365720"/>
            <a:ext cx="5506920" cy="117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41600" y="234144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Arial"/>
                <a:ea typeface="华文行楷"/>
              </a:rPr>
              <a:t>|x|≤a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，</a:t>
            </a:r>
            <a:r>
              <a:rPr b="0" lang="en-US" sz="4800" spc="-1" strike="noStrike">
                <a:solidFill>
                  <a:srgbClr val="007a77"/>
                </a:solidFill>
                <a:latin typeface="Arial"/>
                <a:ea typeface="华文行楷"/>
              </a:rPr>
              <a:t>|x|≥a(a&gt;0)</a:t>
            </a: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华文行楷"/>
              </a:rPr>
              <a:t>的解集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等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|x|≤a(a&gt;0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的解集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　　　　　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{x|-a≤x≤a}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900000" y="4076640"/>
            <a:ext cx="71294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等式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|x|≥a(a&gt;0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的解集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　　　　　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{x|x≤- a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行楷"/>
              </a:rPr>
              <a:t>x≥a}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4:44:30Z</dcterms:created>
  <dc:creator/>
  <dc:description/>
  <cp:keywords/>
  <dc:language>en-US</dc:language>
  <cp:lastModifiedBy>Administrator</cp:lastModifiedBy>
  <dcterms:modified xsi:type="dcterms:W3CDTF">2022-01-17T14:32:11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369</vt:lpwstr>
  </property>
</Properties>
</file>