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A67-ADA1-4A0B-9090-0013F4BF8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DE4-9265-4119-ABEF-A2E6CA41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650F-E477-4895-B45C-873B4C69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F76-8719-4194-82A3-CA18B81F2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D771-A3E6-466F-B1F7-C56D87C2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DE2-8575-4842-BF48-5BAB316C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79C-396D-46CC-8D67-78DFA2C5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CEA-58E2-4720-BAE8-3080E2A6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4DE-9BA9-456D-A2B4-06271B10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462-7E06-4BBD-B043-65106015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CA1-D43D-4095-8970-4994FEF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5592-C792-4E12-9E59-B81BA65B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DC77CC-E01B-4A5C-AAA0-EB1A25D150F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单元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函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苏州幼儿师范高等学校数学教研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250920" y="333360"/>
            <a:ext cx="37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3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图像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65448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476360" y="2421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次函数的图像是一条直线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函数 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k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＋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k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＜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、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＞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395280" y="1133640"/>
            <a:ext cx="804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用函数图像来表示两个变量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间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5580000" y="3575160"/>
            <a:ext cx="3239640" cy="2877480"/>
            <a:chOff x="5580000" y="3575160"/>
            <a:chExt cx="3239640" cy="2877480"/>
          </a:xfrm>
        </p:grpSpPr>
        <p:sp>
          <p:nvSpPr>
            <p:cNvPr id="75" name="Text Box 3"/>
            <p:cNvSpPr/>
            <p:nvPr/>
          </p:nvSpPr>
          <p:spPr>
            <a:xfrm>
              <a:off x="6520680" y="3575160"/>
              <a:ext cx="43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" name="Line 4"/>
            <p:cNvSpPr/>
            <p:nvPr/>
          </p:nvSpPr>
          <p:spPr>
            <a:xfrm flipV="1">
              <a:off x="6456240" y="3822840"/>
              <a:ext cx="0" cy="2629800"/>
            </a:xfrm>
            <a:prstGeom prst="line">
              <a:avLst/>
            </a:prstGeom>
            <a:ln w="31680">
              <a:solidFill>
                <a:srgbClr val="007a77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7" name="Line 5"/>
            <p:cNvSpPr/>
            <p:nvPr/>
          </p:nvSpPr>
          <p:spPr>
            <a:xfrm>
              <a:off x="5580000" y="5794200"/>
              <a:ext cx="3066480" cy="0"/>
            </a:xfrm>
            <a:prstGeom prst="line">
              <a:avLst/>
            </a:prstGeom>
            <a:ln w="31680">
              <a:solidFill>
                <a:srgbClr val="007a77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" name="Line 6"/>
            <p:cNvSpPr/>
            <p:nvPr/>
          </p:nvSpPr>
          <p:spPr>
            <a:xfrm>
              <a:off x="5908680" y="4062600"/>
              <a:ext cx="2409480" cy="230112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" name="Text Box 7"/>
            <p:cNvSpPr/>
            <p:nvPr/>
          </p:nvSpPr>
          <p:spPr>
            <a:xfrm>
              <a:off x="5985000" y="5683320"/>
              <a:ext cx="4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>
              <a:off x="8271720" y="567828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1" name="Rectangle 9"/>
          <p:cNvSpPr/>
          <p:nvPr/>
        </p:nvSpPr>
        <p:spPr>
          <a:xfrm>
            <a:off x="250920" y="333360"/>
            <a:ext cx="37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3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图像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5448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1476360" y="2421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次函数的图像是一条直线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函数 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k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＋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k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＜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、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＞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395280" y="1133640"/>
            <a:ext cx="804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用函数图像来表示两个变量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间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95280" y="4437000"/>
            <a:ext cx="426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优点：直观形象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5580000" y="3575160"/>
            <a:ext cx="3239640" cy="2877480"/>
            <a:chOff x="5580000" y="3575160"/>
            <a:chExt cx="3239640" cy="2877480"/>
          </a:xfrm>
        </p:grpSpPr>
        <p:sp>
          <p:nvSpPr>
            <p:cNvPr id="87" name="Text Box 4"/>
            <p:cNvSpPr/>
            <p:nvPr/>
          </p:nvSpPr>
          <p:spPr>
            <a:xfrm>
              <a:off x="6520680" y="3575160"/>
              <a:ext cx="43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y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8" name="Line 5"/>
            <p:cNvSpPr/>
            <p:nvPr/>
          </p:nvSpPr>
          <p:spPr>
            <a:xfrm flipV="1">
              <a:off x="6456240" y="3822840"/>
              <a:ext cx="0" cy="2629800"/>
            </a:xfrm>
            <a:prstGeom prst="line">
              <a:avLst/>
            </a:prstGeom>
            <a:ln w="31680">
              <a:solidFill>
                <a:srgbClr val="007a77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9" name="Line 6"/>
            <p:cNvSpPr/>
            <p:nvPr/>
          </p:nvSpPr>
          <p:spPr>
            <a:xfrm>
              <a:off x="5580000" y="5794200"/>
              <a:ext cx="3066480" cy="0"/>
            </a:xfrm>
            <a:prstGeom prst="line">
              <a:avLst/>
            </a:prstGeom>
            <a:ln w="31680">
              <a:solidFill>
                <a:srgbClr val="007a77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0" name="Line 7"/>
            <p:cNvSpPr/>
            <p:nvPr/>
          </p:nvSpPr>
          <p:spPr>
            <a:xfrm>
              <a:off x="5908680" y="4062600"/>
              <a:ext cx="2409480" cy="2301120"/>
            </a:xfrm>
            <a:prstGeom prst="line">
              <a:avLst/>
            </a:prstGeom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5985000" y="5683320"/>
              <a:ext cx="43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O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2" name="Text Box 9"/>
            <p:cNvSpPr/>
            <p:nvPr/>
          </p:nvSpPr>
          <p:spPr>
            <a:xfrm>
              <a:off x="8271720" y="5678280"/>
              <a:ext cx="5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200" spc="-1" strike="noStrike">
                  <a:solidFill>
                    <a:srgbClr val="007a77"/>
                  </a:solidFill>
                  <a:latin typeface="Times New Roman"/>
                </a:rPr>
                <a:t>x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93" name="Rectangle 10"/>
          <p:cNvSpPr/>
          <p:nvPr/>
        </p:nvSpPr>
        <p:spPr>
          <a:xfrm>
            <a:off x="250920" y="333360"/>
            <a:ext cx="37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3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图像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654480" y="2421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1476360" y="2421000"/>
            <a:ext cx="66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一次函数的图像是一条直线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函数 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k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＋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(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k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＜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、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＞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395280" y="1133640"/>
            <a:ext cx="804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用函数图像来表示两个变量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间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324000" y="4292640"/>
            <a:ext cx="4824360" cy="11509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684360" y="47628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想一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9" name="Picture 3" descr="j0355323"/>
          <p:cNvPicPr/>
          <p:nvPr/>
        </p:nvPicPr>
        <p:blipFill>
          <a:blip r:embed="rId1"/>
          <a:stretch/>
        </p:blipFill>
        <p:spPr>
          <a:xfrm>
            <a:off x="6877080" y="4869000"/>
            <a:ext cx="16574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84360" y="47628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想一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611280" y="186372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1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所有的函数都能用解析法表示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2" name="Picture 4" descr="j0355323"/>
          <p:cNvPicPr/>
          <p:nvPr/>
        </p:nvPicPr>
        <p:blipFill>
          <a:blip r:embed="rId1"/>
          <a:stretch/>
        </p:blipFill>
        <p:spPr>
          <a:xfrm>
            <a:off x="6877080" y="4869000"/>
            <a:ext cx="16574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684360" y="47628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想一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11280" y="186372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1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所有的函数都能用解析法表示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11280" y="279864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2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所有的函数都能用列表法表示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5" descr="j0355323"/>
          <p:cNvPicPr/>
          <p:nvPr/>
        </p:nvPicPr>
        <p:blipFill>
          <a:blip r:embed="rId1"/>
          <a:stretch/>
        </p:blipFill>
        <p:spPr>
          <a:xfrm>
            <a:off x="6877080" y="4869000"/>
            <a:ext cx="16574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684360" y="476280"/>
            <a:ext cx="31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想一想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611280" y="186372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1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所有的函数都能用解析法表示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11280" y="279864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2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所有的函数都能用列表法表示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11280" y="373536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3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所有的函数都能用图像法表示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Picture 6" descr="j0355323"/>
          <p:cNvPicPr/>
          <p:nvPr/>
        </p:nvPicPr>
        <p:blipFill>
          <a:blip r:embed="rId1"/>
          <a:stretch/>
        </p:blipFill>
        <p:spPr>
          <a:xfrm>
            <a:off x="6877080" y="4869000"/>
            <a:ext cx="165744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24000" y="538200"/>
            <a:ext cx="90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例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．某种笔记本每个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元，买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x (x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{1, 2, 3, 4}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个笔记本的钱数记为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y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元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试写出以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为自变量的函数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的解析式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并画出这个函数的图像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95280" y="3789360"/>
            <a:ext cx="9290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　　函数图像既可以是连续的曲线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也可以是直线、折线、离散的点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等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24000" y="538200"/>
            <a:ext cx="90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例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．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某种笔记本每个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5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元，买 </a:t>
            </a:r>
            <a:r>
              <a:rPr b="1" i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x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i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{1, 2, 3, 4}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个笔记本的钱数记为</a:t>
            </a:r>
            <a:r>
              <a:rPr b="1" i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元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试写出以</a:t>
            </a:r>
            <a:r>
              <a:rPr b="1" i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x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为自变量的函数</a:t>
            </a:r>
            <a:r>
              <a:rPr b="1" i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的解析式，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并画出这个函数的图像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324000" y="3716280"/>
            <a:ext cx="8424720" cy="2376720"/>
          </a:xfrm>
          <a:prstGeom prst="rect">
            <a:avLst/>
          </a:prstGeom>
          <a:noFill/>
          <a:ln w="572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468360" y="12272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例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．画出函数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|x|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的图像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797840" y="2003760"/>
            <a:ext cx="512136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函数的常同表示方法有三种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解析法、图象法和列表法．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解析法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 ， 就是用数学表达式表示两个变量之间的对应关系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2.1.1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的实例（</a:t>
            </a: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）．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图象法，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就是用图象表示两个变量之间的对应关系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2.1.1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的实例（</a:t>
            </a: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）．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列表法， 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就是列出表格来表示两个变量之间的对应关系，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如</a:t>
            </a: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2.1.1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的实例（</a:t>
            </a: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）．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079800" y="758880"/>
            <a:ext cx="294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.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函数的表示法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68360" y="122724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例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．画出函数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|x|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的图像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468360" y="3201840"/>
            <a:ext cx="912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例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3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．画出函数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|x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－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1|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＋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|x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＋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2|      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的图像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24000" y="2060640"/>
          <a:ext cx="8496000" cy="1952640"/>
        </p:xfrm>
        <a:graphic>
          <a:graphicData uri="http://schemas.openxmlformats.org/drawingml/2006/table">
            <a:tbl>
              <a:tblPr/>
              <a:tblGrid>
                <a:gridCol w="1584000"/>
                <a:gridCol w="863640"/>
                <a:gridCol w="792360"/>
                <a:gridCol w="792000"/>
                <a:gridCol w="647640"/>
                <a:gridCol w="720720"/>
                <a:gridCol w="648000"/>
                <a:gridCol w="863640"/>
                <a:gridCol w="792000"/>
                <a:gridCol w="792000"/>
              </a:tblGrid>
              <a:tr h="119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ff00"/>
                          </a:solidFill>
                          <a:latin typeface="Times New Roman"/>
                          <a:ea typeface="黑体"/>
                        </a:rPr>
                        <a:t>行进的站数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2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3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4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5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6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7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8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9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ff00"/>
                          </a:solidFill>
                          <a:latin typeface="Times New Roman"/>
                          <a:ea typeface="黑体"/>
                        </a:rPr>
                        <a:t>票价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0.5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1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1.5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1.5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7a77"/>
                          </a:solidFill>
                          <a:latin typeface="Times New Roman"/>
                          <a:ea typeface="黑体"/>
                        </a:rPr>
                        <a:t>1.5</a:t>
                      </a:r>
                      <a:endParaRPr b="0" lang="en-US" sz="36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37"/>
          <p:cNvSpPr/>
          <p:nvPr/>
        </p:nvSpPr>
        <p:spPr>
          <a:xfrm>
            <a:off x="284040" y="476280"/>
            <a:ext cx="972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例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．某路公共汽车，行进的站数与票价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关系如下表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Rectangle 38"/>
          <p:cNvSpPr/>
          <p:nvPr/>
        </p:nvSpPr>
        <p:spPr>
          <a:xfrm>
            <a:off x="284040" y="4292280"/>
            <a:ext cx="1004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此函数关系除了用图表之外，能否用其他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方法表示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1828800" y="351000"/>
          <a:ext cx="5135400" cy="76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51000"/>
                    <a:ext cx="51354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Rectangle 3"/>
          <p:cNvSpPr/>
          <p:nvPr/>
        </p:nvSpPr>
        <p:spPr>
          <a:xfrm>
            <a:off x="933120" y="33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解：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2"/>
          <p:cNvSpPr/>
          <p:nvPr/>
        </p:nvSpPr>
        <p:spPr>
          <a:xfrm>
            <a:off x="1116000" y="4371840"/>
            <a:ext cx="6351480" cy="1800"/>
          </a:xfrm>
          <a:prstGeom prst="line">
            <a:avLst/>
          </a:prstGeom>
          <a:ln w="31680">
            <a:solidFill>
              <a:srgbClr val="007a77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Line 3"/>
          <p:cNvSpPr/>
          <p:nvPr/>
        </p:nvSpPr>
        <p:spPr>
          <a:xfrm>
            <a:off x="2509920" y="4273560"/>
            <a:ext cx="4680" cy="9684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3030480" y="4273560"/>
            <a:ext cx="1800" cy="9828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3551400" y="4273560"/>
            <a:ext cx="2880" cy="9828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Line 6"/>
          <p:cNvSpPr/>
          <p:nvPr/>
        </p:nvSpPr>
        <p:spPr>
          <a:xfrm>
            <a:off x="4075200" y="4273560"/>
            <a:ext cx="3240" cy="9828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>
            <a:off x="4597560" y="4267080"/>
            <a:ext cx="2880" cy="9864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5119560" y="4267080"/>
            <a:ext cx="1800" cy="9864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Line 9"/>
          <p:cNvSpPr/>
          <p:nvPr/>
        </p:nvSpPr>
        <p:spPr>
          <a:xfrm>
            <a:off x="5641920" y="4267080"/>
            <a:ext cx="1800" cy="9864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Line 10"/>
          <p:cNvSpPr/>
          <p:nvPr/>
        </p:nvSpPr>
        <p:spPr>
          <a:xfrm>
            <a:off x="6172200" y="4267080"/>
            <a:ext cx="1440" cy="9864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Line 11"/>
          <p:cNvSpPr/>
          <p:nvPr/>
        </p:nvSpPr>
        <p:spPr>
          <a:xfrm>
            <a:off x="6683400" y="4260960"/>
            <a:ext cx="1440" cy="9828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Line 12"/>
          <p:cNvSpPr/>
          <p:nvPr/>
        </p:nvSpPr>
        <p:spPr>
          <a:xfrm flipH="1" flipV="1">
            <a:off x="1988640" y="2016000"/>
            <a:ext cx="1800" cy="2997360"/>
          </a:xfrm>
          <a:prstGeom prst="line">
            <a:avLst/>
          </a:prstGeom>
          <a:ln w="31680">
            <a:solidFill>
              <a:srgbClr val="007a77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Line 13"/>
          <p:cNvSpPr/>
          <p:nvPr/>
        </p:nvSpPr>
        <p:spPr>
          <a:xfrm flipH="1" flipV="1">
            <a:off x="1996920" y="3838320"/>
            <a:ext cx="98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 flipV="1">
            <a:off x="1990440" y="3830760"/>
            <a:ext cx="98280" cy="144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 flipV="1">
            <a:off x="1996920" y="3308040"/>
            <a:ext cx="98640" cy="324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H="1" flipV="1">
            <a:off x="1992240" y="2798280"/>
            <a:ext cx="98640" cy="1800"/>
          </a:xfrm>
          <a:prstGeom prst="line">
            <a:avLst/>
          </a:prstGeom>
          <a:ln w="3168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320920" y="4294080"/>
            <a:ext cx="422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1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884320" y="4294080"/>
            <a:ext cx="457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2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3368520" y="4294080"/>
            <a:ext cx="495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3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3870360" y="4294080"/>
            <a:ext cx="396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4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408560" y="4305240"/>
            <a:ext cx="3920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5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4956120" y="4294080"/>
            <a:ext cx="530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6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5452920" y="4294080"/>
            <a:ext cx="414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7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983200" y="4294080"/>
            <a:ext cx="4939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25"/>
          <p:cNvSpPr/>
          <p:nvPr/>
        </p:nvSpPr>
        <p:spPr>
          <a:xfrm>
            <a:off x="6521400" y="4294080"/>
            <a:ext cx="41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9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26"/>
          <p:cNvSpPr/>
          <p:nvPr/>
        </p:nvSpPr>
        <p:spPr>
          <a:xfrm>
            <a:off x="1295280" y="2489040"/>
            <a:ext cx="7621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1.5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27"/>
          <p:cNvSpPr/>
          <p:nvPr/>
        </p:nvSpPr>
        <p:spPr>
          <a:xfrm>
            <a:off x="1295280" y="2994120"/>
            <a:ext cx="914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1.0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1295280" y="3532320"/>
            <a:ext cx="8384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7a77"/>
                </a:solidFill>
                <a:latin typeface="Times New Roman"/>
              </a:rPr>
              <a:t>0.5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1547640" y="4292640"/>
            <a:ext cx="685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7a77"/>
                </a:solidFill>
                <a:latin typeface="Times New Roman"/>
              </a:rPr>
              <a:t>O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3" name="Group 30"/>
          <p:cNvGrpSpPr/>
          <p:nvPr/>
        </p:nvGrpSpPr>
        <p:grpSpPr>
          <a:xfrm>
            <a:off x="2467080" y="3807000"/>
            <a:ext cx="1104480" cy="52200"/>
            <a:chOff x="2467080" y="3807000"/>
            <a:chExt cx="1104480" cy="52200"/>
          </a:xfrm>
        </p:grpSpPr>
        <p:sp>
          <p:nvSpPr>
            <p:cNvPr id="154" name="Oval 31"/>
            <p:cNvSpPr/>
            <p:nvPr/>
          </p:nvSpPr>
          <p:spPr>
            <a:xfrm>
              <a:off x="2467080" y="3822840"/>
              <a:ext cx="36360" cy="363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Oval 32"/>
            <p:cNvSpPr/>
            <p:nvPr/>
          </p:nvSpPr>
          <p:spPr>
            <a:xfrm>
              <a:off x="2989080" y="3816360"/>
              <a:ext cx="36360" cy="36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3535200" y="3807000"/>
              <a:ext cx="36360" cy="3636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4049640" y="3284640"/>
            <a:ext cx="1104120" cy="51840"/>
            <a:chOff x="4049640" y="3284640"/>
            <a:chExt cx="1104120" cy="51840"/>
          </a:xfrm>
        </p:grpSpPr>
        <p:sp>
          <p:nvSpPr>
            <p:cNvPr id="158" name="Oval 35"/>
            <p:cNvSpPr/>
            <p:nvPr/>
          </p:nvSpPr>
          <p:spPr>
            <a:xfrm>
              <a:off x="4049640" y="3299760"/>
              <a:ext cx="36720" cy="36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4571280" y="3292920"/>
              <a:ext cx="36720" cy="36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Oval 37"/>
            <p:cNvSpPr/>
            <p:nvPr/>
          </p:nvSpPr>
          <p:spPr>
            <a:xfrm>
              <a:off x="5117040" y="3284640"/>
              <a:ext cx="36720" cy="36720"/>
            </a:xfrm>
            <a:prstGeom prst="ellipse">
              <a:avLst/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1" name="Oval 38"/>
          <p:cNvSpPr/>
          <p:nvPr/>
        </p:nvSpPr>
        <p:spPr>
          <a:xfrm>
            <a:off x="5614920" y="2787480"/>
            <a:ext cx="36720" cy="36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6137280" y="2781360"/>
            <a:ext cx="36360" cy="3636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Oval 40"/>
          <p:cNvSpPr/>
          <p:nvPr/>
        </p:nvSpPr>
        <p:spPr>
          <a:xfrm>
            <a:off x="6683400" y="2771640"/>
            <a:ext cx="36360" cy="36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7062840" y="4255920"/>
            <a:ext cx="533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7a77"/>
                </a:solidFill>
                <a:latin typeface="Times New Roman"/>
              </a:rPr>
              <a:t>x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1619280" y="1784520"/>
            <a:ext cx="325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000" spc="-1" strike="noStrike">
                <a:solidFill>
                  <a:srgbClr val="007a77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Rectangle 43"/>
          <p:cNvSpPr/>
          <p:nvPr/>
        </p:nvSpPr>
        <p:spPr>
          <a:xfrm>
            <a:off x="933120" y="33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解：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7" name="Object 44"/>
          <p:cNvGraphicFramePr/>
          <p:nvPr/>
        </p:nvGraphicFramePr>
        <p:xfrm>
          <a:off x="1825560" y="351000"/>
          <a:ext cx="5194440" cy="77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Object 4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560" y="351000"/>
                    <a:ext cx="519444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844640" y="396720"/>
          <a:ext cx="8128080" cy="77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4640" y="396720"/>
                    <a:ext cx="81280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33120" y="33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解：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1042920" y="1341360"/>
                <a:ext cx="5761080" cy="223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</m:t>
                              </m:r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1,2,3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</m:t>
                              </m:r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4,5,6</m:t>
                                  </m:r>
                                </m:e>
                              </m:d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</m:t>
                              </m:r>
                              <m:r>
                                <m:t xml:space="preserve">x</m:t>
                              </m:r>
                              <m:r>
                                <m:t xml:space="preserve">∈</m:t>
                              </m:r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r>
                                    <m:t xml:space="preserve">7,8,9</m:t>
                                  </m:r>
                                </m:e>
                              </m:d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933120" y="333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解：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6" name="Object 5"/>
          <p:cNvGraphicFramePr/>
          <p:nvPr/>
        </p:nvGraphicFramePr>
        <p:xfrm>
          <a:off x="1844640" y="396720"/>
          <a:ext cx="8128080" cy="77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4640" y="396720"/>
                    <a:ext cx="81280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468360" y="476280"/>
          <a:ext cx="5194080" cy="77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476280"/>
                    <a:ext cx="51940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3"/>
          <p:cNvSpPr/>
          <p:nvPr/>
        </p:nvSpPr>
        <p:spPr>
          <a:xfrm>
            <a:off x="250920" y="333360"/>
            <a:ext cx="3960720" cy="863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Object 2"/>
          <p:cNvGraphicFramePr/>
          <p:nvPr/>
        </p:nvGraphicFramePr>
        <p:xfrm>
          <a:off x="469800" y="1600200"/>
          <a:ext cx="7594560" cy="29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00200"/>
                    <a:ext cx="7594560" cy="29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3"/>
          <p:cNvGraphicFramePr/>
          <p:nvPr/>
        </p:nvGraphicFramePr>
        <p:xfrm>
          <a:off x="468360" y="476280"/>
          <a:ext cx="5194080" cy="774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476280"/>
                    <a:ext cx="51940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Rectangle 4"/>
          <p:cNvSpPr/>
          <p:nvPr/>
        </p:nvSpPr>
        <p:spPr>
          <a:xfrm>
            <a:off x="250920" y="333360"/>
            <a:ext cx="3960720" cy="863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Object 2"/>
          <p:cNvGraphicFramePr/>
          <p:nvPr/>
        </p:nvGraphicFramePr>
        <p:xfrm>
          <a:off x="469800" y="4216320"/>
          <a:ext cx="7632720" cy="154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216320"/>
                    <a:ext cx="763272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3"/>
          <p:cNvGraphicFramePr/>
          <p:nvPr/>
        </p:nvGraphicFramePr>
        <p:xfrm>
          <a:off x="476280" y="1603440"/>
          <a:ext cx="7489800" cy="28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603440"/>
                    <a:ext cx="748980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4"/>
          <p:cNvGraphicFramePr/>
          <p:nvPr/>
        </p:nvGraphicFramePr>
        <p:xfrm>
          <a:off x="468360" y="476280"/>
          <a:ext cx="5194080" cy="7747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476280"/>
                    <a:ext cx="51940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5"/>
          <p:cNvSpPr/>
          <p:nvPr/>
        </p:nvSpPr>
        <p:spPr>
          <a:xfrm>
            <a:off x="250920" y="333360"/>
            <a:ext cx="3960720" cy="86364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24000" y="762840"/>
            <a:ext cx="864216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．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、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两地相距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150k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某汽车以每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小时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50k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速度从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地到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地，在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地停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留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小时后，又以每小时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60k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速度返回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地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1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写出该车离开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地的距离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s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km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关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时间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t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h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函数关系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2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并画出图象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72960" y="1685880"/>
            <a:ext cx="843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把两个变量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,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用一个等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表示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,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这个等式就叫做函数的解析式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84200" y="838080"/>
            <a:ext cx="34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1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解析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395280" y="745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函数的表示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4991040" y="3357720"/>
            <a:ext cx="3975120" cy="3606120"/>
            <a:chOff x="4991040" y="3357720"/>
            <a:chExt cx="3975120" cy="3606120"/>
          </a:xfrm>
        </p:grpSpPr>
        <p:sp>
          <p:nvSpPr>
            <p:cNvPr id="195" name="Rectangle 3"/>
            <p:cNvSpPr/>
            <p:nvPr/>
          </p:nvSpPr>
          <p:spPr>
            <a:xfrm>
              <a:off x="5486400" y="3674880"/>
              <a:ext cx="2490840" cy="2490480"/>
            </a:xfrm>
            <a:prstGeom prst="rect">
              <a:avLst/>
            </a:prstGeom>
            <a:noFill/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Line 4"/>
            <p:cNvSpPr/>
            <p:nvPr/>
          </p:nvSpPr>
          <p:spPr>
            <a:xfrm flipH="1">
              <a:off x="6735600" y="3676680"/>
              <a:ext cx="1246320" cy="288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 flipV="1">
              <a:off x="7970760" y="4900680"/>
              <a:ext cx="1800" cy="1244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 flipH="1">
              <a:off x="5486040" y="3674880"/>
              <a:ext cx="3240" cy="124452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Text Box 7"/>
            <p:cNvSpPr/>
            <p:nvPr/>
          </p:nvSpPr>
          <p:spPr>
            <a:xfrm>
              <a:off x="4991040" y="5803920"/>
              <a:ext cx="94932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600" spc="-1" strike="noStrike">
                  <a:solidFill>
                    <a:srgbClr val="007a77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Text Box 8"/>
            <p:cNvSpPr/>
            <p:nvPr/>
          </p:nvSpPr>
          <p:spPr>
            <a:xfrm>
              <a:off x="7956720" y="5805360"/>
              <a:ext cx="94932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600" spc="-1" strike="noStrike">
                  <a:solidFill>
                    <a:srgbClr val="007a77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Text Box 9"/>
            <p:cNvSpPr/>
            <p:nvPr/>
          </p:nvSpPr>
          <p:spPr>
            <a:xfrm>
              <a:off x="7943760" y="3357720"/>
              <a:ext cx="94932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600" spc="-1" strike="noStrike">
                  <a:solidFill>
                    <a:srgbClr val="007a77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Text Box 10"/>
            <p:cNvSpPr/>
            <p:nvPr/>
          </p:nvSpPr>
          <p:spPr>
            <a:xfrm>
              <a:off x="4991040" y="3357720"/>
              <a:ext cx="949320" cy="11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600" spc="-1" strike="noStrike">
                  <a:solidFill>
                    <a:srgbClr val="007a77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Text Box 11"/>
            <p:cNvSpPr/>
            <p:nvPr/>
          </p:nvSpPr>
          <p:spPr>
            <a:xfrm>
              <a:off x="8016840" y="4646520"/>
              <a:ext cx="949320" cy="11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en-US" sz="3600" spc="-1" strike="noStrike">
                  <a:solidFill>
                    <a:srgbClr val="007a77"/>
                  </a:solidFill>
                  <a:latin typeface="Times New Roman"/>
                </a:rPr>
                <a:t>P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4" name="Rectangle 12"/>
          <p:cNvSpPr/>
          <p:nvPr/>
        </p:nvSpPr>
        <p:spPr>
          <a:xfrm>
            <a:off x="324000" y="269280"/>
            <a:ext cx="9144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．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如图，在边长为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正方形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BCD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边上有一点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沿着折线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CD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由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点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向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点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终点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移动，设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点移动的路程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为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S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△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BP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面积为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，求△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ABP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的面积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与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P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点移动的路程</a:t>
            </a:r>
            <a:r>
              <a:rPr b="1" i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S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间的函数关系式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.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2034000" y="2368440"/>
            <a:ext cx="49078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．分段函数的定义及表示法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．分段函数的表达式虽然不止一个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但它不是几个函数，而是一个函数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24000" y="2060640"/>
            <a:ext cx="8208720" cy="2735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99ff33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12640" y="941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小 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bi"/>
          <p:cNvPicPr/>
          <p:nvPr/>
        </p:nvPicPr>
        <p:blipFill>
          <a:blip r:embed="rId1"/>
          <a:stretch/>
        </p:blipFill>
        <p:spPr>
          <a:xfrm>
            <a:off x="539640" y="54936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1664640" y="555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课堂小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941480" y="157464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函数的三种表示方法及各自的优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1" name="Picture 3" descr="bi"/>
          <p:cNvPicPr/>
          <p:nvPr/>
        </p:nvPicPr>
        <p:blipFill>
          <a:blip r:embed="rId1"/>
          <a:stretch/>
        </p:blipFill>
        <p:spPr>
          <a:xfrm>
            <a:off x="539640" y="54936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4"/>
          <p:cNvSpPr/>
          <p:nvPr/>
        </p:nvSpPr>
        <p:spPr>
          <a:xfrm>
            <a:off x="1664640" y="555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课堂小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1941480" y="157464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函数的三种表示方法及各自的优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14" name="Picture 3" descr="bi"/>
          <p:cNvPicPr/>
          <p:nvPr/>
        </p:nvPicPr>
        <p:blipFill>
          <a:blip r:embed="rId1"/>
          <a:stretch/>
        </p:blipFill>
        <p:spPr>
          <a:xfrm>
            <a:off x="539640" y="54936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517200" y="220500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列表法、图象法、解析法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664640" y="555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课堂小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1941480" y="1574640"/>
            <a:ext cx="47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函数的三种表示方法及各自的优点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3544200" y="2205000"/>
            <a:ext cx="5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列表法、图像法、解析法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849320" y="301464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三种函数表示方法的相互转换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2239200" y="448452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分段函数的表达式虽然不止一个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但它不是几个函数，而是一个函数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1665000" y="3716280"/>
            <a:ext cx="39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分段函数的定义及表示法；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2" name="Picture 7" descr="bi"/>
          <p:cNvPicPr/>
          <p:nvPr/>
        </p:nvPicPr>
        <p:blipFill>
          <a:blip r:embed="rId1"/>
          <a:stretch/>
        </p:blipFill>
        <p:spPr>
          <a:xfrm>
            <a:off x="539640" y="54936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8"/>
          <p:cNvSpPr/>
          <p:nvPr/>
        </p:nvSpPr>
        <p:spPr>
          <a:xfrm>
            <a:off x="1664640" y="5554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imes New Roman"/>
                <a:ea typeface="华文新魏"/>
              </a:rPr>
              <a:t>课堂小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7"/>
          <p:cNvSpPr txBox="1"/>
          <p:nvPr/>
        </p:nvSpPr>
        <p:spPr>
          <a:xfrm>
            <a:off x="1979640" y="2492280"/>
            <a:ext cx="40640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布置作业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2960" y="1685880"/>
            <a:ext cx="843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把两个变量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,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用一个等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表示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,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这个等式就叫做函数的解析式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84200" y="838080"/>
            <a:ext cx="34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1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解析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395280" y="745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函数的表示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366840" y="3068640"/>
                <a:ext cx="80215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如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l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72960" y="1685880"/>
            <a:ext cx="8431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把两个变量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,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用一个等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表示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,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这个等式就叫做函数的解析式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366840" y="3068640"/>
                <a:ext cx="80215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如</m:t>
                        </m:r>
                        <m:r>
                          <m:t xml:space="preserve">: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l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Rectangle 4"/>
          <p:cNvSpPr/>
          <p:nvPr/>
        </p:nvSpPr>
        <p:spPr>
          <a:xfrm>
            <a:off x="398520" y="5013360"/>
            <a:ext cx="8218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优点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: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函数关系清楚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,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便于研究</a:t>
            </a:r>
            <a:br>
              <a:rPr sz="4000"/>
            </a:b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函数性质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484200" y="838080"/>
            <a:ext cx="34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1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解析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395280" y="7452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Times New Roman"/>
                <a:ea typeface="黑体"/>
              </a:rPr>
              <a:t>函数的表示法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395280" y="4941720"/>
            <a:ext cx="8353440" cy="1440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27120" y="476280"/>
            <a:ext cx="35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2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列表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0120" y="1557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列出表格来表示两个变量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27120" y="476280"/>
            <a:ext cx="35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2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列表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00120" y="1557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列出表格来表示两个变量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9640" y="2637000"/>
            <a:ext cx="86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如：平方表，平方根表，汽车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火车站的里程价目表、银行里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利率表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等等．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27120" y="476280"/>
            <a:ext cx="351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2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列表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600120" y="5013360"/>
            <a:ext cx="81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优点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: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易知自变量与函数的对应性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600120" y="155736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列出表格来表示两个变量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9640" y="2637000"/>
            <a:ext cx="8604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如：平方表，平方根表，汽车、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火车站的里程价目表、银行里的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利率表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007a77"/>
                </a:solidFill>
                <a:latin typeface="黑体"/>
                <a:ea typeface="黑体"/>
              </a:rPr>
              <a:t>等等．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395280" y="4869000"/>
            <a:ext cx="8353440" cy="11509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50920" y="333360"/>
            <a:ext cx="377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3.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图象法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95280" y="1133640"/>
            <a:ext cx="804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用函数图象来表示两个变量之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间的关系</a:t>
            </a:r>
            <a:r>
              <a:rPr b="1" lang="en-US" sz="40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Administrator</cp:lastModifiedBy>
  <dcterms:modified xsi:type="dcterms:W3CDTF">2021-12-17T13:12:29Z</dcterms:modified>
  <cp:revision>32</cp:revision>
  <dc:subject/>
  <dc:title> 函数与映射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