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9BE-EC8C-47B7-835C-D724BC87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622E-E464-4AA6-99B3-04F8C2B4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4F5-2A13-4DB5-95DA-C242CFB9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AE5-18D1-4F6D-AA1D-98E7AA8A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4875C-C70B-4833-A285-FDA232CB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10A5-E797-4C4E-BD6A-2E888BC4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D58C0-25CE-449E-B14B-59AEF502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E3FC-8109-4E5C-9D00-8A6EDF7E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4251-B9F9-47F5-81E9-5254387D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A1CF-8122-4AEB-935E-DAAD7E3E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480C-D064-44CE-A8B0-80AF806F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151B-F22E-4950-9F9C-F9A8AF356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9ABF-EDB9-4D1B-B15F-82D3BB6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5E23-9281-48BE-9D4D-4705E26D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6D8D-6B34-457B-9AA1-87CE8457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EDA5-1379-4F39-A49A-DEC5FCF1B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E46C6-D00D-4EB1-9B1C-9A28BC48E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0D49-77BB-4899-8044-6036973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000B-9364-497C-8109-DBD7E41C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EF0F-D791-4166-8D19-B14E9AD9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3326-1B2D-4AD7-956F-CE3C3078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CF4-5FE2-4559-890E-8FAAD704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8F2D-8E51-424C-BD2C-06DC8422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C162-4325-4A9A-A80F-9EAB788D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BB0D-6658-4FA8-8DE4-F30D63D8BB1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2C22-1782-4B9B-AD8E-8A47AE6D47A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43000" y="160020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3.3.1  </a:t>
            </a: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等比数列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35812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通项公式及性质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493560" y="4495680"/>
          <a:ext cx="777564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495680"/>
                    <a:ext cx="777564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" name=""/>
          <p:cNvGrpSpPr/>
          <p:nvPr/>
        </p:nvGrpSpPr>
        <p:grpSpPr>
          <a:xfrm>
            <a:off x="228600" y="304920"/>
            <a:ext cx="8610480" cy="3417840"/>
            <a:chOff x="228600" y="304920"/>
            <a:chExt cx="8610480" cy="3417840"/>
          </a:xfrm>
        </p:grpSpPr>
        <p:sp>
          <p:nvSpPr>
            <p:cNvPr id="86" name=""/>
            <p:cNvSpPr/>
            <p:nvPr/>
          </p:nvSpPr>
          <p:spPr>
            <a:xfrm>
              <a:off x="228600" y="304920"/>
              <a:ext cx="8610480" cy="28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1.</a:t>
              </a: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等比数列：如果一个数列从第二项起，每一项与它前一项的比都等于同一个常数，则这个数列叫等比数列。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这个常数叫等比数列的公比，用</a:t>
              </a:r>
              <a:r>
                <a:rPr b="1" lang="zh-CN" sz="3600" spc="-1" strike="noStrike">
                  <a:solidFill>
                    <a:srgbClr val="cc3300"/>
                  </a:solidFill>
                  <a:latin typeface="Times New Roman"/>
                  <a:ea typeface="楷体_GB2312"/>
                </a:rPr>
                <a:t>                </a:t>
              </a:r>
              <a:r>
                <a:rPr b="1" lang="zh-CN" sz="3600" spc="-1" strike="noStrike">
                  <a:solidFill>
                    <a:srgbClr val="cc3300"/>
                  </a:solidFill>
                  <a:latin typeface="Arial"/>
                </a:rPr>
                <a:t>表示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6781680" y="2971800"/>
                  <a:ext cx="1762200" cy="750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q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6095880" y="1295280"/>
                  <a:ext cx="1981440" cy="160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r>
                        <m:t xml:space="preserve">q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04640" y="228600"/>
                <a:ext cx="4373640" cy="597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通项公式的推导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q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  <m:e>
                        <m:r>
                          <m:t xml:space="preserve">…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724280" y="4343400"/>
                <a:ext cx="327672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04920" y="380880"/>
                <a:ext cx="8640720" cy="428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通项公式的推导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，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…</m:t>
                        </m:r>
                        <m:r>
                          <m:t xml:space="preserve">…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共有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个式子，将两边分别相乘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438280" y="4648320"/>
                <a:ext cx="434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3049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等比中项：如果三个数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</a:rPr>
              <a:t>x,G,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组成等比数列，则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</a:rPr>
              <a:t>G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叫做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的等比中项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80880" y="1924200"/>
                <a:ext cx="751212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G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⇒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⇒</m:t>
                    </m:r>
                    <m:r>
                      <m:t xml:space="preserve">G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304920" y="3352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两个正数（或负数）的等比中项有两个，它们互为相反数，一正一负数没有等比中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24000" y="507960"/>
          <a:ext cx="79596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507960"/>
                    <a:ext cx="79596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228600" y="3886200"/>
          <a:ext cx="8381880" cy="2063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886200"/>
                    <a:ext cx="838188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250920" y="2133720"/>
          <a:ext cx="7094520" cy="16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0920" y="2133720"/>
                    <a:ext cx="70945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4T05:17:07Z</dcterms:created>
  <dc:creator/>
  <dc:description/>
  <dc:language>en-US</dc:language>
  <cp:lastModifiedBy>微软用户</cp:lastModifiedBy>
  <dcterms:modified xsi:type="dcterms:W3CDTF">2014-02-28T02:02:48Z</dcterms:modified>
  <cp:revision>184</cp:revision>
  <dc:subject/>
  <dc:title>幻灯片 1</dc:title>
</cp:coreProperties>
</file>