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6CF-9A54-4952-B82E-80A94CF4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B8C-C0BA-4FF6-8A4F-E5307950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151B-30AC-4D15-8B3A-3741C6342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2954-7810-48E0-8836-B63C4BE8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5C824-821A-4C40-8A23-7C93901A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19A4A-82FC-4628-8BB7-6AC16F99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26C0-E4C2-49F9-9659-0C54543B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B321-0479-41DC-B1F4-733FC45D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32FB-A25E-4392-8A15-BC42BA96E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AF40-45E9-45EC-B493-34858448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54A1-EC92-4AD5-80A8-BE299BF5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5AA-171C-4369-B67A-B2B6EE36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C408-8958-481D-AD65-66AC2073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A2FC-AAB5-4D2E-8C22-ED9223DC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4DA2-372B-4018-9BD0-ADC5C43E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E559-919B-498A-BEA2-41C609B5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186B-30EA-4409-B503-3A173D34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517-CF28-49DC-8532-C607D4AD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0D22-69A5-4736-847B-F2848B99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5C1-888F-4F84-B042-F8FFB407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E808-1A01-4A21-BA85-CF1A65E0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03F-9E97-415B-A4AB-999F8F1F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553-5456-4C6E-BF02-4E4A406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5C44-5F65-4A50-834D-78FAC69E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99FC-377F-4A22-BD87-5D2DA17BFB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749C-F34B-404D-880F-DF28DAB90026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09480" y="167652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 </a:t>
            </a:r>
            <a:r>
              <a:rPr b="1" lang="zh-CN" sz="8000" spc="-1" strike="noStrike">
                <a:solidFill>
                  <a:srgbClr val="003399"/>
                </a:solidFill>
                <a:latin typeface="Arial"/>
                <a:ea typeface="隶书"/>
              </a:rPr>
              <a:t>总体分布的估计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066680" y="365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苏州幼儿师范高等专科学校理科教研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0880" y="838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一般地 </a:t>
            </a:r>
            <a:r>
              <a:rPr b="1" lang="en-US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编制频率分布表的步骤如下 </a:t>
            </a:r>
            <a:r>
              <a:rPr b="1" lang="en-US" sz="28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80880" y="1752480"/>
            <a:ext cx="87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1 )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求全距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决定组数和组距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组距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=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全距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/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组数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80880" y="3200400"/>
            <a:ext cx="87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2 )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分组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通常对组内数值所在区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取左闭右开区间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最后一组取闭区间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57200" y="46483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 3 ) 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登记频数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计算频率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列出频率分布表 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1" name="Picture 2" descr="D:\UserData\Administrator\桌面\20130318_082857.jpg"/>
          <p:cNvPicPr/>
          <p:nvPr/>
        </p:nvPicPr>
        <p:blipFill>
          <a:blip r:embed="rId1"/>
          <a:stretch/>
        </p:blipFill>
        <p:spPr>
          <a:xfrm>
            <a:off x="0" y="0"/>
            <a:ext cx="9468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304920" y="106668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、一个容量为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的样本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数据的分组和各组的相关信息如下表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试完成表中每一行的两个空格</a:t>
            </a:r>
            <a:r>
              <a:rPr b="1" lang="en-US" sz="28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3800" y="2611440"/>
            <a:ext cx="23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31840" y="2136600"/>
          <a:ext cx="8351640" cy="4143600"/>
        </p:xfrm>
        <a:graphic>
          <a:graphicData uri="http://schemas.openxmlformats.org/drawingml/2006/table">
            <a:tbl>
              <a:tblPr/>
              <a:tblGrid>
                <a:gridCol w="2089080"/>
                <a:gridCol w="2089080"/>
                <a:gridCol w="2084400"/>
                <a:gridCol w="2089080"/>
              </a:tblGrid>
              <a:tr h="41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分组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频数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频率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 </a:t>
                      </a:r>
                      <a:r>
                        <a:rPr b="0" lang="zh-CN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频率累计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[12,15)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6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[15,18)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0.08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[18,21)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0.30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[21,24)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21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[24,27)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0.69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[27,30)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16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[30,33)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0.10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[33,36]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1.00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合计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100" spc="-1" strike="noStrike">
                          <a:solidFill>
                            <a:srgbClr val="007a77"/>
                          </a:solidFill>
                          <a:latin typeface="Verdana"/>
                        </a:rPr>
                        <a:t>1.00</a:t>
                      </a:r>
                      <a:endParaRPr b="0" lang="en-US" sz="21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63"/>
          <p:cNvSpPr/>
          <p:nvPr/>
        </p:nvSpPr>
        <p:spPr>
          <a:xfrm>
            <a:off x="380880" y="380880"/>
            <a:ext cx="335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ahoma"/>
                <a:ea typeface="隶书"/>
              </a:rPr>
              <a:t>练 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65"/>
          <p:cNvSpPr/>
          <p:nvPr/>
        </p:nvSpPr>
        <p:spPr>
          <a:xfrm>
            <a:off x="4925880" y="25178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0.0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Text Box 66"/>
          <p:cNvSpPr/>
          <p:nvPr/>
        </p:nvSpPr>
        <p:spPr>
          <a:xfrm>
            <a:off x="7059600" y="25178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0.0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Text Box 67"/>
          <p:cNvSpPr/>
          <p:nvPr/>
        </p:nvSpPr>
        <p:spPr>
          <a:xfrm>
            <a:off x="3173400" y="297504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8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68"/>
          <p:cNvSpPr/>
          <p:nvPr/>
        </p:nvSpPr>
        <p:spPr>
          <a:xfrm>
            <a:off x="7059600" y="2898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0.1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69"/>
          <p:cNvSpPr/>
          <p:nvPr/>
        </p:nvSpPr>
        <p:spPr>
          <a:xfrm>
            <a:off x="5002200" y="3355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0.1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70"/>
          <p:cNvSpPr/>
          <p:nvPr/>
        </p:nvSpPr>
        <p:spPr>
          <a:xfrm>
            <a:off x="3097080" y="3355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1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71"/>
          <p:cNvSpPr/>
          <p:nvPr/>
        </p:nvSpPr>
        <p:spPr>
          <a:xfrm>
            <a:off x="5002200" y="3736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0.2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72"/>
          <p:cNvSpPr/>
          <p:nvPr/>
        </p:nvSpPr>
        <p:spPr>
          <a:xfrm>
            <a:off x="7059600" y="3736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0.5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73"/>
          <p:cNvSpPr/>
          <p:nvPr/>
        </p:nvSpPr>
        <p:spPr>
          <a:xfrm>
            <a:off x="5002200" y="4194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0.18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74"/>
          <p:cNvSpPr/>
          <p:nvPr/>
        </p:nvSpPr>
        <p:spPr>
          <a:xfrm>
            <a:off x="3021120" y="4194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18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75"/>
          <p:cNvSpPr/>
          <p:nvPr/>
        </p:nvSpPr>
        <p:spPr>
          <a:xfrm>
            <a:off x="5002200" y="4575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0.1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Text Box 76"/>
          <p:cNvSpPr/>
          <p:nvPr/>
        </p:nvSpPr>
        <p:spPr>
          <a:xfrm>
            <a:off x="7059600" y="4575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0.8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77"/>
          <p:cNvSpPr/>
          <p:nvPr/>
        </p:nvSpPr>
        <p:spPr>
          <a:xfrm>
            <a:off x="3097080" y="503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1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78"/>
          <p:cNvSpPr/>
          <p:nvPr/>
        </p:nvSpPr>
        <p:spPr>
          <a:xfrm>
            <a:off x="7059600" y="50324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0.9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Text Box 79"/>
          <p:cNvSpPr/>
          <p:nvPr/>
        </p:nvSpPr>
        <p:spPr>
          <a:xfrm>
            <a:off x="5002200" y="5413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0.0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Text Box 80"/>
          <p:cNvSpPr/>
          <p:nvPr/>
        </p:nvSpPr>
        <p:spPr>
          <a:xfrm>
            <a:off x="3249720" y="5413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楷体_GB2312"/>
              </a:rPr>
              <a:t>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250920" y="75096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．下表给出了某校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500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名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岁男孩中用随机抽样得出的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120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人的身高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单位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:</a:t>
            </a:r>
            <a:r>
              <a:rPr b="1" i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cm</a:t>
            </a:r>
            <a:r>
              <a:rPr b="1" lang="en-US" sz="2800" spc="-1" strike="noStrike">
                <a:solidFill>
                  <a:srgbClr val="0033cc"/>
                </a:solidFill>
                <a:latin typeface="华文中宋"/>
                <a:ea typeface="华文中宋"/>
              </a:rPr>
              <a:t>)</a:t>
            </a:r>
            <a:r>
              <a:rPr b="1" lang="en-US" sz="24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7" name="Picture 7" descr=""/>
          <p:cNvPicPr/>
          <p:nvPr/>
        </p:nvPicPr>
        <p:blipFill>
          <a:blip r:embed="rId1"/>
          <a:stretch/>
        </p:blipFill>
        <p:spPr>
          <a:xfrm>
            <a:off x="165240" y="1781280"/>
            <a:ext cx="8748720" cy="192240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324000" y="370368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(1)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列出样本频率分布表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﹔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(2)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估计身高小于</a:t>
            </a:r>
            <a:r>
              <a:rPr b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134</a:t>
            </a:r>
            <a:r>
              <a:rPr b="1" i="1" lang="en-US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cm</a:t>
            </a:r>
            <a:r>
              <a:rPr b="1" lang="zh-CN" sz="3200" spc="-1" strike="noStrike">
                <a:solidFill>
                  <a:srgbClr val="0033cc"/>
                </a:solidFill>
                <a:latin typeface="华文中宋"/>
                <a:ea typeface="华文中宋"/>
              </a:rPr>
              <a:t>的人数占总人数的百分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0" y="5288040"/>
            <a:ext cx="896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华文中宋"/>
              </a:rPr>
              <a:t>分析：根据列样本频率分布表的一般步骤解题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179280" y="46980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华文中宋"/>
              </a:rPr>
              <a:t>解：（１）样本频率分布表如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181080" y="1117440"/>
          <a:ext cx="4867200" cy="51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1117440"/>
                    <a:ext cx="486720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4"/>
          <p:cNvSpPr/>
          <p:nvPr/>
        </p:nvSpPr>
        <p:spPr>
          <a:xfrm>
            <a:off x="5292720" y="1190520"/>
            <a:ext cx="36720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由样本频率分布表可知身高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Arial"/>
              </a:rPr>
              <a:t>小于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134cm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男孩出现的频率为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04+0.07+0.08=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1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所以我们估计身高小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34cm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人数占总人数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%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04920" y="380880"/>
            <a:ext cx="3851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回顾小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79280" y="11350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总体分布的频率、频数的概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179280" y="2143080"/>
            <a:ext cx="76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制频率分布表的一般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0" y="3002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求全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决定组数和组距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全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整个取值区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长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组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指分成的区间的长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0" y="4154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组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常对组内的数值所在的区间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左闭右开区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一组取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闭区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0" y="54500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登记频数，计算频率，列出频率分布表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447920" y="23623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本节课所学知识，设计一个幼儿园活动，以生日为主题，让小朋友调查全班同学生日的月份，在初步收集数据的基础上，学做图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04920" y="144792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知识与实践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219320" y="1828800"/>
            <a:ext cx="28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布置作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8000" y="1066680"/>
            <a:ext cx="88567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56196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188360" y="989280"/>
            <a:ext cx="341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华文行楷"/>
                <a:ea typeface="华文行楷"/>
              </a:rPr>
              <a:t>1.</a:t>
            </a:r>
            <a:r>
              <a:rPr b="0" lang="zh-CN" sz="3600" spc="-1" strike="noStrike">
                <a:solidFill>
                  <a:srgbClr val="003399"/>
                </a:solidFill>
                <a:latin typeface="华文行楷"/>
                <a:ea typeface="华文行楷"/>
              </a:rPr>
              <a:t>统计的基本思想方法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304920" y="1812960"/>
            <a:ext cx="8642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用样本估计总体，即通常不直接去研究总体，而是通过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从总体中抽取一个样本</a:t>
            </a:r>
            <a:r>
              <a:rPr b="0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根据样本的情况去估计总体的相应情况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04920" y="29718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华文行楷"/>
              </a:rPr>
              <a:t>2.</a:t>
            </a:r>
            <a:r>
              <a:rPr b="0" lang="zh-CN" sz="3600" spc="-1" strike="noStrike">
                <a:solidFill>
                  <a:srgbClr val="003399"/>
                </a:solidFill>
                <a:latin typeface="Arial"/>
                <a:ea typeface="华文行楷"/>
              </a:rPr>
              <a:t>统计的核心问题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04920" y="365760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华文新魏"/>
                <a:ea typeface="华文新魏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如何根据样本的情况对总体的情况作出一种推断</a:t>
            </a:r>
            <a:r>
              <a:rPr b="0" lang="en-US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.  </a:t>
            </a:r>
            <a:r>
              <a:rPr b="0" lang="zh-CN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这里包括两类问题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62120" y="48006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一类是如何从总体中抽取样本</a:t>
            </a:r>
            <a:r>
              <a:rPr b="0" lang="en-US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04920" y="541008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另一类是如何根据对样本的整理、计算、分析</a:t>
            </a:r>
            <a:r>
              <a:rPr b="1" lang="en-US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　对总体的情况作出推断</a:t>
            </a:r>
            <a:r>
              <a:rPr b="0" lang="en-US" sz="2800" spc="-1" strike="noStrike">
                <a:solidFill>
                  <a:srgbClr val="003399"/>
                </a:solidFill>
                <a:latin typeface="华文新魏"/>
                <a:ea typeface="华文新魏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380880" y="380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66ff"/>
                </a:solidFill>
                <a:latin typeface="Arial"/>
                <a:ea typeface="华文新魏"/>
              </a:rPr>
              <a:t>复习回顾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3"/>
          <p:cNvSpPr txBox="1"/>
          <p:nvPr/>
        </p:nvSpPr>
        <p:spPr>
          <a:xfrm>
            <a:off x="1066680" y="1981080"/>
            <a:ext cx="6934320" cy="174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频率分布表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76320" y="45720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知识新授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76320" y="9907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频数与频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04920" y="1523880"/>
            <a:ext cx="889308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频数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是指一组数据中，某范围内的数据出现的次数；把频数除以数据的总个数，就得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频率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0920" y="25653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频率分布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380880" y="3336120"/>
            <a:ext cx="856008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当总体很大或不便于获得时，可以用样本的频率分布估计总体的频率分布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我们把反映总体频率分布的表格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频率分布表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946520" y="4648320"/>
            <a:ext cx="487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说明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样本频率分布与总体频率分布有什么关系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04920" y="54100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完全相同，但通过样本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频数分布、频率分布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可以估计总体的频率分布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152280" y="533520"/>
            <a:ext cx="88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从某校高一年级的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1002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名新生中用系统抽样的方法抽取一个容量为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的身高样本，数据如下（单位：</a:t>
            </a:r>
            <a:r>
              <a:rPr b="1" lang="en-US" sz="2400" spc="-1" strike="noStrike">
                <a:solidFill>
                  <a:srgbClr val="3366ff"/>
                </a:solidFill>
                <a:latin typeface="Times New Roman"/>
              </a:rPr>
              <a:t>cm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</a:rPr>
              <a:t>）．试作出该样本的频率分布表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1832040"/>
          <a:ext cx="7956360" cy="4599000"/>
        </p:xfrm>
        <a:graphic>
          <a:graphicData uri="http://schemas.openxmlformats.org/drawingml/2006/table">
            <a:tbl>
              <a:tblPr/>
              <a:tblGrid>
                <a:gridCol w="795240"/>
                <a:gridCol w="795240"/>
                <a:gridCol w="797040"/>
                <a:gridCol w="795240"/>
                <a:gridCol w="795600"/>
                <a:gridCol w="795240"/>
                <a:gridCol w="795240"/>
                <a:gridCol w="797040"/>
                <a:gridCol w="795240"/>
                <a:gridCol w="7952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50920" y="1266120"/>
            <a:ext cx="8893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S1  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计算数据中最大值与最小值的差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（极差），确定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全距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S2  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根据全距，决定组数和组距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S3   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分组：通常对组内数据所在区间取左闭右开区间，最后一组取闭区间，且使分点比数据多一位小数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S4    </a:t>
            </a: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登记频数，计算频率，列出频率分布表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11280" y="615960"/>
          <a:ext cx="7956360" cy="4599000"/>
        </p:xfrm>
        <a:graphic>
          <a:graphicData uri="http://schemas.openxmlformats.org/drawingml/2006/table">
            <a:tbl>
              <a:tblPr/>
              <a:tblGrid>
                <a:gridCol w="795240"/>
                <a:gridCol w="795240"/>
                <a:gridCol w="797040"/>
                <a:gridCol w="795240"/>
                <a:gridCol w="795600"/>
                <a:gridCol w="795240"/>
                <a:gridCol w="795240"/>
                <a:gridCol w="797040"/>
                <a:gridCol w="795240"/>
                <a:gridCol w="7952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0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9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7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2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4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6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125"/>
          <p:cNvSpPr/>
          <p:nvPr/>
        </p:nvSpPr>
        <p:spPr>
          <a:xfrm>
            <a:off x="228600" y="53330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S1  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计算数据中最大值与最小值的差（极差），确定全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Oval 126"/>
          <p:cNvSpPr/>
          <p:nvPr/>
        </p:nvSpPr>
        <p:spPr>
          <a:xfrm>
            <a:off x="639720" y="2346480"/>
            <a:ext cx="72072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Oval 127"/>
          <p:cNvSpPr/>
          <p:nvPr/>
        </p:nvSpPr>
        <p:spPr>
          <a:xfrm>
            <a:off x="4572000" y="3282840"/>
            <a:ext cx="720720" cy="647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128"/>
          <p:cNvSpPr/>
          <p:nvPr/>
        </p:nvSpPr>
        <p:spPr>
          <a:xfrm>
            <a:off x="228600" y="586728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极差＝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－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51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129"/>
          <p:cNvSpPr/>
          <p:nvPr/>
        </p:nvSpPr>
        <p:spPr>
          <a:xfrm>
            <a:off x="7086600" y="5867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全距＝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130"/>
          <p:cNvSpPr/>
          <p:nvPr/>
        </p:nvSpPr>
        <p:spPr>
          <a:xfrm>
            <a:off x="3429000" y="586728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取值区间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[150.5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80.5]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252360" y="1341360"/>
            <a:ext cx="86407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组距和组数与数据的数量有关．一般数据较多，分的组数也多；数据较少，分的组数也少．当数据个数在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以内，分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~8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组；当数据个数在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50~10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之间，分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8~12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组．应当注意的是如果组内没有数据出现，就应当放宽组距，保证每个组内都有数据，且每个数据只属于确定的一组．在决定组数时，往往不是一次就能成功的，要有一个观察、尝试的过程，一般分点比已知数据多一位小数，并且第一组的起点要稍稍减小．只有合理地确定组距与组数，才能使数据分布的规律性比较明显地呈现出来；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053720" y="765000"/>
            <a:ext cx="323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S2  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根据全距，决定组数和组距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95280" y="5229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组数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627280" y="52293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组距＝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03120" y="4572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S3    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分组：通常对组内数据所在区间取左闭右开区间，最后一组取闭区间，且使分点比数据多一位小数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9600" y="1511280"/>
          <a:ext cx="6915240" cy="4773600"/>
        </p:xfrm>
        <a:graphic>
          <a:graphicData uri="http://schemas.openxmlformats.org/drawingml/2006/table">
            <a:tbl>
              <a:tblPr/>
              <a:tblGrid>
                <a:gridCol w="1933560"/>
                <a:gridCol w="1930320"/>
                <a:gridCol w="1359000"/>
                <a:gridCol w="16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分　组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dc5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频数累计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dc5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频　数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dc5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频　率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dc5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[150.5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3.5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[153.5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6.5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[156.5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59.5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[159.5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2.5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[162.5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5.5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[165.5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68.5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[168.5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1.5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[171.5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4.5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[174.5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77.5)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[177.5</a:t>
                      </a: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80.5]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合     计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9" name="Group 72"/>
          <p:cNvGrpSpPr/>
          <p:nvPr/>
        </p:nvGrpSpPr>
        <p:grpSpPr>
          <a:xfrm>
            <a:off x="2247840" y="1981080"/>
            <a:ext cx="1881360" cy="3933720"/>
            <a:chOff x="2247840" y="1981080"/>
            <a:chExt cx="1881360" cy="3933720"/>
          </a:xfrm>
        </p:grpSpPr>
        <p:pic>
          <p:nvPicPr>
            <p:cNvPr id="130" name="Picture 71" descr=""/>
            <p:cNvPicPr/>
            <p:nvPr/>
          </p:nvPicPr>
          <p:blipFill>
            <a:blip r:embed="rId1"/>
            <a:stretch/>
          </p:blipFill>
          <p:spPr>
            <a:xfrm>
              <a:off x="3557520" y="1981080"/>
              <a:ext cx="3524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72" descr=""/>
            <p:cNvPicPr/>
            <p:nvPr/>
          </p:nvPicPr>
          <p:blipFill>
            <a:blip r:embed="rId2"/>
            <a:stretch/>
          </p:blipFill>
          <p:spPr>
            <a:xfrm>
              <a:off x="3419280" y="2400120"/>
              <a:ext cx="66672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73" descr=""/>
            <p:cNvPicPr/>
            <p:nvPr/>
          </p:nvPicPr>
          <p:blipFill>
            <a:blip r:embed="rId3"/>
            <a:stretch/>
          </p:blipFill>
          <p:spPr>
            <a:xfrm>
              <a:off x="3405240" y="2759040"/>
              <a:ext cx="666720" cy="34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74" descr=""/>
            <p:cNvPicPr/>
            <p:nvPr/>
          </p:nvPicPr>
          <p:blipFill>
            <a:blip r:embed="rId4"/>
            <a:stretch/>
          </p:blipFill>
          <p:spPr>
            <a:xfrm>
              <a:off x="3016080" y="3163680"/>
              <a:ext cx="102888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5" descr=""/>
            <p:cNvPicPr/>
            <p:nvPr/>
          </p:nvPicPr>
          <p:blipFill>
            <a:blip r:embed="rId5"/>
            <a:stretch/>
          </p:blipFill>
          <p:spPr>
            <a:xfrm>
              <a:off x="2247840" y="3565440"/>
              <a:ext cx="1866960" cy="44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76" descr=""/>
            <p:cNvPicPr/>
            <p:nvPr/>
          </p:nvPicPr>
          <p:blipFill>
            <a:blip r:embed="rId6"/>
            <a:stretch/>
          </p:blipFill>
          <p:spPr>
            <a:xfrm>
              <a:off x="2671560" y="3970080"/>
              <a:ext cx="14576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77" descr=""/>
            <p:cNvPicPr/>
            <p:nvPr/>
          </p:nvPicPr>
          <p:blipFill>
            <a:blip r:embed="rId7"/>
            <a:stretch/>
          </p:blipFill>
          <p:spPr>
            <a:xfrm>
              <a:off x="3060720" y="4357440"/>
              <a:ext cx="99036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78" descr=""/>
            <p:cNvPicPr/>
            <p:nvPr/>
          </p:nvPicPr>
          <p:blipFill>
            <a:blip r:embed="rId8"/>
            <a:stretch/>
          </p:blipFill>
          <p:spPr>
            <a:xfrm>
              <a:off x="3392280" y="4760640"/>
              <a:ext cx="6289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79" descr=""/>
            <p:cNvPicPr/>
            <p:nvPr/>
          </p:nvPicPr>
          <p:blipFill>
            <a:blip r:embed="rId9"/>
            <a:stretch/>
          </p:blipFill>
          <p:spPr>
            <a:xfrm>
              <a:off x="3693960" y="5165640"/>
              <a:ext cx="35244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80" descr=""/>
            <p:cNvPicPr/>
            <p:nvPr/>
          </p:nvPicPr>
          <p:blipFill>
            <a:blip r:embed="rId10"/>
            <a:stretch/>
          </p:blipFill>
          <p:spPr>
            <a:xfrm>
              <a:off x="3679920" y="5581440"/>
              <a:ext cx="323640" cy="3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0" name="Text Box 81"/>
          <p:cNvSpPr/>
          <p:nvPr/>
        </p:nvSpPr>
        <p:spPr>
          <a:xfrm>
            <a:off x="4416480" y="189216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82"/>
          <p:cNvSpPr/>
          <p:nvPr/>
        </p:nvSpPr>
        <p:spPr>
          <a:xfrm>
            <a:off x="4416480" y="230652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83"/>
          <p:cNvSpPr/>
          <p:nvPr/>
        </p:nvSpPr>
        <p:spPr>
          <a:xfrm>
            <a:off x="4416480" y="26370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84"/>
          <p:cNvSpPr/>
          <p:nvPr/>
        </p:nvSpPr>
        <p:spPr>
          <a:xfrm>
            <a:off x="4416480" y="306864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85"/>
          <p:cNvSpPr/>
          <p:nvPr/>
        </p:nvSpPr>
        <p:spPr>
          <a:xfrm>
            <a:off x="4416480" y="34290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86"/>
          <p:cNvSpPr/>
          <p:nvPr/>
        </p:nvSpPr>
        <p:spPr>
          <a:xfrm>
            <a:off x="4416480" y="386064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87"/>
          <p:cNvSpPr/>
          <p:nvPr/>
        </p:nvSpPr>
        <p:spPr>
          <a:xfrm>
            <a:off x="4416480" y="4249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88"/>
          <p:cNvSpPr/>
          <p:nvPr/>
        </p:nvSpPr>
        <p:spPr>
          <a:xfrm>
            <a:off x="4416480" y="46530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89"/>
          <p:cNvSpPr/>
          <p:nvPr/>
        </p:nvSpPr>
        <p:spPr>
          <a:xfrm>
            <a:off x="4416480" y="504180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90"/>
          <p:cNvSpPr/>
          <p:nvPr/>
        </p:nvSpPr>
        <p:spPr>
          <a:xfrm>
            <a:off x="4416480" y="541656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91"/>
          <p:cNvSpPr/>
          <p:nvPr/>
        </p:nvSpPr>
        <p:spPr>
          <a:xfrm>
            <a:off x="5857920" y="18446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.0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92"/>
          <p:cNvSpPr/>
          <p:nvPr/>
        </p:nvSpPr>
        <p:spPr>
          <a:xfrm>
            <a:off x="5857920" y="22766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.08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93"/>
          <p:cNvSpPr/>
          <p:nvPr/>
        </p:nvSpPr>
        <p:spPr>
          <a:xfrm>
            <a:off x="5857920" y="26370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.08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94"/>
          <p:cNvSpPr/>
          <p:nvPr/>
        </p:nvSpPr>
        <p:spPr>
          <a:xfrm>
            <a:off x="5857920" y="30686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.1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95"/>
          <p:cNvSpPr/>
          <p:nvPr/>
        </p:nvSpPr>
        <p:spPr>
          <a:xfrm>
            <a:off x="5857920" y="34290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96"/>
          <p:cNvSpPr/>
          <p:nvPr/>
        </p:nvSpPr>
        <p:spPr>
          <a:xfrm>
            <a:off x="5857920" y="386064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.19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97"/>
          <p:cNvSpPr/>
          <p:nvPr/>
        </p:nvSpPr>
        <p:spPr>
          <a:xfrm>
            <a:off x="5857920" y="42210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.1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98"/>
          <p:cNvSpPr/>
          <p:nvPr/>
        </p:nvSpPr>
        <p:spPr>
          <a:xfrm>
            <a:off x="5857920" y="45813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.07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99"/>
          <p:cNvSpPr/>
          <p:nvPr/>
        </p:nvSpPr>
        <p:spPr>
          <a:xfrm>
            <a:off x="5857920" y="50133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.0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100"/>
          <p:cNvSpPr/>
          <p:nvPr/>
        </p:nvSpPr>
        <p:spPr>
          <a:xfrm>
            <a:off x="5857920" y="54450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0.03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111"/>
          <p:cNvSpPr/>
          <p:nvPr/>
        </p:nvSpPr>
        <p:spPr>
          <a:xfrm>
            <a:off x="4416480" y="58341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112"/>
          <p:cNvSpPr/>
          <p:nvPr/>
        </p:nvSpPr>
        <p:spPr>
          <a:xfrm>
            <a:off x="5842080" y="582444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7224840" y="1506600"/>
          <a:ext cx="1692000" cy="4765680"/>
        </p:xfrm>
        <a:graphic>
          <a:graphicData uri="http://schemas.openxmlformats.org/drawingml/2006/table">
            <a:tbl>
              <a:tblPr/>
              <a:tblGrid>
                <a:gridCol w="169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累计频率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solidFill>
                      <a:srgbClr val="dc59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.0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.1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.3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.5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.7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.86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.9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.97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1.0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2:26:32Z</dcterms:created>
  <dc:creator/>
  <dc:description/>
  <cp:keywords/>
  <dc:language>en-US</dc:language>
  <cp:lastModifiedBy>Administrator</cp:lastModifiedBy>
  <dcterms:modified xsi:type="dcterms:W3CDTF">2021-04-06T02:50:01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