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DD18-6E67-44B2-9C13-C1CA13756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D4A3-AF3C-455D-B1EA-71102D2F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6B7A-8588-40FE-9C83-6B360C12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4FB-0F77-4DA4-ACE8-B69301E3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24FD-0037-4E0A-989A-1268179B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EB2A-1722-4802-9ECF-53C94955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5197-2C98-4E90-B629-E5A85EF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54AE-913B-4085-9E51-7506D041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B936-7096-431B-B77A-3BFB37C6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E9C3-264E-44A6-B2A4-0B9B3129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CCD3-2EC4-41D8-BA3E-BE6EB84B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41EF-9FD5-4100-BA80-4B198C26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F2CA-0D2F-45A9-8126-5F4A909C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2489-D5F8-406D-96A7-F545B7DA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E9B-9401-4144-BEA3-11D2F368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B2AE-A5C4-4A60-9B10-9A0317A65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2018-7724-4EFB-AAE5-2EDC0AF0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8B5-AD2D-422C-B22A-1D4A3767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E47A-5D8F-4B6D-904E-7EF15D66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73F-1253-434D-96D4-749FFE91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FB-0B25-4E56-B8AF-3023287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C99-B53C-43D5-8FA6-35CA61C0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5EA-84B5-4030-A0E2-A9F499B2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383-A957-4D6D-B0B3-993518AF9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64EBE-629F-42D3-839E-7E209B5D9A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DB78-E31C-4D4F-A1F4-F87C0FDE2D96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30040" y="914400"/>
            <a:ext cx="830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问题　（１）从甲地去乙地，可以乘火车，也可以乘汽车，一天中火车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班，汽车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班，那么一天中，乘坐这些交通工具从甲地到乙地共有多少种不同的走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717480" indent="-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２）从甲地到乙地，在一天中，要从甲地先乘火车到丙地，再从丙地乘汽车到乙地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一天中，火车有３班，汽车有２班，那么在一天中，从甲地到乙地共有多少种不同的走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85800" y="5029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比较上面的两个问题，有什么联系与区别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30040" y="838080"/>
            <a:ext cx="830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２：一个三层书架的上层放有５本不同的数学书，中层放有３本不同的语文书，下层放有２本不同的英语书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现从中任取一本书，问有多少种不同的取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现从中取出数学、语文、英语书各一本，问有多少种不同的取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320" y="290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书架上取 数学、语文、英语书各一本，可以分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取数学书一本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取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取语文书一本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取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取英语书一本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取法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由分步计数原理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=3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从书架上任取数学、语文、英语书各一本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取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6320" y="6858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：用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这五个数字可以组成多少个无重复数字的：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银行存折的四位密码？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四位数？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四位奇数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7760" y="2057400"/>
            <a:ext cx="914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完成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组成无重复数字的四位密码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这件事，可以分四个步骤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 选取左边第一个位置上的数字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 选取左边第二个位置上的数字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 选取左边第三个位置上的数字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步 选取左边第个四位置上的数字，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由分步计数原理得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=120(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04920" y="480060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答：用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这五个数字可以组成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2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个无重复数字的银行存折的四位密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52280" y="533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：用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这五个数字可以组成多少个无重复数字的：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银行存折的四位密码？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四位数？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四位奇数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28600" y="1828800"/>
            <a:ext cx="861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）完成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组成无重复数字的四位数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这件事，可以分四个步骤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选取一个数字做千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剩余的三个数字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共四个数字中选取一个数字做百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剩余的三个数字中选取一个数字做十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剩余的两个数字中选取一个数字做个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由分步计数原理，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=4×4×3×2=96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（个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304920" y="51814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答：用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这五个数字可以组成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96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个无重复数字的四位数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8000" y="689040"/>
            <a:ext cx="88567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0" y="184320"/>
            <a:ext cx="9144000" cy="63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76320" y="1143000"/>
            <a:ext cx="8610480" cy="31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）完成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组成无重复数字的四位奇数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这件事，有两类办法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类办法 四位奇数的个位数字为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这件事分三个步骤完成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选取一个数字做千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剩余的两个数字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共三个数字中选取一个数字做百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剩余的两个数字中，选取一个数字做十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由分步计数原理，第一类中的四位奇数共有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000" spc="-1" strike="noStrike" baseline="-25000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=3×3×2=18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（个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类办法 四位奇数的个位取数字为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这件事分三个步骤完成：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选取一个数字做千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中剩余的两个数字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共三个数字中选取一个数字做百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步 从剩余的两个数字中，选取一个数字做十位数字，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种不同的选取方法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52280" y="45720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例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：用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这五个数字可以组成多少个无重复数字的：（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）银行存折的四位密码？（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）四位数？（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）四位奇数？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0" y="5337000"/>
            <a:ext cx="86104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由分步计数原理，第二类中的四位奇数共有 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</a:t>
            </a:r>
            <a:r>
              <a:rPr b="0" lang="zh-CN" sz="2000" spc="-1" strike="noStrike" baseline="-25000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 =3×3×2=18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（个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最后，由分类加法计数原理，符合条件的四位奇数共有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             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N=N</a:t>
            </a:r>
            <a:r>
              <a:rPr b="0" lang="zh-CN" sz="2000" spc="-1" strike="noStrike" baseline="-25000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+N</a:t>
            </a:r>
            <a:r>
              <a:rPr b="0" lang="zh-CN" sz="2000" spc="-1" strike="noStrike" baseline="-25000">
                <a:solidFill>
                  <a:srgbClr val="007a77"/>
                </a:solidFill>
                <a:latin typeface="宋体"/>
              </a:rPr>
              <a:t>2 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=18+18=36</a:t>
            </a:r>
            <a:r>
              <a:rPr b="0" lang="zh-CN" sz="2000" spc="-1" strike="noStrike">
                <a:solidFill>
                  <a:srgbClr val="007a77"/>
                </a:solidFill>
                <a:latin typeface="宋体"/>
              </a:rPr>
              <a:t>（个）</a:t>
            </a:r>
            <a:r>
              <a:rPr b="0" lang="zh-CN" sz="2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666880" y="762120"/>
            <a:ext cx="28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课堂小结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-247680" y="1073160"/>
            <a:ext cx="913752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4035600" y="39322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4162320" y="405936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4035600" y="379404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9" name="Picture 9" descr="QQ图片20140224125933"/>
          <p:cNvPicPr/>
          <p:nvPr/>
        </p:nvPicPr>
        <p:blipFill>
          <a:blip r:embed="rId1"/>
          <a:stretch/>
        </p:blipFill>
        <p:spPr>
          <a:xfrm>
            <a:off x="838080" y="2209680"/>
            <a:ext cx="7012080" cy="410544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0"/>
          <p:cNvSpPr/>
          <p:nvPr/>
        </p:nvSpPr>
        <p:spPr>
          <a:xfrm>
            <a:off x="2286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两个计数原理：分类计数原理和分布计数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09480" y="990720"/>
            <a:ext cx="28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课堂练习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09480" y="17524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在读书活动中，一个学生要从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本科技书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本政治书、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本文艺书里任选一本，共有多少种不同的选法？如果是从这三种不同的图书中各选一本，可以有多少种不同的选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0948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幼儿园大班的一名小朋友做加法游戏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在一个红口袋中装着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张分别标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红卡片，从中任意抽取一张，把卡片上的数作为被加数；在另一个黄口袋内装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张分别标有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的黄卡片，从中任意抽取一张，把卡片上的数作为加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问这名小朋友一共可以列出多少个不同的加法式子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447920" y="23623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结合本节课所学知识，设计一个幼儿园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糖果分类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活动（送糖果宝宝回家）。物品准备：自制糖果图片、篮筐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8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个，分别贴好颜色、大小等标记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920" y="1447920"/>
            <a:ext cx="350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知识与实践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2057400"/>
            <a:ext cx="285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ahoma"/>
                <a:ea typeface="隶书"/>
              </a:rPr>
              <a:t>布置作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28600" y="1219320"/>
            <a:ext cx="777096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隶书"/>
              </a:rPr>
              <a:t> </a:t>
            </a: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分类计数原理和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宋体"/>
              </a:rPr>
              <a:t>分步计数原理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295280" y="42670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Arial"/>
              </a:rPr>
              <a:t>苏州幼儿师范高等专科学校理科教研室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914400" y="2514600"/>
          <a:ext cx="324792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14600"/>
                    <a:ext cx="32479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3"/>
          <p:cNvSpPr/>
          <p:nvPr/>
        </p:nvSpPr>
        <p:spPr>
          <a:xfrm>
            <a:off x="4114800" y="297180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3+2=5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4960" y="609480"/>
            <a:ext cx="838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１）从甲地去乙地，可以乘火车，也可以乘汽车，一天中火车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3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班，汽车有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班，那么一天中，乘坐这些交通工具从甲地到乙地共有多少种不同的走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80880" y="1752480"/>
            <a:ext cx="868680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做一件事，完成它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类办法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,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在第一类办法中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，在第二类办法中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在第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类办法中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中不同的方法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那么完成这件事共有：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+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这个原理也叫加法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2860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分类计数原理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33520" y="48006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加法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6320" y="762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71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（２）从甲地到乙地，在一天中，要从甲地先乘火车到丙地，再从丙地乘汽车到乙地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一天中，火车有３班，汽车有２班，那么在一天中，从甲地到乙地共有多少种不同的走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0" name="Picture 5" descr="未命名23"/>
          <p:cNvPicPr/>
          <p:nvPr/>
        </p:nvPicPr>
        <p:blipFill>
          <a:blip r:embed="rId1"/>
          <a:stretch/>
        </p:blipFill>
        <p:spPr>
          <a:xfrm>
            <a:off x="380880" y="2819520"/>
            <a:ext cx="5273640" cy="298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3581280"/>
            <a:ext cx="507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３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２＝６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457200" y="1752480"/>
            <a:ext cx="79246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完成一件事，需要分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个步骤，做第一步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，做第二步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做第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步有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.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那么完成这件事共有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2 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×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…</a:t>
            </a: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 ×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m</a:t>
            </a:r>
            <a:r>
              <a:rPr b="0" lang="zh-CN" sz="3200" spc="-1" strike="noStrike" baseline="-25000">
                <a:solidFill>
                  <a:srgbClr val="007a77"/>
                </a:solidFill>
                <a:latin typeface="Times New Roman"/>
                <a:ea typeface="Times New Roman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种不同的方法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9144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分步计数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38080" y="464832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乘法原理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441648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4416480" y="3108240"/>
            <a:ext cx="167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7" descr="QQ图片20140224125933"/>
          <p:cNvPicPr/>
          <p:nvPr/>
        </p:nvPicPr>
        <p:blipFill>
          <a:blip r:embed="rId1"/>
          <a:stretch/>
        </p:blipFill>
        <p:spPr>
          <a:xfrm>
            <a:off x="914400" y="1752480"/>
            <a:ext cx="7012080" cy="4105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8"/>
          <p:cNvSpPr/>
          <p:nvPr/>
        </p:nvSpPr>
        <p:spPr>
          <a:xfrm>
            <a:off x="609480" y="7621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宋体"/>
              </a:rPr>
              <a:t>两个计数原理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0880" y="7621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例１：某班同学分成甲、乙、丙、丁四个科技小组，甲组９人，乙组１１人，丙组１０人，丁组８人，现要求该班选派一人去参加某项活动，问有多少种不同的选法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-1060560" y="2895480"/>
            <a:ext cx="662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</a:rPr>
              <a:t>解：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9+11+10+8=38(</a:t>
            </a: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种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-1135080" y="3733920"/>
            <a:ext cx="98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宋体"/>
              </a:rPr>
              <a:t>答：选派一人去参加活动，共有３８种不同选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8000" y="764640"/>
            <a:ext cx="8856720" cy="42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0" y="260280"/>
            <a:ext cx="914400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30040" y="838080"/>
            <a:ext cx="830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例２：一个三层书架的上层放有５本不同的数学书，中层放有３本不同的语文书，下层放有２本不同的英语书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现从中任取一本书，问有多少种不同的取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现从中取出数学、语文、英语书各一本，问有多少种不同的取法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2895480"/>
            <a:ext cx="929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解：（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）从书架上任取一本书，有三类办法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类办法：从书架上层任取一本数学书，有５种不同的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类办法：从书架中层任取一本语文书，有３种不同的方法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第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类办法：从书架下层任取一本英语书，有２种不同的方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由分类计数原理得：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N=5+3+2=10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宋体"/>
              </a:rPr>
              <a:t>答：从书架上任取一本书共有１０种不同的取法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2:26:32Z</dcterms:created>
  <dc:creator/>
  <dc:description/>
  <cp:keywords/>
  <dc:language>en-US</dc:language>
  <cp:lastModifiedBy>Administrator</cp:lastModifiedBy>
  <dcterms:modified xsi:type="dcterms:W3CDTF">2021-03-15T06:24:2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