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8262-DBB4-4B2C-8011-EE40F0C5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EB9-3602-4815-BF94-42716E67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12D7-5BBB-4250-98DF-636911A5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E3BD-D5BC-4022-B0B4-5D2590F5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8930-5C87-45CE-AEB9-EAF2E9C3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B2A8-EFD8-4720-BE88-0F7A9B17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C036-7306-4BCC-94AE-3EDEE97C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CDDB-BF8D-4D4C-AC28-4D2EA474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2C0A-E3EE-485F-8735-53416E45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3AA5-5CB5-4B3D-9550-FC344B9F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65E6-B824-42B7-AA96-A6EF9B69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219-005B-47C5-8E60-01CCA24C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715A-8ECB-4B60-8183-17041E5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D552-258B-44B9-9947-41963715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C51A-D8E3-42AB-9C83-1BCE5CE0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074F-8E31-454D-9DB6-AE44F49C9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BCE4-2EF5-4350-9B85-147F7834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7A60-5A2A-4FF6-B631-9716EFA9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1C4-F579-44C5-AB44-E5DD8E3C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55E1-A131-4206-9573-CC065E3E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B23B-C7A6-4485-ABA0-E5CBE87C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385-00BE-470B-A8F8-F22AD648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7A4-1FA0-4BF4-A12D-8A1DA68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406B-B0FC-47F8-9406-41560166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C4699-025D-49D4-8050-AD2A7323C1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2DC3-6048-4486-9DE0-221BB0A490E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480" y="16765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3399"/>
                </a:solidFill>
                <a:latin typeface="Arial"/>
                <a:ea typeface="隶书"/>
              </a:rPr>
              <a:t>抽样方法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9320" y="3276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苏州幼儿师范高等专科学校理科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569520" y="6350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思考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826920" y="1359000"/>
            <a:ext cx="56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Verdana"/>
              </a:rPr>
              <a:t>N/n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不是整数时，如何进行系统抽样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9640" y="3159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Verdana"/>
              </a:rPr>
              <a:t>N/n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不是整数时，令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k=[N/n]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，那先从总体中用简单随机抽样的方法剔除</a:t>
            </a:r>
            <a:r>
              <a:rPr b="1" lang="en-US" sz="3200" spc="-1" strike="noStrike">
                <a:solidFill>
                  <a:srgbClr val="ff66ff"/>
                </a:solidFill>
                <a:latin typeface="Verdana"/>
              </a:rPr>
              <a:t>N-nk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个个体，再将其余的进行编号并均分成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n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段（可知每段间隔数为</a:t>
            </a:r>
            <a:r>
              <a:rPr b="1" lang="en-US" sz="3200" spc="-1" strike="noStrike">
                <a:solidFill>
                  <a:srgbClr val="007a77"/>
                </a:solidFill>
                <a:latin typeface="Verdana"/>
              </a:rPr>
              <a:t>K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2313360" y="51228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黑体"/>
                <a:ea typeface="黑体"/>
              </a:rPr>
              <a:t>注：</a:t>
            </a:r>
            <a:r>
              <a:rPr b="0" lang="en-US" sz="2800" spc="-1" strike="noStrike">
                <a:solidFill>
                  <a:srgbClr val="ff66ff"/>
                </a:solidFill>
                <a:latin typeface="黑体"/>
                <a:ea typeface="黑体"/>
              </a:rPr>
              <a:t>[x] </a:t>
            </a:r>
            <a:r>
              <a:rPr b="0" lang="zh-CN" sz="2800" spc="-1" strike="noStrike">
                <a:solidFill>
                  <a:srgbClr val="ff66ff"/>
                </a:solidFill>
                <a:latin typeface="黑体"/>
                <a:ea typeface="黑体"/>
              </a:rPr>
              <a:t>称为取整函数，表示不超过</a:t>
            </a:r>
            <a:r>
              <a:rPr b="0" lang="en-US" sz="2800" spc="-1" strike="noStrike">
                <a:solidFill>
                  <a:srgbClr val="ff66ff"/>
                </a:solidFill>
                <a:latin typeface="黑体"/>
                <a:ea typeface="黑体"/>
              </a:rPr>
              <a:t>x </a:t>
            </a:r>
            <a:r>
              <a:rPr b="0" lang="zh-CN" sz="2800" spc="-1" strike="noStrike">
                <a:solidFill>
                  <a:srgbClr val="ff66ff"/>
                </a:solidFill>
                <a:latin typeface="黑体"/>
                <a:ea typeface="黑体"/>
              </a:rPr>
              <a:t>的最大整数。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3323880" y="4539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Verdana"/>
              </a:rPr>
              <a:t>课堂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58680" y="1101600"/>
            <a:ext cx="89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为了了解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120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名学生对学校某项教改试验的意见，打算从中抽取一个容量为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3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的样本，考虑采用系统抽样，则分段间隔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为（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33400" y="24955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4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62840" y="2470320"/>
            <a:ext cx="115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3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505760" y="2438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198480" y="2459160"/>
            <a:ext cx="11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D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1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0" y="3267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下列抽样试验中，最适宜系统抽样的是（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16000" y="3951360"/>
            <a:ext cx="94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从某厂生产的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00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电子元件中随机抽取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入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41200" y="4778280"/>
            <a:ext cx="890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B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从某厂生产的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00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电子元件中随机抽取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0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入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204280" y="5894280"/>
            <a:ext cx="43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C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从某厂生产的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电子元件中随机抽取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入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910240" y="20574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7179840" y="333864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250920" y="1015920"/>
            <a:ext cx="83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：为了了解一次知识竞赛的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1252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名学生的成绩，决定采用系统抽样的方法抽取一个容量为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50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的样本，那么总体中应随机剔除的个体数目是（     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776880" y="2779560"/>
            <a:ext cx="47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A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    B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4  C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52   D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5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780000" y="252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477120" y="1906560"/>
            <a:ext cx="12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2771640" y="3645000"/>
            <a:ext cx="368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、工厂生产的产品，用传送带将成品送入包装车间之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前，检查人员从传送带上每隔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分钟抽一件产品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查，这种抽样方法为</a:t>
            </a:r>
            <a:r>
              <a:rPr b="1" lang="zh-CN" sz="2400" spc="-1" strike="noStrike" u="sng">
                <a:solidFill>
                  <a:srgbClr val="007a77"/>
                </a:solidFill>
                <a:uFillTx/>
                <a:latin typeface="Verdana"/>
              </a:rPr>
              <a:t>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3743280" y="5048280"/>
            <a:ext cx="1584360" cy="0"/>
          </a:xfrm>
          <a:prstGeom prst="line">
            <a:avLst/>
          </a:prstGeom>
          <a:ln w="3492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173120" y="4591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系统抽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815760" y="2971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系统抽样的特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31640" y="35593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适用于总体容量较大的情况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84200" y="4165560"/>
            <a:ext cx="865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剔除多余个体及第一段抽样都用简单随机抽样，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因而与简单随机抽样有密切联系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68360" y="5024520"/>
            <a:ext cx="852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是等可能抽样，每个个体被抽到的可能性都是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n/N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57200" y="56386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是不放回的抽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295280" y="9763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系统抽样（等距抽样）的概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1751040" y="1495440"/>
            <a:ext cx="539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将总体分成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黑体"/>
              </a:rPr>
              <a:t>均衡的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几部分，然后按照预先定出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规则，从每一个部分抽取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黑体"/>
              </a:rPr>
              <a:t>一个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个体，得到所需样本的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  <a:ea typeface="黑体"/>
              </a:rPr>
              <a:t>抽样方法叫做系统抽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870280" y="3430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课堂小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8000" y="8568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68360" y="912960"/>
          <a:ext cx="6096240" cy="4086000"/>
        </p:xfrm>
        <a:graphic>
          <a:graphicData uri="http://schemas.openxmlformats.org/drawingml/2006/table">
            <a:tbl>
              <a:tblPr/>
              <a:tblGrid>
                <a:gridCol w="2448000"/>
                <a:gridCol w="3648240"/>
              </a:tblGrid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系统抽样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201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简单 抽签法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随机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抽样  随机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Line 14"/>
          <p:cNvSpPr/>
          <p:nvPr/>
        </p:nvSpPr>
        <p:spPr>
          <a:xfrm>
            <a:off x="2195640" y="2965320"/>
            <a:ext cx="0" cy="2087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15"/>
          <p:cNvSpPr/>
          <p:nvPr/>
        </p:nvSpPr>
        <p:spPr>
          <a:xfrm>
            <a:off x="2642760" y="4441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表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Line 16"/>
          <p:cNvSpPr/>
          <p:nvPr/>
        </p:nvSpPr>
        <p:spPr>
          <a:xfrm>
            <a:off x="2158920" y="3794040"/>
            <a:ext cx="1692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Line 17"/>
          <p:cNvSpPr/>
          <p:nvPr/>
        </p:nvSpPr>
        <p:spPr>
          <a:xfrm>
            <a:off x="1403280" y="1778040"/>
            <a:ext cx="6048360" cy="0"/>
          </a:xfrm>
          <a:prstGeom prst="line">
            <a:avLst/>
          </a:prstGeom>
          <a:ln w="255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1143000" y="838080"/>
            <a:ext cx="6948360" cy="89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Line 19"/>
          <p:cNvSpPr/>
          <p:nvPr/>
        </p:nvSpPr>
        <p:spPr>
          <a:xfrm flipH="1">
            <a:off x="5687640" y="1778040"/>
            <a:ext cx="36360" cy="3203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4241160" y="18129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总体容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6112800" y="184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样本容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Line 22"/>
          <p:cNvSpPr/>
          <p:nvPr/>
        </p:nvSpPr>
        <p:spPr>
          <a:xfrm>
            <a:off x="3816360" y="3794040"/>
            <a:ext cx="36352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403280" y="2389320"/>
            <a:ext cx="60483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4336920" y="2462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很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6210000" y="2425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较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Line 29"/>
          <p:cNvSpPr/>
          <p:nvPr/>
        </p:nvSpPr>
        <p:spPr>
          <a:xfrm>
            <a:off x="1403280" y="1741320"/>
            <a:ext cx="2376720" cy="648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600200" y="9968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合理选择抽样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26"/>
          <p:cNvSpPr/>
          <p:nvPr/>
        </p:nvSpPr>
        <p:spPr>
          <a:xfrm>
            <a:off x="438984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较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6218640" y="320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较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26"/>
          <p:cNvSpPr/>
          <p:nvPr/>
        </p:nvSpPr>
        <p:spPr>
          <a:xfrm>
            <a:off x="438984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较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29496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较大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52280" y="1297080"/>
            <a:ext cx="853452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要从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1002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个学生中选取一个容量为</a:t>
            </a: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的样本，试用系统抽样的方法给出抽样过程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216000" y="323388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系统抽样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755640" y="127944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随机抽样（二）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716120" y="52354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抽签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41360" y="4586400"/>
            <a:ext cx="445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简单随机抽样的方法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371760" y="52815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黑体"/>
              </a:rPr>
              <a:t>随机数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84320" y="5698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复习回顾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1407960" y="12906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简单随机抽样的概念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1295280" y="38671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特点是：有限性，逐个性，不回性，等率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15960" y="1806480"/>
            <a:ext cx="7924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一般地，设一个总体的个体数为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如果通过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逐个</a:t>
            </a:r>
            <a:r>
              <a:rPr b="1" lang="zh-CN" sz="2800" spc="-1" strike="noStrike">
                <a:solidFill>
                  <a:srgbClr val="6666ff"/>
                </a:solidFill>
                <a:latin typeface="Arial"/>
              </a:rPr>
              <a:t>不放回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抽取的方法从中抽取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个个体作为样本，且</a:t>
            </a:r>
            <a:r>
              <a:rPr b="1" lang="zh-CN" sz="2800" spc="-1" strike="noStrike">
                <a:solidFill>
                  <a:srgbClr val="ff66ff"/>
                </a:solidFill>
                <a:latin typeface="Arial"/>
              </a:rPr>
              <a:t>每个体被抽到的概率相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就称这样的抽样方法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简单随机抽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324000" y="981000"/>
            <a:ext cx="24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Verdana"/>
              </a:rPr>
              <a:t>思考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6320" y="2438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为了对某市</a:t>
            </a:r>
            <a:r>
              <a:rPr b="1" lang="en-US" sz="3200" spc="-1" strike="noStrike">
                <a:solidFill>
                  <a:srgbClr val="007a77"/>
                </a:solidFill>
                <a:latin typeface="Verdana"/>
              </a:rPr>
              <a:t>13000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名高一学生数学期末考试答卷进行分析，拟从中抽取</a:t>
            </a:r>
            <a:r>
              <a:rPr b="1" lang="en-US" sz="3200" spc="-1" strike="noStrike">
                <a:solidFill>
                  <a:srgbClr val="007a77"/>
                </a:solidFill>
                <a:latin typeface="Verdana"/>
              </a:rPr>
              <a:t>130</a:t>
            </a:r>
            <a:r>
              <a:rPr b="1" lang="zh-CN" sz="3200" spc="-1" strike="noStrike">
                <a:solidFill>
                  <a:srgbClr val="007a77"/>
                </a:solidFill>
                <a:latin typeface="Verdana"/>
              </a:rPr>
              <a:t>名学生的答卷作为样本，请你设计一个合理的抽取方案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598320" y="2446560"/>
            <a:ext cx="838440" cy="1302840"/>
          </a:xfrm>
          <a:custGeom>
            <a:avLst/>
            <a:gdLst>
              <a:gd name="textAreaLeft" fmla="*/ 54360 w 838440"/>
              <a:gd name="textAreaRight" fmla="*/ 784080 w 838440"/>
              <a:gd name="textAreaTop" fmla="*/ 54360 h 1302840"/>
              <a:gd name="textAreaBottom" fmla="*/ 1248480 h 1302840"/>
            </a:gdLst>
            <a:ahLst/>
            <a:rect l="textAreaLeft" t="textAreaTop" r="textAreaRight" b="textAreaBottom"/>
            <a:pathLst>
              <a:path w="21600" h="33559">
                <a:moveTo>
                  <a:pt x="0" y="0"/>
                </a:moveTo>
                <a:lnTo>
                  <a:pt x="21600" y="0"/>
                </a:lnTo>
                <a:lnTo>
                  <a:pt x="21600" y="33559"/>
                </a:lnTo>
                <a:lnTo>
                  <a:pt x="0" y="33559"/>
                </a:lnTo>
                <a:close/>
              </a:path>
              <a:path fill="lightenLess" w="21600" h="3355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559">
                <a:moveTo>
                  <a:pt x="21600" y="0"/>
                </a:moveTo>
                <a:lnTo>
                  <a:pt x="21600" y="33559"/>
                </a:lnTo>
                <a:lnTo>
                  <a:pt x="20200" y="32159"/>
                </a:lnTo>
                <a:lnTo>
                  <a:pt x="20200" y="1400"/>
                </a:lnTo>
                <a:close/>
              </a:path>
              <a:path fill="darkenLess" w="21600" h="33559">
                <a:moveTo>
                  <a:pt x="21600" y="33559"/>
                </a:moveTo>
                <a:lnTo>
                  <a:pt x="0" y="33559"/>
                </a:lnTo>
                <a:lnTo>
                  <a:pt x="1400" y="32159"/>
                </a:lnTo>
                <a:lnTo>
                  <a:pt x="20200" y="32159"/>
                </a:lnTo>
                <a:close/>
              </a:path>
              <a:path fill="lighten" w="21600" h="33559">
                <a:moveTo>
                  <a:pt x="0" y="33559"/>
                </a:moveTo>
                <a:lnTo>
                  <a:pt x="0" y="0"/>
                </a:lnTo>
                <a:lnTo>
                  <a:pt x="1400" y="1400"/>
                </a:lnTo>
                <a:lnTo>
                  <a:pt x="1400" y="32159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抽签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034880" y="1073160"/>
            <a:ext cx="384912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300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试卷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300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编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03" name="AutoShape 4"/>
          <p:cNvCxnSpPr/>
          <p:nvPr/>
        </p:nvCxnSpPr>
        <p:spPr>
          <a:xfrm>
            <a:off x="5887800" y="1600200"/>
            <a:ext cx="1080" cy="38160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04" name="Rectangle 5"/>
          <p:cNvSpPr/>
          <p:nvPr/>
        </p:nvSpPr>
        <p:spPr>
          <a:xfrm>
            <a:off x="4127400" y="1973160"/>
            <a:ext cx="378792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制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300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号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05" name="AutoShape 6"/>
          <p:cNvCxnSpPr/>
          <p:nvPr/>
        </p:nvCxnSpPr>
        <p:spPr>
          <a:xfrm>
            <a:off x="5887800" y="2514600"/>
            <a:ext cx="1080" cy="38160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06" name="Rectangle 7"/>
          <p:cNvSpPr/>
          <p:nvPr/>
        </p:nvSpPr>
        <p:spPr>
          <a:xfrm>
            <a:off x="4595400" y="2892600"/>
            <a:ext cx="295020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将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300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号签搅拌均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07" name="AutoShape 8"/>
          <p:cNvCxnSpPr/>
          <p:nvPr/>
        </p:nvCxnSpPr>
        <p:spPr>
          <a:xfrm>
            <a:off x="5890680" y="3468240"/>
            <a:ext cx="1080" cy="38196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08" name="Rectangle 9"/>
          <p:cNvSpPr/>
          <p:nvPr/>
        </p:nvSpPr>
        <p:spPr>
          <a:xfrm>
            <a:off x="4775400" y="3865680"/>
            <a:ext cx="259308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随机从中抽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3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09" name="AutoShape 10"/>
          <p:cNvCxnSpPr/>
          <p:nvPr/>
        </p:nvCxnSpPr>
        <p:spPr>
          <a:xfrm>
            <a:off x="5890680" y="4441320"/>
            <a:ext cx="1080" cy="38196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0" name="Rectangle 11"/>
          <p:cNvSpPr/>
          <p:nvPr/>
        </p:nvSpPr>
        <p:spPr>
          <a:xfrm>
            <a:off x="5001840" y="4800600"/>
            <a:ext cx="2100960" cy="52056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取出对应号码的试卷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Oval 12"/>
          <p:cNvSpPr/>
          <p:nvPr/>
        </p:nvSpPr>
        <p:spPr>
          <a:xfrm>
            <a:off x="3730680" y="1812960"/>
            <a:ext cx="43927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Oval 13"/>
          <p:cNvSpPr/>
          <p:nvPr/>
        </p:nvSpPr>
        <p:spPr>
          <a:xfrm>
            <a:off x="3730680" y="2784600"/>
            <a:ext cx="43927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2190240" y="1165320"/>
            <a:ext cx="54648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编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4" name="AutoShape 15"/>
          <p:cNvCxnSpPr/>
          <p:nvPr/>
        </p:nvCxnSpPr>
        <p:spPr>
          <a:xfrm>
            <a:off x="2435040" y="166068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5" name="Rectangle 16"/>
          <p:cNvSpPr/>
          <p:nvPr/>
        </p:nvSpPr>
        <p:spPr>
          <a:xfrm>
            <a:off x="2050920" y="2003400"/>
            <a:ext cx="83520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制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6" name="AutoShape 17"/>
          <p:cNvCxnSpPr/>
          <p:nvPr/>
        </p:nvCxnSpPr>
        <p:spPr>
          <a:xfrm>
            <a:off x="2435040" y="244908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7" name="Rectangle 18"/>
          <p:cNvSpPr/>
          <p:nvPr/>
        </p:nvSpPr>
        <p:spPr>
          <a:xfrm>
            <a:off x="2190240" y="2859120"/>
            <a:ext cx="54648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搅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8" name="AutoShape 19"/>
          <p:cNvCxnSpPr/>
          <p:nvPr/>
        </p:nvCxnSpPr>
        <p:spPr>
          <a:xfrm>
            <a:off x="2435040" y="330372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9" name="Rectangle 20"/>
          <p:cNvSpPr/>
          <p:nvPr/>
        </p:nvSpPr>
        <p:spPr>
          <a:xfrm>
            <a:off x="2190240" y="3679920"/>
            <a:ext cx="54648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抽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20" name="AutoShape 21"/>
          <p:cNvCxnSpPr/>
          <p:nvPr/>
        </p:nvCxnSpPr>
        <p:spPr>
          <a:xfrm>
            <a:off x="2435040" y="4155840"/>
            <a:ext cx="1080" cy="3308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21" name="Rectangle 22"/>
          <p:cNvSpPr/>
          <p:nvPr/>
        </p:nvSpPr>
        <p:spPr>
          <a:xfrm>
            <a:off x="2085480" y="4516560"/>
            <a:ext cx="912240" cy="459720"/>
          </a:xfrm>
          <a:prstGeom prst="rect">
            <a:avLst/>
          </a:prstGeom>
          <a:solidFill>
            <a:srgbClr val="c0c0c0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取出个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AutoShape 23"/>
          <p:cNvSpPr/>
          <p:nvPr/>
        </p:nvSpPr>
        <p:spPr>
          <a:xfrm>
            <a:off x="3117960" y="1992240"/>
            <a:ext cx="720720" cy="866880"/>
          </a:xfrm>
          <a:prstGeom prst="smileyFace">
            <a:avLst>
              <a:gd name="adj" fmla="val -4652"/>
            </a:avLst>
          </a:prstGeom>
          <a:solidFill>
            <a:srgbClr val="ff6600"/>
          </a:solidFill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5" name="Object 2"/>
          <p:cNvGraphicFramePr/>
          <p:nvPr/>
        </p:nvGraphicFramePr>
        <p:xfrm>
          <a:off x="1447920" y="457200"/>
          <a:ext cx="655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457200"/>
                    <a:ext cx="655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AutoShape 4"/>
          <p:cNvSpPr/>
          <p:nvPr/>
        </p:nvSpPr>
        <p:spPr>
          <a:xfrm>
            <a:off x="368280" y="2482560"/>
            <a:ext cx="838080" cy="18500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850040"/>
              <a:gd name="textAreaBottom" fmla="*/ 1796040 h 1850040"/>
            </a:gdLst>
            <a:ahLst/>
            <a:rect l="textAreaLeft" t="textAreaTop" r="textAreaRight" b="textAreaBottom"/>
            <a:pathLst>
              <a:path w="21600" h="47670">
                <a:moveTo>
                  <a:pt x="0" y="0"/>
                </a:moveTo>
                <a:lnTo>
                  <a:pt x="21600" y="0"/>
                </a:lnTo>
                <a:lnTo>
                  <a:pt x="21600" y="47670"/>
                </a:lnTo>
                <a:lnTo>
                  <a:pt x="0" y="47670"/>
                </a:lnTo>
                <a:close/>
              </a:path>
              <a:path fill="lightenLess" w="21600" h="476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70">
                <a:moveTo>
                  <a:pt x="21600" y="0"/>
                </a:moveTo>
                <a:lnTo>
                  <a:pt x="21600" y="47670"/>
                </a:lnTo>
                <a:lnTo>
                  <a:pt x="20200" y="46270"/>
                </a:lnTo>
                <a:lnTo>
                  <a:pt x="20200" y="1400"/>
                </a:lnTo>
                <a:close/>
              </a:path>
              <a:path fill="darkenLess" w="21600" h="47670">
                <a:moveTo>
                  <a:pt x="21600" y="47670"/>
                </a:moveTo>
                <a:lnTo>
                  <a:pt x="0" y="47670"/>
                </a:lnTo>
                <a:lnTo>
                  <a:pt x="1400" y="46270"/>
                </a:lnTo>
                <a:lnTo>
                  <a:pt x="20200" y="46270"/>
                </a:lnTo>
                <a:close/>
              </a:path>
              <a:path fill="lighten" w="21600" h="47670">
                <a:moveTo>
                  <a:pt x="0" y="47670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70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随机数表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781360" y="1897200"/>
            <a:ext cx="61272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425760" y="1897200"/>
            <a:ext cx="61272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111560" y="1897200"/>
            <a:ext cx="612720" cy="215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6740640" y="1933560"/>
            <a:ext cx="612720" cy="216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2851200" y="17892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AutoShape 10"/>
          <p:cNvSpPr/>
          <p:nvPr/>
        </p:nvSpPr>
        <p:spPr>
          <a:xfrm>
            <a:off x="3463920" y="18255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AutoShape 11"/>
          <p:cNvSpPr/>
          <p:nvPr/>
        </p:nvSpPr>
        <p:spPr>
          <a:xfrm>
            <a:off x="4184640" y="178920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97360" y="1825560"/>
            <a:ext cx="432000" cy="360360"/>
          </a:xfrm>
          <a:custGeom>
            <a:avLst/>
            <a:gdLst>
              <a:gd name="textAreaLeft" fmla="*/ 63000 w 432000"/>
              <a:gd name="textAreaRight" fmla="*/ 369000 w 43200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AutoShape 13"/>
          <p:cNvSpPr/>
          <p:nvPr/>
        </p:nvSpPr>
        <p:spPr>
          <a:xfrm>
            <a:off x="5587920" y="1824120"/>
            <a:ext cx="432000" cy="360360"/>
          </a:xfrm>
          <a:custGeom>
            <a:avLst/>
            <a:gdLst>
              <a:gd name="textAreaLeft" fmla="*/ 63000 w 432000"/>
              <a:gd name="textAreaRight" fmla="*/ 369000 w 43200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AutoShape 14"/>
          <p:cNvSpPr/>
          <p:nvPr/>
        </p:nvSpPr>
        <p:spPr>
          <a:xfrm>
            <a:off x="6127920" y="1825560"/>
            <a:ext cx="431640" cy="360360"/>
          </a:xfrm>
          <a:custGeom>
            <a:avLst/>
            <a:gdLst>
              <a:gd name="textAreaLeft" fmla="*/ 63000 w 431640"/>
              <a:gd name="textAreaRight" fmla="*/ 368640 w 431640"/>
              <a:gd name="textAreaTop" fmla="*/ 52560 h 360360"/>
              <a:gd name="textAreaBottom" fmla="*/ 3078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AutoShape 15"/>
          <p:cNvSpPr/>
          <p:nvPr/>
        </p:nvSpPr>
        <p:spPr>
          <a:xfrm>
            <a:off x="8074080" y="1825560"/>
            <a:ext cx="790560" cy="719280"/>
          </a:xfrm>
          <a:prstGeom prst="smileyFace">
            <a:avLst>
              <a:gd name="adj" fmla="val -4652"/>
            </a:avLst>
          </a:prstGeom>
          <a:solidFill>
            <a:srgbClr val="ff3300"/>
          </a:solidFill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 flipV="1">
            <a:off x="2816280" y="2149200"/>
            <a:ext cx="5076720" cy="349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Line 17"/>
          <p:cNvSpPr/>
          <p:nvPr/>
        </p:nvSpPr>
        <p:spPr>
          <a:xfrm>
            <a:off x="1521000" y="2436840"/>
            <a:ext cx="507672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为了对某市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300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名高一学生数学期末考试答卷进行分析，拟从中抽取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3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名学生的答卷作为样本，请你设计一个合理的抽取方案。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50920" y="314028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由于总体数与样本容量比为      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</a:rPr>
              <a:t>=100</a:t>
            </a: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将总体平均分成</a:t>
            </a: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部分，每一部分含</a:t>
            </a: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个体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1280" y="486900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该号码起，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每隔</a:t>
            </a: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个号码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取一个号码，就得到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容量为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的样本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如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0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0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290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79280" y="396792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在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第</a:t>
            </a:r>
            <a:r>
              <a:rPr b="1" lang="en-US" sz="2400" spc="-1" strike="noStrike">
                <a:solidFill>
                  <a:srgbClr val="ff66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部分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中用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</a:rPr>
              <a:t>简单随机抽样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抽取一个号码（如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号）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79280" y="238608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将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0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名高一学生数学期末考试答卷</a:t>
            </a:r>
            <a:r>
              <a:rPr b="1" lang="zh-CN" sz="2400" spc="-1" strike="noStrike">
                <a:solidFill>
                  <a:srgbClr val="ff66ff"/>
                </a:solidFill>
                <a:latin typeface="Verdana"/>
              </a:rPr>
              <a:t>编号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 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0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9"/>
              <p:cNvSpPr txBox="1"/>
              <p:nvPr/>
            </p:nvSpPr>
            <p:spPr>
              <a:xfrm>
                <a:off x="5257800" y="2717640"/>
                <a:ext cx="10368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Oval 8"/>
          <p:cNvSpPr/>
          <p:nvPr/>
        </p:nvSpPr>
        <p:spPr>
          <a:xfrm>
            <a:off x="684360" y="2997360"/>
            <a:ext cx="755964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53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新魏"/>
              </a:rPr>
              <a:t>系统抽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3166920" y="4618080"/>
            <a:ext cx="2017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1584360" y="4618080"/>
            <a:ext cx="97164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132000" y="5302080"/>
            <a:ext cx="2017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268360" y="836640"/>
            <a:ext cx="129564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WordArt 17" descr=""/>
          <p:cNvPicPr/>
          <p:nvPr/>
        </p:nvPicPr>
        <p:blipFill>
          <a:blip r:embed="rId1"/>
          <a:stretch/>
        </p:blipFill>
        <p:spPr>
          <a:xfrm>
            <a:off x="244440" y="-79200"/>
            <a:ext cx="1974960" cy="9331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8"/>
          <p:cNvSpPr/>
          <p:nvPr/>
        </p:nvSpPr>
        <p:spPr>
          <a:xfrm>
            <a:off x="3720960" y="58053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66ff"/>
                </a:solidFill>
                <a:latin typeface="Verdana"/>
                <a:ea typeface="华文新魏"/>
              </a:rPr>
              <a:t>也称为：</a:t>
            </a:r>
            <a:r>
              <a:rPr b="1" lang="zh-CN" sz="3600" spc="-1" strike="noStrike">
                <a:solidFill>
                  <a:srgbClr val="ff66ff"/>
                </a:solidFill>
                <a:latin typeface="Verdana"/>
                <a:ea typeface="华文新魏"/>
              </a:rPr>
              <a:t>等距抽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395280" y="51264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为了对某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3004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名高一学生数学期末考试答卷进行分析，拟从中抽取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名学生的答卷作为样本，请你设计一个合理的抽取方案。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250920" y="33912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由于总体数与样本容量比为               </a:t>
            </a:r>
            <a:r>
              <a:rPr b="0" lang="en-US" sz="2400" spc="-1" strike="noStrike">
                <a:solidFill>
                  <a:srgbClr val="007a77"/>
                </a:solidFill>
                <a:latin typeface="Verdana"/>
              </a:rPr>
              <a:t>=100</a:t>
            </a: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将总体平均分成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部分，每一部分含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个体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71280" y="5121360"/>
            <a:ext cx="889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该号码起，每隔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号码取一个号码，就得到一个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容量为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3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的样本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如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00+k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200+k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12900+k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79280" y="42202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在第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部分中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简单随机抽样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抽取一个号码（如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号）</a:t>
            </a:r>
            <a:r>
              <a:rPr b="1" lang="en-US" sz="40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79280" y="25686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将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余下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的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0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名高一学生数学期末考试答卷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重新编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为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 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0</a:t>
            </a:r>
            <a:r>
              <a:rPr b="1" lang="en-US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5257800" y="2973240"/>
                <a:ext cx="103680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0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Text Box 8"/>
          <p:cNvSpPr/>
          <p:nvPr/>
        </p:nvSpPr>
        <p:spPr>
          <a:xfrm>
            <a:off x="1053360" y="5867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新魏"/>
              </a:rPr>
              <a:t>系统抽样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494360" y="1844640"/>
            <a:ext cx="54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）先从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1300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份答卷中，用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简单随机抽样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抽取</a:t>
            </a:r>
            <a:r>
              <a:rPr b="1" lang="en-US" sz="2400" spc="-1" strike="noStrike">
                <a:solidFill>
                  <a:srgbClr val="007a77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份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Verdana"/>
              </a:rPr>
              <a:t>将其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剔除</a:t>
            </a:r>
            <a:r>
              <a:rPr b="0" lang="zh-CN" sz="2400" spc="-1" strike="noStrike">
                <a:solidFill>
                  <a:srgbClr val="007a77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970920" y="8841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系统抽样的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138040" y="149688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）先将总体的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个体编号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71480" y="2108160"/>
            <a:ext cx="76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）确定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分段间隔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，当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N/n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是样本容  量）是整数时，取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k= N/n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790560" y="3137040"/>
            <a:ext cx="78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）在第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段用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简单随机抽样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确定第一个个体编号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m(m≤k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57160" y="42688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(4)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按照一定的规则抽取样本。通常是将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加上间隔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得到第二个个体编号（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m+k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），再加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k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得到第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个个体编号</a:t>
            </a:r>
            <a:r>
              <a:rPr b="1" lang="en-US" sz="2800" spc="-1" strike="noStrike">
                <a:solidFill>
                  <a:srgbClr val="007a77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Verdana"/>
              </a:rPr>
              <a:t>依次进行下去，直到获得整个样本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6045120" y="487440"/>
            <a:ext cx="2590920" cy="1044360"/>
          </a:xfrm>
          <a:prstGeom prst="wedgeRectCallout">
            <a:avLst>
              <a:gd name="adj1" fmla="val -61879"/>
              <a:gd name="adj2" fmla="val 75379"/>
            </a:avLst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a77"/>
                </a:solidFill>
                <a:latin typeface="Verdana"/>
              </a:rPr>
              <a:t>有时可直接利用个体自身所带的号码，如学号、考号、门牌号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4-06T02:49:08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