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0C32-B70B-49DD-8D1D-76738B22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33E3-2549-4127-B752-49AFCB9F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7CC4-84B4-4A14-A5B0-53E6A7720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0228-004E-4F74-9230-25FF3C691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8424-E01C-495F-82CE-DBD9F61F4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2677F-C53F-48BD-A14F-23E1F2BC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9D81-55CF-4791-B457-688B06E2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397F-909F-4FD9-BB93-B11A7DB93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B585-A42A-42FD-9ED1-8BC08674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9D77-570A-440C-B996-EA2D5B20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1171-BDFA-4E42-9EA4-44ADB346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1BAF-261B-4A3C-819E-736D92E9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42ED-7E5C-4C94-8BF2-7415FFB9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85A9-97A0-4A40-9851-C3EF893E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F0BE-E9BF-475A-BE85-38C4AC13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4728-4803-4A2E-8B8B-C2ED6461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0E0B-1F8E-4B76-BDB4-72A03BDF3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33DE-375A-4327-AB80-1D009F18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76D1-AE4B-4F52-BEF4-77F2AB32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6C44-4F9A-4BE2-B878-3DF6EE8F7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65D2-BCE5-4B14-8FC6-B7F99401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3F2B-5D40-4AAA-AD4B-5F4AE2C0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EF03-202A-4D10-8726-CA3ECE92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B170-64F6-4F2D-857F-42D9D5BF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CB9B-B1B8-460A-9E4D-1925A0E08E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F873-9D62-41E1-8FF6-755198E4AA2C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04920" y="1752480"/>
            <a:ext cx="761976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Arial"/>
                <a:ea typeface="隶书"/>
              </a:rPr>
              <a:t> </a:t>
            </a:r>
            <a:r>
              <a:rPr b="1" lang="zh-CN" sz="8000" spc="-1" strike="noStrike">
                <a:solidFill>
                  <a:srgbClr val="0066ff"/>
                </a:solidFill>
                <a:latin typeface="宋体"/>
              </a:rPr>
              <a:t>排  列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447920" y="38862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苏州幼儿师范高等专科学校理科教研室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457200" y="2546280"/>
            <a:ext cx="309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658600" y="2895480"/>
            <a:ext cx="1521720" cy="764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布置作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684360" y="1522440"/>
            <a:ext cx="861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一般地，从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个不同的元素中取出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m(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m≤n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个元素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按照一定的顺序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排成一列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叫做从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个不同元素中取出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个元素的一个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排列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arrangement)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57200" y="1066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排列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505320" y="457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复习回顾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80880" y="25718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排列数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90" name="Group 8"/>
          <p:cNvGrpSpPr/>
          <p:nvPr/>
        </p:nvGrpSpPr>
        <p:grpSpPr>
          <a:xfrm>
            <a:off x="457200" y="3151080"/>
            <a:ext cx="8280360" cy="1685880"/>
            <a:chOff x="457200" y="3151080"/>
            <a:chExt cx="8280360" cy="1685880"/>
          </a:xfrm>
        </p:grpSpPr>
        <p:sp>
          <p:nvSpPr>
            <p:cNvPr id="91" name="Text Box 9"/>
            <p:cNvSpPr/>
            <p:nvPr/>
          </p:nvSpPr>
          <p:spPr>
            <a:xfrm>
              <a:off x="457200" y="3151080"/>
              <a:ext cx="8280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宋体"/>
                </a:rPr>
                <a:t>从</a:t>
              </a:r>
              <a:r>
                <a:rPr b="1" lang="zh-CN" sz="2400" spc="-1" strike="noStrike">
                  <a:solidFill>
                    <a:srgbClr val="007a77"/>
                  </a:solidFill>
                  <a:latin typeface="宋体"/>
                </a:rPr>
                <a:t>n</a:t>
              </a:r>
              <a:r>
                <a:rPr b="1" lang="zh-CN" sz="2400" spc="-1" strike="noStrike">
                  <a:solidFill>
                    <a:srgbClr val="007a77"/>
                  </a:solidFill>
                  <a:latin typeface="宋体"/>
                </a:rPr>
                <a:t>个不同的元素中取出</a:t>
              </a:r>
              <a:r>
                <a:rPr b="1" lang="zh-CN" sz="2400" spc="-1" strike="noStrike">
                  <a:solidFill>
                    <a:srgbClr val="007a77"/>
                  </a:solidFill>
                  <a:latin typeface="宋体"/>
                </a:rPr>
                <a:t>m(m≤n)</a:t>
              </a:r>
              <a:r>
                <a:rPr b="1" lang="zh-CN" sz="2400" spc="-1" strike="noStrike">
                  <a:solidFill>
                    <a:srgbClr val="007a77"/>
                  </a:solidFill>
                  <a:latin typeface="宋体"/>
                </a:rPr>
                <a:t>个元素的所有排列的个数，叫做从</a:t>
              </a:r>
              <a:r>
                <a:rPr b="1" lang="zh-CN" sz="2400" spc="-1" strike="noStrike">
                  <a:solidFill>
                    <a:srgbClr val="007a77"/>
                  </a:solidFill>
                  <a:latin typeface="宋体"/>
                </a:rPr>
                <a:t>n</a:t>
              </a:r>
              <a:r>
                <a:rPr b="1" lang="zh-CN" sz="2400" spc="-1" strike="noStrike">
                  <a:solidFill>
                    <a:srgbClr val="007a77"/>
                  </a:solidFill>
                  <a:latin typeface="宋体"/>
                </a:rPr>
                <a:t>个不同的元素中取出</a:t>
              </a:r>
              <a:r>
                <a:rPr b="1" lang="zh-CN" sz="2400" spc="-1" strike="noStrike">
                  <a:solidFill>
                    <a:srgbClr val="007a77"/>
                  </a:solidFill>
                  <a:latin typeface="宋体"/>
                </a:rPr>
                <a:t>m</a:t>
              </a:r>
              <a:r>
                <a:rPr b="1" lang="zh-CN" sz="2400" spc="-1" strike="noStrike">
                  <a:solidFill>
                    <a:srgbClr val="007a77"/>
                  </a:solidFill>
                  <a:latin typeface="宋体"/>
                </a:rPr>
                <a:t>个元素的排列数。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" name="Object 10"/>
                <p:cNvSpPr txBox="1"/>
                <p:nvPr/>
              </p:nvSpPr>
              <p:spPr>
                <a:xfrm>
                  <a:off x="6095880" y="4065480"/>
                  <a:ext cx="669960" cy="77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93" name="Group 11"/>
          <p:cNvGrpSpPr/>
          <p:nvPr/>
        </p:nvGrpSpPr>
        <p:grpSpPr>
          <a:xfrm>
            <a:off x="-3044880" y="1676520"/>
            <a:ext cx="7996320" cy="1599840"/>
            <a:chOff x="-3044880" y="1676520"/>
            <a:chExt cx="7996320" cy="1599840"/>
          </a:xfrm>
        </p:grpSpPr>
        <p:sp>
          <p:nvSpPr>
            <p:cNvPr id="94" name="Text Box 12"/>
            <p:cNvSpPr/>
            <p:nvPr/>
          </p:nvSpPr>
          <p:spPr>
            <a:xfrm>
              <a:off x="-3044880" y="1676520"/>
              <a:ext cx="799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a77"/>
                  </a:solidFill>
                  <a:latin typeface="宋体"/>
                </a:rPr>
                <a:t> 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" name="Object 13"/>
                <p:cNvSpPr txBox="1"/>
                <p:nvPr/>
              </p:nvSpPr>
              <p:spPr>
                <a:xfrm>
                  <a:off x="2400120" y="2544120"/>
                  <a:ext cx="646920" cy="73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6" name="Text Box 14"/>
          <p:cNvSpPr/>
          <p:nvPr/>
        </p:nvSpPr>
        <p:spPr>
          <a:xfrm>
            <a:off x="457200" y="4038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排列数公式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15"/>
              <p:cNvSpPr txBox="1"/>
              <p:nvPr/>
            </p:nvSpPr>
            <p:spPr>
              <a:xfrm>
                <a:off x="1295280" y="4572000"/>
                <a:ext cx="6859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⋯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m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16"/>
              <p:cNvSpPr txBox="1"/>
              <p:nvPr/>
            </p:nvSpPr>
            <p:spPr>
              <a:xfrm>
                <a:off x="1295280" y="5257800"/>
                <a:ext cx="190512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39760" y="709560"/>
            <a:ext cx="869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黑体"/>
              </a:rPr>
              <a:t>例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黑体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某年全国足球甲级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(A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组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联赛共有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14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队参加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每队都要与其余各队在主客场分别比赛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次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共进行多少场比赛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39760" y="3030480"/>
            <a:ext cx="869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①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有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5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本不同的书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从中选出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本给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名同学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每人一本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共有多少种不同的选法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03" name="Object 6"/>
          <p:cNvGraphicFramePr/>
          <p:nvPr/>
        </p:nvGraphicFramePr>
        <p:xfrm>
          <a:off x="2749680" y="2425680"/>
          <a:ext cx="2754360" cy="58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9680" y="2425680"/>
                    <a:ext cx="2754360" cy="5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5" name="Object 7"/>
              <p:cNvSpPr txBox="1"/>
              <p:nvPr/>
            </p:nvSpPr>
            <p:spPr>
              <a:xfrm>
                <a:off x="2779560" y="4152960"/>
                <a:ext cx="269244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Text Box 8"/>
          <p:cNvSpPr/>
          <p:nvPr/>
        </p:nvSpPr>
        <p:spPr>
          <a:xfrm>
            <a:off x="239760" y="4792680"/>
            <a:ext cx="869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②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有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5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种不同的书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从中选出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本给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名同学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每人一本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共有多少种不同的选法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9"/>
              <p:cNvSpPr txBox="1"/>
              <p:nvPr/>
            </p:nvSpPr>
            <p:spPr>
              <a:xfrm>
                <a:off x="3070080" y="5935680"/>
                <a:ext cx="20494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Text Box 10"/>
          <p:cNvSpPr/>
          <p:nvPr/>
        </p:nvSpPr>
        <p:spPr>
          <a:xfrm>
            <a:off x="7038360" y="3873600"/>
            <a:ext cx="912240" cy="581400"/>
          </a:xfrm>
          <a:prstGeom prst="rect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排列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6529320" y="5356080"/>
            <a:ext cx="1930320" cy="1068840"/>
          </a:xfrm>
          <a:prstGeom prst="rect">
            <a:avLst/>
          </a:prstGeom>
          <a:noFill/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分步乘法计数原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353880" y="650880"/>
            <a:ext cx="842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某信号兵用红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绿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蓝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面旗从上到下挂在竖直的旗杆上表示信号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每次可挂一面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二面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三面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并且不同的顺序表示不同的信号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一共可表示多少种不同的信号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92760" y="609480"/>
            <a:ext cx="66852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练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14" name="Group 6"/>
          <p:cNvGrpSpPr/>
          <p:nvPr/>
        </p:nvGrpSpPr>
        <p:grpSpPr>
          <a:xfrm>
            <a:off x="7831080" y="2692440"/>
            <a:ext cx="773280" cy="3214800"/>
            <a:chOff x="7831080" y="2692440"/>
            <a:chExt cx="773280" cy="3214800"/>
          </a:xfrm>
        </p:grpSpPr>
        <p:sp>
          <p:nvSpPr>
            <p:cNvPr id="115" name="AutoShape 7"/>
            <p:cNvSpPr/>
            <p:nvPr/>
          </p:nvSpPr>
          <p:spPr>
            <a:xfrm>
              <a:off x="7831080" y="2849760"/>
              <a:ext cx="773280" cy="609480"/>
            </a:xfrm>
            <a:custGeom>
              <a:avLst/>
              <a:gdLst>
                <a:gd name="textAreaLeft" fmla="*/ 0 w 773280"/>
                <a:gd name="textAreaRight" fmla="*/ 773640 w 773280"/>
                <a:gd name="textAreaTop" fmla="*/ 78840 h 609480"/>
                <a:gd name="textAreaBottom" fmla="*/ 530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6" name="AutoShape 8"/>
            <p:cNvSpPr/>
            <p:nvPr/>
          </p:nvSpPr>
          <p:spPr>
            <a:xfrm>
              <a:off x="7831080" y="4430880"/>
              <a:ext cx="773280" cy="609480"/>
            </a:xfrm>
            <a:custGeom>
              <a:avLst/>
              <a:gdLst>
                <a:gd name="textAreaLeft" fmla="*/ 0 w 773280"/>
                <a:gd name="textAreaRight" fmla="*/ 773640 w 773280"/>
                <a:gd name="textAreaTop" fmla="*/ 78840 h 609480"/>
                <a:gd name="textAreaBottom" fmla="*/ 530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66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7" name="AutoShape 9"/>
            <p:cNvSpPr/>
            <p:nvPr/>
          </p:nvSpPr>
          <p:spPr>
            <a:xfrm>
              <a:off x="7831080" y="3640320"/>
              <a:ext cx="773280" cy="609480"/>
            </a:xfrm>
            <a:custGeom>
              <a:avLst/>
              <a:gdLst>
                <a:gd name="textAreaLeft" fmla="*/ 0 w 773280"/>
                <a:gd name="textAreaRight" fmla="*/ 773640 w 773280"/>
                <a:gd name="textAreaTop" fmla="*/ 78840 h 609480"/>
                <a:gd name="textAreaBottom" fmla="*/ 530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7200" y="-3560"/>
                    <a:pt x="14400" y="6360"/>
                    <a:pt x="21600" y="1400"/>
                  </a:cubicBezTo>
                  <a:lnTo>
                    <a:pt x="21600" y="20200"/>
                  </a:lnTo>
                  <a:cubicBezTo>
                    <a:pt x="14400" y="25160"/>
                    <a:pt x="7200" y="15240"/>
                    <a:pt x="0" y="20200"/>
                  </a:cubicBez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8" name="Line 10"/>
            <p:cNvSpPr/>
            <p:nvPr/>
          </p:nvSpPr>
          <p:spPr>
            <a:xfrm flipV="1">
              <a:off x="8604360" y="2692440"/>
              <a:ext cx="0" cy="3214800"/>
            </a:xfrm>
            <a:prstGeom prst="line">
              <a:avLst/>
            </a:prstGeom>
            <a:ln w="572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19" name="Rectangle 11"/>
          <p:cNvSpPr/>
          <p:nvPr/>
        </p:nvSpPr>
        <p:spPr>
          <a:xfrm>
            <a:off x="2000520" y="2998440"/>
            <a:ext cx="4914360" cy="27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信号分三类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第一类为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面旗组成的信号，共</a:t>
            </a:r>
            <a:r>
              <a:rPr b="0" i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A</a:t>
            </a:r>
            <a:r>
              <a:rPr b="0" i="1" lang="zh-CN" sz="32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0" i="1" lang="zh-CN" sz="3200" spc="-1" strike="noStrike" baseline="30000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种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第二类为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面旗组成的信号，共</a:t>
            </a:r>
            <a:r>
              <a:rPr b="0" i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A</a:t>
            </a:r>
            <a:r>
              <a:rPr b="0" i="1" lang="zh-CN" sz="32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0" i="1" lang="zh-CN" sz="3200" spc="-1" strike="noStrike" baseline="30000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种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第三类为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面旗组成的信号，共</a:t>
            </a:r>
            <a:r>
              <a:rPr b="0" i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A</a:t>
            </a:r>
            <a:r>
              <a:rPr b="0" i="1" lang="zh-CN" sz="3200" spc="-1" strike="noStrike" baseline="-25000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0" i="1" lang="zh-CN" sz="3200" spc="-1" strike="noStrike" baseline="30000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种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由加法原理得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437040" y="3100320"/>
            <a:ext cx="42444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解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3195000" y="5778360"/>
            <a:ext cx="242244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N=6+6+3=16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04920" y="457200"/>
            <a:ext cx="84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黑体"/>
              </a:rPr>
              <a:t>例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黑体"/>
              </a:rPr>
              <a:t>2  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用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0~9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这十个数字，可以组成多少个没有重复数字的三位数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5131080" y="2133720"/>
            <a:ext cx="24742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注：</a:t>
            </a:r>
            <a:r>
              <a:rPr b="0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不能排在百位上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04920" y="1890000"/>
            <a:ext cx="847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分析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:</a:t>
            </a:r>
            <a:r>
              <a:rPr b="1" lang="zh-CN" sz="2800" spc="-1" strike="noStrike">
                <a:solidFill>
                  <a:srgbClr val="007a77"/>
                </a:solidFill>
                <a:latin typeface="幼圆"/>
                <a:ea typeface="幼圆"/>
              </a:rPr>
              <a:t>每一个三位数都可看成是这十个数字中任取三个数字的一个排列</a:t>
            </a:r>
            <a:r>
              <a:rPr b="0" lang="zh-CN" sz="2800" spc="-1" strike="noStrike">
                <a:solidFill>
                  <a:srgbClr val="007a77"/>
                </a:solidFill>
                <a:latin typeface="幼圆"/>
                <a:ea typeface="幼圆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06360" y="3097800"/>
            <a:ext cx="8866080" cy="27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65320" indent="-11653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法一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百位用非零元元素先占，由乘法原理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1165320" indent="-11653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　     </a:t>
            </a:r>
            <a:r>
              <a:rPr b="0" i="1" lang="zh-CN" sz="2800" spc="-1" strike="noStrike">
                <a:solidFill>
                  <a:srgbClr val="3366ff"/>
                </a:solidFill>
                <a:latin typeface="Times New Roman"/>
              </a:rPr>
              <a:t>A</a:t>
            </a:r>
            <a:r>
              <a:rPr b="0" i="1" lang="zh-CN" sz="2800" spc="-1" strike="noStrike" baseline="-30000">
                <a:solidFill>
                  <a:srgbClr val="3366ff"/>
                </a:solidFill>
                <a:latin typeface="Times New Roman"/>
              </a:rPr>
              <a:t>9</a:t>
            </a:r>
            <a:r>
              <a:rPr b="0" i="1" lang="zh-CN" sz="2800" spc="-1" strike="noStrike" baseline="30000">
                <a:solidFill>
                  <a:srgbClr val="3366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3366ff"/>
                </a:solidFill>
                <a:latin typeface="Symbol"/>
                <a:ea typeface="Symbol"/>
              </a:rPr>
              <a:t></a:t>
            </a:r>
            <a:r>
              <a:rPr b="0" i="1" lang="zh-CN" sz="2800" spc="-1" strike="noStrike">
                <a:solidFill>
                  <a:srgbClr val="3366ff"/>
                </a:solidFill>
                <a:latin typeface="Times New Roman"/>
              </a:rPr>
              <a:t>A</a:t>
            </a:r>
            <a:r>
              <a:rPr b="0" i="1" lang="zh-CN" sz="2800" spc="-1" strike="noStrike" baseline="-30000">
                <a:solidFill>
                  <a:srgbClr val="3366ff"/>
                </a:solidFill>
                <a:latin typeface="Times New Roman"/>
              </a:rPr>
              <a:t>9</a:t>
            </a:r>
            <a:r>
              <a:rPr b="0" i="1" lang="zh-CN" sz="2800" spc="-1" strike="noStrike" baseline="30000">
                <a:solidFill>
                  <a:srgbClr val="3366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=9×9×8=648(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个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1165320" indent="-1165320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解法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把特殊元素“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0”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先放在满足要求的位置上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三个数字都不为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个位数字是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十位数字是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；由加法原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1165320" indent="-11653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　   </a:t>
            </a:r>
            <a:r>
              <a:rPr b="0" i="1" lang="zh-CN" sz="2800" spc="-1" strike="noStrike">
                <a:solidFill>
                  <a:srgbClr val="3366ff"/>
                </a:solidFill>
                <a:latin typeface="Times New Roman"/>
              </a:rPr>
              <a:t>A</a:t>
            </a:r>
            <a:r>
              <a:rPr b="0" i="1" lang="zh-CN" sz="2800" spc="-1" strike="noStrike" baseline="-30000">
                <a:solidFill>
                  <a:srgbClr val="3366ff"/>
                </a:solidFill>
                <a:latin typeface="Times New Roman"/>
              </a:rPr>
              <a:t>9</a:t>
            </a:r>
            <a:r>
              <a:rPr b="0" i="1" lang="zh-CN" sz="2800" spc="-1" strike="noStrike" baseline="30000">
                <a:solidFill>
                  <a:srgbClr val="3366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+</a:t>
            </a:r>
            <a:r>
              <a:rPr b="0" i="1" lang="zh-CN" sz="2800" spc="-1" strike="noStrike">
                <a:solidFill>
                  <a:srgbClr val="3366ff"/>
                </a:solidFill>
                <a:latin typeface="Times New Roman"/>
              </a:rPr>
              <a:t>A</a:t>
            </a:r>
            <a:r>
              <a:rPr b="0" i="1" lang="zh-CN" sz="2800" spc="-1" strike="noStrike" baseline="-30000">
                <a:solidFill>
                  <a:srgbClr val="3366ff"/>
                </a:solidFill>
                <a:latin typeface="Times New Roman"/>
              </a:rPr>
              <a:t>9</a:t>
            </a:r>
            <a:r>
              <a:rPr b="0" i="1" lang="zh-CN" sz="2800" spc="-1" strike="noStrike" baseline="30000">
                <a:solidFill>
                  <a:srgbClr val="3366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+</a:t>
            </a:r>
            <a:r>
              <a:rPr b="0" i="1" lang="zh-CN" sz="2800" spc="-1" strike="noStrike">
                <a:solidFill>
                  <a:srgbClr val="3366ff"/>
                </a:solidFill>
                <a:latin typeface="Times New Roman"/>
              </a:rPr>
              <a:t>A</a:t>
            </a:r>
            <a:r>
              <a:rPr b="0" i="1" lang="zh-CN" sz="2800" spc="-1" strike="noStrike" baseline="-30000">
                <a:solidFill>
                  <a:srgbClr val="3366ff"/>
                </a:solidFill>
                <a:latin typeface="Times New Roman"/>
              </a:rPr>
              <a:t>9</a:t>
            </a:r>
            <a:r>
              <a:rPr b="0" i="1" lang="zh-CN" sz="2800" spc="-1" strike="noStrike" baseline="30000">
                <a:solidFill>
                  <a:srgbClr val="3366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=9×8×7+9×8+9×8=648(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个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28600" y="533520"/>
            <a:ext cx="84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用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0~9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这十个数字，可以组成多少个没有重复数字的三位数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5478480" y="2355840"/>
            <a:ext cx="280296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注：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不能排在百位上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76320" y="2111040"/>
            <a:ext cx="84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分析</a:t>
            </a:r>
            <a:r>
              <a:rPr b="0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:</a:t>
            </a:r>
            <a:r>
              <a:rPr b="1" lang="zh-CN" sz="3200" spc="-1" strike="noStrike">
                <a:solidFill>
                  <a:srgbClr val="007a77"/>
                </a:solidFill>
                <a:latin typeface="幼圆"/>
                <a:ea typeface="幼圆"/>
              </a:rPr>
              <a:t>每一个三位数都可看成是这十个数字中任取三个数字的一个排列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6320" y="3536640"/>
            <a:ext cx="8470800" cy="21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65320" indent="-11653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解法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先计算出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个数字任取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个数字的排列数，然后再去掉不符合要求的排列数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1165320" indent="-11653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1165320" indent="-11653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A</a:t>
            </a:r>
            <a:r>
              <a:rPr b="1" lang="zh-CN" sz="3200" spc="-1" strike="noStrike" baseline="-30000">
                <a:solidFill>
                  <a:srgbClr val="007a77"/>
                </a:solidFill>
                <a:latin typeface="Times New Roman"/>
              </a:rPr>
              <a:t>10</a:t>
            </a:r>
            <a:r>
              <a:rPr b="1" lang="zh-CN" sz="3200" spc="-1" strike="noStrike" baseline="30000">
                <a:solidFill>
                  <a:srgbClr val="007a77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-A</a:t>
            </a:r>
            <a:r>
              <a:rPr b="1" lang="zh-CN" sz="3200" spc="-1" strike="noStrike" baseline="-30000">
                <a:solidFill>
                  <a:srgbClr val="007a77"/>
                </a:solidFill>
                <a:latin typeface="Times New Roman"/>
              </a:rPr>
              <a:t>9</a:t>
            </a:r>
            <a:r>
              <a:rPr b="1" lang="zh-CN" sz="3200" spc="-1" strike="noStrike" baseline="30000">
                <a:solidFill>
                  <a:srgbClr val="007a77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=10×9×8-9×8=648(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个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52280" y="2212560"/>
            <a:ext cx="8531280" cy="15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（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）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直接计算法：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即把符合限制条件的排列数直接计算出来，此种算法又可分为先考虑特殊元素还是先考虑特殊位置两种方法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（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）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间接计算法：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华文新魏"/>
              </a:rPr>
              <a:t>即先不考虑限制条件，把所有排列种数算出。再从中减去全部不符合条件的排列种数，间接得出符合条件的排列种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453600" y="685800"/>
            <a:ext cx="851400" cy="764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小结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1530720" y="1448280"/>
            <a:ext cx="6063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1.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排列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全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排列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阶乘的意义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排列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数的阶乘形式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.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2.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解决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排列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问题的一般思路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: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(1)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把问题分步来完成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用分步计数原理求解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;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(2)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转化为求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排列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数问题来解决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.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53600" y="5029200"/>
            <a:ext cx="851400" cy="764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作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457200" y="2546280"/>
            <a:ext cx="3096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533520" y="1676520"/>
            <a:ext cx="69339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根据下面给出的幼儿园活动案例“豆豆排队”，结合本节课所学知识，自编题目并解决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活动目标：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、能按图形上的线将豆豆一颗颗按规律紧密排列，并手眼协调地进行粘贴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、练习双面胶的使用方法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投放材料：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双面胶、各种各样的豆子、画有各种形状的操作纸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玩法：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幼儿沿着图形线贴上双面胶，贴一条撕一条，把豆豆沿着线按规律紧密的排队，最后为图形穿上一件漂亮的衣服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28600" y="91440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知识与实践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7" name="Picture 7" descr="IMG_4931"/>
          <p:cNvPicPr/>
          <p:nvPr/>
        </p:nvPicPr>
        <p:blipFill>
          <a:blip r:embed="rId1"/>
          <a:stretch/>
        </p:blipFill>
        <p:spPr>
          <a:xfrm>
            <a:off x="7315200" y="609480"/>
            <a:ext cx="16257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2:26:32Z</dcterms:created>
  <dc:creator/>
  <dc:description/>
  <cp:keywords/>
  <dc:language>en-US</dc:language>
  <cp:lastModifiedBy>Administrator</cp:lastModifiedBy>
  <dcterms:modified xsi:type="dcterms:W3CDTF">2021-03-15T06:26:35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