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97D-7EB3-42F2-BAF5-584B3872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ED00-B118-4A03-955D-933281FD8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6925-CB30-42E4-B16B-A060AE255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B08A-DC57-4F22-A324-1A47BBC4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03D2-D582-4917-B1B7-84206EA4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5D9A-10CE-4B0D-9CF6-66C07DB6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CD1A-EDF8-4A15-ACC3-FBF8C461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CC90-AEF8-4D61-B742-A5415A62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5665C-D220-4639-9338-2568009C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281B-77B2-4F3F-B63F-A246776F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1BC9-6EFF-41F1-ACEA-E48AD7A8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E1D-9AA2-47A8-83C6-CC3EA306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B405-E1CD-418F-8664-66EE156F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BF04-F448-4D77-8470-11F916EB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8F28-7920-47D6-924C-35FD9CB8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6A57-81F7-4096-B883-C1553EED0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AD5CF-6B8B-4D93-833B-50AFE44A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56FD-98E1-4BA1-AC9A-390EF7EB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6D43-6262-45E1-B778-6D81BE7D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C91A-8A28-4C63-A37E-E48D2DE2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A8ED-598B-46C6-BA1D-CEBC2EB0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232-9E2F-4DBC-A528-73AA0471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1D3C-25B2-4CCD-B3AF-E946B334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2BED-92F4-44C4-B86F-51945720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AD48-07A3-4B41-B88C-5C8815BA8D93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D2B3-98C5-4148-8814-384679515077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1828800"/>
            <a:ext cx="7620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  <a:ea typeface="隶书"/>
              </a:rPr>
              <a:t>第三章 数列 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4495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Arial"/>
              </a:rPr>
              <a:t>苏州高等幼儿师范学校数学教研室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1295280"/>
            <a:ext cx="73915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方正姚体"/>
              </a:rPr>
              <a:t>思考题：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方正姚体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方正姚体"/>
              </a:rPr>
              <a:t>数列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方正姚体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方正姚体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方正姚体"/>
              </a:rPr>
              <a:t>4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方正姚体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方正姚体"/>
              </a:rPr>
              <a:t>6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方正姚体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方正姚体"/>
              </a:rPr>
              <a:t>8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方正姚体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方正姚体"/>
              </a:rPr>
              <a:t>10···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方正姚体"/>
              </a:rPr>
              <a:t>的通项公式一定是                 吗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33520" y="60480"/>
            <a:ext cx="76176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本节课学习的主要内容有</a:t>
            </a:r>
            <a:r>
              <a:rPr b="1" lang="zh-CN" sz="4000" spc="-1" strike="noStrike">
                <a:solidFill>
                  <a:srgbClr val="c0c0c0"/>
                </a:solidFill>
                <a:latin typeface="Times New Roman"/>
                <a:ea typeface="方正姚体"/>
              </a:rPr>
              <a:t>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99072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、等差数列的定义；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22860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、等差数列的通项公式；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219320" y="3581280"/>
            <a:ext cx="6705360" cy="703440"/>
            <a:chOff x="1219320" y="3581280"/>
            <a:chExt cx="6705360" cy="703440"/>
          </a:xfrm>
        </p:grpSpPr>
        <p:sp>
          <p:nvSpPr>
            <p:cNvPr id="159" name=""/>
            <p:cNvSpPr/>
            <p:nvPr/>
          </p:nvSpPr>
          <p:spPr>
            <a:xfrm>
              <a:off x="2057400" y="3581280"/>
              <a:ext cx="58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方正姚体"/>
                </a:rPr>
                <a:t>求等差数列的首项和公差，进而求其它项。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19320" y="358128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方正姚体"/>
                </a:rPr>
                <a:t>3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方正姚体"/>
                </a:rPr>
                <a:t>、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629400" y="5257800"/>
            <a:ext cx="2133720" cy="91692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小结：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9144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§3.2.1  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等差数列及其通项公式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2362320"/>
            <a:ext cx="64767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中宋"/>
                <a:ea typeface="华文中宋"/>
              </a:rPr>
              <a:t>本节课的目标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能准确叙述等差数列的定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会求等差数列的公差及通项公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掌握等差数列的特殊性质及应用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5335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复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列数叫做数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列中的每一个数叫做这个数列的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列简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9907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隶书"/>
              </a:rPr>
              <a:t>一定次序排列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1600" y="1371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隶书"/>
              </a:rPr>
              <a:t>项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24280" y="1371600"/>
            <a:ext cx="762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隶书"/>
                <a:ea typeface="隶书"/>
              </a:rPr>
              <a:t>{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隶书"/>
                <a:ea typeface="隶书"/>
              </a:rPr>
              <a:t>n</a:t>
            </a:r>
            <a:r>
              <a:rPr b="1" lang="en-US" sz="2400" spc="-1" strike="noStrike">
                <a:solidFill>
                  <a:srgbClr val="0000cc"/>
                </a:solidFill>
                <a:latin typeface="隶书"/>
                <a:ea typeface="隶书"/>
              </a:rPr>
              <a:t>}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905120"/>
            <a:ext cx="7924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数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{a</a:t>
            </a:r>
            <a:r>
              <a:rPr b="0" lang="zh-CN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之间可以用一个公式来表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那么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就叫做这个数列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项公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182880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隶书"/>
                <a:ea typeface="隶书"/>
              </a:rPr>
              <a:t>第</a:t>
            </a:r>
            <a:r>
              <a:rPr b="1" lang="en-US" sz="2400" spc="-1" strike="noStrike">
                <a:solidFill>
                  <a:srgbClr val="0000cc"/>
                </a:solidFill>
                <a:latin typeface="隶书"/>
                <a:ea typeface="隶书"/>
              </a:rPr>
              <a:t>n</a:t>
            </a:r>
            <a:r>
              <a:rPr b="1" lang="zh-CN" sz="2400" spc="-1" strike="noStrike">
                <a:solidFill>
                  <a:srgbClr val="0000cc"/>
                </a:solidFill>
                <a:latin typeface="隶书"/>
                <a:ea typeface="隶书"/>
              </a:rPr>
              <a:t>项</a:t>
            </a:r>
            <a:r>
              <a:rPr b="1" lang="en-US" sz="2400" spc="-1" strike="noStrike">
                <a:solidFill>
                  <a:srgbClr val="0000cc"/>
                </a:solidFill>
                <a:latin typeface="隶书"/>
                <a:ea typeface="隶书"/>
              </a:rPr>
              <a:t>a</a:t>
            </a:r>
            <a:r>
              <a:rPr b="1" lang="en-US" sz="2400" spc="-1" strike="noStrike" baseline="-25000">
                <a:solidFill>
                  <a:srgbClr val="0000cc"/>
                </a:solidFill>
                <a:latin typeface="隶书"/>
                <a:ea typeface="隶书"/>
              </a:rPr>
              <a:t>n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2286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隶书"/>
              </a:rPr>
              <a:t>这个公式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743200"/>
            <a:ext cx="8610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,1,2,…,n-1,n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记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A.    {n}           B.     {n-1}          C.    {n+1}    D.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上都不对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25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52280" y="3962520"/>
            <a:ext cx="8077320" cy="2376360"/>
            <a:chOff x="152280" y="3962520"/>
            <a:chExt cx="8077320" cy="2376360"/>
          </a:xfrm>
        </p:grpSpPr>
        <p:sp>
          <p:nvSpPr>
            <p:cNvPr id="99" name=""/>
            <p:cNvSpPr/>
            <p:nvPr/>
          </p:nvSpPr>
          <p:spPr>
            <a:xfrm>
              <a:off x="152280" y="3962520"/>
              <a:ext cx="8077320" cy="21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数列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,0,1,0,1 …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的一个通项公式是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      )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Times New Roman"/>
                <a:buAutoNum type="alphaU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B.                     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C.                                               D.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804960" y="4353120"/>
                  <a:ext cx="205740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4564080" y="5257800"/>
                  <a:ext cx="207324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1027080" y="5486400"/>
                  <a:ext cx="183204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4600440" y="4267440"/>
                  <a:ext cx="205740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4" name=""/>
          <p:cNvSpPr/>
          <p:nvPr/>
        </p:nvSpPr>
        <p:spPr>
          <a:xfrm>
            <a:off x="5105520" y="3962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457200"/>
            <a:ext cx="4114800" cy="949320"/>
            <a:chOff x="0" y="457200"/>
            <a:chExt cx="4114800" cy="949320"/>
          </a:xfrm>
        </p:grpSpPr>
        <p:sp>
          <p:nvSpPr>
            <p:cNvPr id="106" name=""/>
            <p:cNvSpPr/>
            <p:nvPr/>
          </p:nvSpPr>
          <p:spPr>
            <a:xfrm>
              <a:off x="0" y="457200"/>
              <a:ext cx="4114800" cy="949320"/>
            </a:xfrm>
            <a:custGeom>
              <a:avLst/>
              <a:gdLst>
                <a:gd name="textAreaLeft" fmla="*/ 939240 w 4114800"/>
                <a:gd name="textAreaRight" fmla="*/ 3175560 w 4114800"/>
                <a:gd name="textAreaTop" fmla="*/ 216720 h 949320"/>
                <a:gd name="textAreaBottom" fmla="*/ 732600 h 94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7a77"/>
              </a:solidFill>
              <a:miter/>
            </a:ln>
            <a:effectLst>
              <a:outerShdw dist="107932" dir="2700000" blurRad="0" rotWithShape="0">
                <a:srgbClr val="007a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3160" y="563400"/>
              <a:ext cx="312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ff"/>
                  </a:solidFill>
                  <a:latin typeface="华文新魏"/>
                  <a:ea typeface="华文新魏"/>
                </a:rPr>
                <a:t>引  入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28600" y="1600200"/>
            <a:ext cx="393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隶书"/>
              </a:rPr>
              <a:t>观察下列数列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0880" y="2438280"/>
            <a:ext cx="7162920" cy="703440"/>
            <a:chOff x="380880" y="2438280"/>
            <a:chExt cx="7162920" cy="703440"/>
          </a:xfrm>
        </p:grpSpPr>
        <p:sp>
          <p:nvSpPr>
            <p:cNvPr id="110" name=""/>
            <p:cNvSpPr/>
            <p:nvPr/>
          </p:nvSpPr>
          <p:spPr>
            <a:xfrm>
              <a:off x="380880" y="2438280"/>
              <a:ext cx="716292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7a77"/>
              </a:solidFill>
              <a:miter/>
            </a:ln>
            <a:effectLst>
              <a:outerShdw dist="71785" dir="2700000" blurRad="0" rotWithShape="0">
                <a:srgbClr val="007a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3520" y="2438280"/>
              <a:ext cx="6476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（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1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） 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4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，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5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，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6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，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7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，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8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，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9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，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10 </a:t>
              </a:r>
              <a:r>
                <a:rPr b="1" lang="zh-CN" sz="4000" spc="-1" strike="noStrike">
                  <a:solidFill>
                    <a:srgbClr val="3366ff"/>
                  </a:solidFill>
                  <a:latin typeface="宋体"/>
                </a:rPr>
                <a:t>…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0880" y="3505320"/>
            <a:ext cx="7162920" cy="685800"/>
            <a:chOff x="380880" y="3505320"/>
            <a:chExt cx="7162920" cy="685800"/>
          </a:xfrm>
        </p:grpSpPr>
        <p:sp>
          <p:nvSpPr>
            <p:cNvPr id="113" name=""/>
            <p:cNvSpPr/>
            <p:nvPr/>
          </p:nvSpPr>
          <p:spPr>
            <a:xfrm>
              <a:off x="380880" y="3505320"/>
              <a:ext cx="716292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7a77"/>
              </a:solidFill>
              <a:miter/>
            </a:ln>
            <a:effectLst>
              <a:outerShdw dist="71785" dir="2700000" blurRad="0" rotWithShape="0">
                <a:srgbClr val="007a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3520" y="3505320"/>
              <a:ext cx="6476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（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2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） 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3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，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0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，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-3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，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-6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， …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80880" y="4495680"/>
            <a:ext cx="7696080" cy="687960"/>
            <a:chOff x="380880" y="4495680"/>
            <a:chExt cx="7696080" cy="687960"/>
          </a:xfrm>
        </p:grpSpPr>
        <p:sp>
          <p:nvSpPr>
            <p:cNvPr id="116" name=""/>
            <p:cNvSpPr/>
            <p:nvPr/>
          </p:nvSpPr>
          <p:spPr>
            <a:xfrm>
              <a:off x="459720" y="4495680"/>
              <a:ext cx="7300080" cy="6858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7a77"/>
              </a:solidFill>
              <a:miter/>
            </a:ln>
            <a:effectLst>
              <a:outerShdw dist="71785" dir="2700000" blurRad="0" rotWithShape="0">
                <a:srgbClr val="007a7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0880" y="4602240"/>
              <a:ext cx="769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（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3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） 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0.1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， </a:t>
              </a:r>
              <a:r>
                <a:rPr b="1" lang="zh-CN" sz="3200" spc="-1" strike="noStrike">
                  <a:solidFill>
                    <a:srgbClr val="3366ff"/>
                  </a:solidFill>
                  <a:latin typeface="宋体"/>
                </a:rPr>
                <a:t>0.2, 0.3, 0.4, 0.5, …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380880" y="556272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观察以上数列有什么共同特点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7621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列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从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项起，每一项与前一项的差都等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152280" y="1523880"/>
            <a:ext cx="98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1580b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数列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从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项起，每一项与前一项的差都等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133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从以上几个例子可以看出，这些数列都具有这样的共同特点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3352680"/>
            <a:ext cx="93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从第二项起，每一项与前一项的差都等于同一个常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4495680"/>
            <a:ext cx="1600200" cy="685800"/>
          </a:xfrm>
          <a:prstGeom prst="rect">
            <a:avLst/>
          </a:prstGeom>
          <a:solidFill>
            <a:srgbClr val="66ffff"/>
          </a:solidFill>
          <a:ln w="0">
            <a:noFill/>
          </a:ln>
          <a:effectLst>
            <a:outerShdw dist="162651" dir="19282789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定义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33720" y="43434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般地，如果一个数列从第二项起，每一项与它的前一项的差都等于同一个常数，那么这个数列就叫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等差数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33720" y="56386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个常数叫做等差数列的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公差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75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09480"/>
            <a:ext cx="78487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如果等差数列｛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a</a:t>
            </a:r>
            <a:r>
              <a:rPr b="1" lang="zh-CN" sz="3200" spc="-1" strike="noStrike" baseline="-25000">
                <a:solidFill>
                  <a:srgbClr val="ff33cc"/>
                </a:solidFill>
                <a:latin typeface="Times New Roman"/>
              </a:rPr>
              <a:t>n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｝的首项是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a</a:t>
            </a:r>
            <a:r>
              <a:rPr b="1" lang="zh-CN" sz="3200" spc="-1" strike="noStrike" baseline="-25000">
                <a:solidFill>
                  <a:srgbClr val="ff33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，公差是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d 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，那么根据等差列数的定义可得到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1676520"/>
            <a:ext cx="6934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宋体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=d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ff"/>
                </a:solidFill>
                <a:latin typeface="宋体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=d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ff"/>
                </a:solidFill>
                <a:latin typeface="宋体"/>
              </a:rPr>
              <a:t>-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0" lang="en-US" sz="3600" spc="-1" strike="noStrike" baseline="-25000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=d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• • • • • •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259092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所以：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a</a:t>
            </a:r>
            <a:r>
              <a:rPr b="1" lang="zh-CN" sz="3200" spc="-1" strike="noStrike" baseline="-25000">
                <a:solidFill>
                  <a:srgbClr val="99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=a</a:t>
            </a:r>
            <a:r>
              <a:rPr b="1" lang="zh-CN" sz="3200" spc="-1" strike="noStrike" baseline="-25000">
                <a:solidFill>
                  <a:srgbClr val="99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+d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133720" y="3276720"/>
            <a:ext cx="5029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9900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=a</a:t>
            </a:r>
            <a:r>
              <a:rPr b="1" lang="en-US" sz="3200" spc="-1" strike="noStrike" baseline="-25000">
                <a:solidFill>
                  <a:srgbClr val="9900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+d=(a</a:t>
            </a:r>
            <a:r>
              <a:rPr b="1" lang="en-US" sz="3200" spc="-1" strike="noStrike" baseline="-25000">
                <a:solidFill>
                  <a:srgbClr val="9900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+d)+d=a</a:t>
            </a:r>
            <a:r>
              <a:rPr b="1" lang="en-US" sz="3200" spc="-1" strike="noStrike" baseline="-25000">
                <a:solidFill>
                  <a:srgbClr val="9900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+2d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33720" y="3962520"/>
            <a:ext cx="6476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a</a:t>
            </a:r>
            <a:r>
              <a:rPr b="1" lang="en-US" sz="3200" spc="-1" strike="noStrike" baseline="-25000">
                <a:solidFill>
                  <a:srgbClr val="9900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=a</a:t>
            </a:r>
            <a:r>
              <a:rPr b="1" lang="en-US" sz="3200" spc="-1" strike="noStrike" baseline="-25000">
                <a:solidFill>
                  <a:srgbClr val="9900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+d=(a</a:t>
            </a:r>
            <a:r>
              <a:rPr b="1" lang="en-US" sz="3200" spc="-1" strike="noStrike" baseline="-25000">
                <a:solidFill>
                  <a:srgbClr val="9900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+2d)+d=a</a:t>
            </a:r>
            <a:r>
              <a:rPr b="1" lang="en-US" sz="3200" spc="-1" strike="noStrike" baseline="-25000">
                <a:solidFill>
                  <a:srgbClr val="9900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+3d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44956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00ff"/>
                </a:solidFill>
                <a:latin typeface="Times New Roman"/>
                <a:ea typeface="Times New Roman"/>
              </a:rPr>
              <a:t>• • • • • •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5029200"/>
            <a:ext cx="4038480" cy="825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由此可得到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19720" y="4952880"/>
            <a:ext cx="4190760" cy="926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=a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+(n-1)d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685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14400" y="6858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）求等差数列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••• 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的第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项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371600"/>
            <a:ext cx="68580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401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是不是等差数列</a:t>
            </a: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13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••• 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的项？如果是，是第几项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2209680"/>
            <a:ext cx="7391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）由 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cc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=8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d=5 </a:t>
            </a: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8 = </a:t>
            </a: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n =20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，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38280" y="2895480"/>
            <a:ext cx="4343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cc3399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= 8+(20</a:t>
            </a:r>
            <a:r>
              <a:rPr b="1" lang="en-US" sz="2800" spc="-1" strike="noStrike">
                <a:solidFill>
                  <a:srgbClr val="cc3399"/>
                </a:solidFill>
                <a:latin typeface="宋体"/>
              </a:rPr>
              <a:t>-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1)×(</a:t>
            </a:r>
            <a:r>
              <a:rPr b="1" lang="en-US" sz="2800" spc="-1" strike="noStrike">
                <a:solidFill>
                  <a:srgbClr val="cc3399"/>
                </a:solidFill>
                <a:latin typeface="宋体"/>
              </a:rPr>
              <a:t>-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3)= </a:t>
            </a:r>
            <a:r>
              <a:rPr b="1" lang="en-US" sz="2800" spc="-1" strike="noStrike">
                <a:solidFill>
                  <a:srgbClr val="cc3399"/>
                </a:solidFill>
                <a:latin typeface="宋体"/>
              </a:rPr>
              <a:t>-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49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3429000"/>
            <a:ext cx="70866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）由 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a</a:t>
            </a:r>
            <a:r>
              <a:rPr b="1" lang="zh-CN" sz="2800" spc="-1" strike="noStrike" baseline="-25000">
                <a:solidFill>
                  <a:srgbClr val="cc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 5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d= </a:t>
            </a: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 9 </a:t>
            </a: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–(-5)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 = </a:t>
            </a: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-4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得到这个数列的通项公式为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4114800"/>
            <a:ext cx="281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cc3399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cc3399"/>
                </a:solidFill>
                <a:latin typeface="宋体"/>
              </a:rPr>
              <a:t>-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5 </a:t>
            </a:r>
            <a:r>
              <a:rPr b="1" lang="en-US" sz="2800" spc="-1" strike="noStrike">
                <a:solidFill>
                  <a:srgbClr val="cc3399"/>
                </a:solidFill>
                <a:latin typeface="宋体"/>
              </a:rPr>
              <a:t>-</a:t>
            </a:r>
            <a:r>
              <a:rPr b="1" lang="en-US" sz="2800" spc="-1" strike="noStrike">
                <a:solidFill>
                  <a:srgbClr val="cc3399"/>
                </a:solidFill>
                <a:latin typeface="Times New Roman"/>
              </a:rPr>
              <a:t> 4</a:t>
            </a:r>
            <a:r>
              <a:rPr b="1" lang="en-US" sz="2800" spc="-1" strike="noStrike">
                <a:solidFill>
                  <a:srgbClr val="cc3399"/>
                </a:solidFill>
                <a:latin typeface="宋体"/>
              </a:rPr>
              <a:t>(n-1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4495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由题意知，本题是要回答是否存在正整数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4952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使得：  </a:t>
            </a: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 401= </a:t>
            </a: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 5 </a:t>
            </a: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 4</a:t>
            </a: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(n-1) </a:t>
            </a: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成立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54864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解这个关于 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n 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的方程，得 </a:t>
            </a: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n=100</a:t>
            </a: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81080" y="60958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即</a:t>
            </a: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-401</a:t>
            </a: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是这个数列的第</a:t>
            </a: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cc3399"/>
                </a:solidFill>
                <a:latin typeface="宋体"/>
              </a:rPr>
              <a:t>项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6858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685800"/>
            <a:ext cx="57913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在等差数列｛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a </a:t>
            </a:r>
            <a:r>
              <a:rPr b="1" lang="zh-CN" sz="2800" spc="-1" strike="noStrike" baseline="-25000">
                <a:solidFill>
                  <a:srgbClr val="cc3399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｝中，已知</a:t>
            </a:r>
            <a:r>
              <a:rPr b="1" lang="zh-CN" sz="3200" spc="-1" strike="noStrike">
                <a:solidFill>
                  <a:srgbClr val="cc3399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cc3399"/>
                </a:solidFill>
                <a:latin typeface="Times New Roman"/>
              </a:rPr>
              <a:t>a</a:t>
            </a:r>
            <a:r>
              <a:rPr b="1" lang="zh-CN" sz="1400" spc="-1" strike="noStrike">
                <a:solidFill>
                  <a:srgbClr val="cc3399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=10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， 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a </a:t>
            </a:r>
            <a:r>
              <a:rPr b="1" lang="zh-CN" sz="2000" spc="-1" strike="noStrike" baseline="-25000">
                <a:solidFill>
                  <a:srgbClr val="cc3399"/>
                </a:solidFill>
                <a:latin typeface="Times New Roman"/>
              </a:rPr>
              <a:t>12</a:t>
            </a:r>
            <a:r>
              <a:rPr b="1" lang="zh-CN" sz="2000" spc="-1" strike="noStrike">
                <a:solidFill>
                  <a:srgbClr val="cc3399"/>
                </a:solidFill>
                <a:latin typeface="Times New Roman"/>
              </a:rPr>
              <a:t>=31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，求首项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a </a:t>
            </a:r>
            <a:r>
              <a:rPr b="1" lang="zh-CN" sz="2800" spc="-1" strike="noStrike" baseline="-25000">
                <a:solidFill>
                  <a:srgbClr val="cc3399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与公差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cc3399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19280" y="1844640"/>
            <a:ext cx="6324480" cy="29757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Times New Roman"/>
              </a:rPr>
              <a:t>分析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由公式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Times New Roman"/>
              </a:rPr>
              <a:t>n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=a</a:t>
            </a:r>
            <a:r>
              <a:rPr b="1" lang="zh-CN" sz="36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+(n-1)d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可得：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3200" spc="-1" strike="noStrike" baseline="-25000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=a</a:t>
            </a:r>
            <a:r>
              <a:rPr b="1" lang="zh-CN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a</a:t>
            </a:r>
            <a:r>
              <a:rPr b="1" lang="zh-CN" sz="3200" spc="-1" strike="noStrike" baseline="-25000">
                <a:solidFill>
                  <a:srgbClr val="0000ff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=a</a:t>
            </a:r>
            <a:r>
              <a:rPr b="1" lang="zh-CN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把它们联立起来，构成一个二元一次方程组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18" dur="1" fill="hold"/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219320" y="19810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由题意可知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1905120"/>
            <a:ext cx="22860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4d=1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11d=3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4114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这个方程组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3124080"/>
            <a:ext cx="64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bf7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是一个以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未知数的二元一次方程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4114800"/>
            <a:ext cx="259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 = 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4876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这个等差数列的首项是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公差是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2-26T12:11:51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