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5.wmf" ContentType="image/x-wmf"/>
  <Override PartName="/ppt/media/image3.gif" ContentType="image/gif"/>
  <Override PartName="/ppt/media/image4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EED2-3B5C-4F68-8022-3364CD6F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DDE7-EB31-4584-9D3F-D842F272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7741-3F6B-4937-9980-EF27CAE8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740C-3732-4870-8E1C-CAF69E55A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E125-453E-445A-9120-3BDCE965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1C88-EF8E-4693-B1E0-BAB3B601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7A03-8FF1-4177-890C-11C8D839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4E1F-4E65-472A-9BCF-62DCB906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8AE4-C580-4C0D-ABAB-130FB319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0433-71CA-43C7-B04A-C5D9DD69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13CE-452B-4805-A316-3B54FAFF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4D52-95BA-4A3B-BDB9-53A0BBC5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2386-1C42-4F91-BBC7-290F774CD2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86104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宋体"/>
              </a:rPr>
              <a:t>3.2.2</a:t>
            </a:r>
            <a:r>
              <a:rPr b="0" lang="zh-CN" sz="5400" spc="-1" strike="noStrike">
                <a:solidFill>
                  <a:srgbClr val="ff0000"/>
                </a:solidFill>
                <a:latin typeface="宋体"/>
              </a:rPr>
              <a:t>等差数列的前</a:t>
            </a:r>
            <a:r>
              <a:rPr b="0" lang="zh-CN" sz="5400" spc="-1" strike="noStrike">
                <a:solidFill>
                  <a:srgbClr val="ff0000"/>
                </a:solidFill>
                <a:latin typeface="宋体"/>
              </a:rPr>
              <a:t>n</a:t>
            </a:r>
            <a:r>
              <a:rPr b="0" lang="zh-CN" sz="5400" spc="-1" strike="noStrike">
                <a:solidFill>
                  <a:srgbClr val="ff0000"/>
                </a:solidFill>
                <a:latin typeface="宋体"/>
              </a:rPr>
              <a:t>项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344080" y="605808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6058080"/>
            <a:ext cx="800280" cy="799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81240" y="-360"/>
            <a:ext cx="9219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等差数列的前</a:t>
            </a: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n</a:t>
            </a: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项和练习</a:t>
            </a: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8380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下列条件，求相应的等差数列            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5105520" y="762120"/>
                <a:ext cx="7617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6324480" y="685800"/>
                <a:ext cx="8589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762120" y="1447920"/>
                <a:ext cx="4949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1066680" y="3733920"/>
                <a:ext cx="53341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152280" y="2743200"/>
            <a:ext cx="990720" cy="380880"/>
          </a:xfrm>
          <a:custGeom>
            <a:avLst/>
            <a:gdLst>
              <a:gd name="textAreaLeft" fmla="*/ 0 w 990720"/>
              <a:gd name="textAreaRight" fmla="*/ 991080 w 990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46483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324480" y="1143000"/>
            <a:ext cx="2819520" cy="1752480"/>
            <a:chOff x="6324480" y="1143000"/>
            <a:chExt cx="2819520" cy="1752480"/>
          </a:xfrm>
        </p:grpSpPr>
        <p:sp>
          <p:nvSpPr>
            <p:cNvPr id="191" name=""/>
            <p:cNvSpPr/>
            <p:nvPr/>
          </p:nvSpPr>
          <p:spPr>
            <a:xfrm>
              <a:off x="6400800" y="1143000"/>
              <a:ext cx="2666880" cy="1752480"/>
            </a:xfrm>
            <a:prstGeom prst="wedgeEllipseCallout">
              <a:avLst>
                <a:gd name="adj1" fmla="val -114462"/>
                <a:gd name="adj2" fmla="val 31976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2" name=""/>
                <p:cNvSpPr txBox="1"/>
                <p:nvPr/>
              </p:nvSpPr>
              <p:spPr>
                <a:xfrm>
                  <a:off x="6324480" y="1676520"/>
                  <a:ext cx="2819520" cy="105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（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298520" y="2590920"/>
                <a:ext cx="5330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×</m:t>
                        </m:r>
                        <m:r>
                          <m:t xml:space="preserve">[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4" name=""/>
          <p:cNvGrpSpPr/>
          <p:nvPr/>
        </p:nvGrpSpPr>
        <p:grpSpPr>
          <a:xfrm>
            <a:off x="5867280" y="3962520"/>
            <a:ext cx="3124080" cy="990360"/>
            <a:chOff x="5867280" y="3962520"/>
            <a:chExt cx="3124080" cy="990360"/>
          </a:xfrm>
        </p:grpSpPr>
        <p:sp>
          <p:nvSpPr>
            <p:cNvPr id="195" name=""/>
            <p:cNvSpPr/>
            <p:nvPr/>
          </p:nvSpPr>
          <p:spPr>
            <a:xfrm>
              <a:off x="5867280" y="3962520"/>
              <a:ext cx="3124080" cy="990360"/>
            </a:xfrm>
            <a:prstGeom prst="wedgeEllipseCallout">
              <a:avLst>
                <a:gd name="adj1" fmla="val -75305"/>
                <a:gd name="adj2" fmla="val 1762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6238800" y="4190760"/>
                  <a:ext cx="2752560" cy="60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914400" y="5106960"/>
                <a:ext cx="23623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276720" y="4952880"/>
                <a:ext cx="491652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9" name="Q_039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等差数列的作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76520" y="4495680"/>
            <a:ext cx="556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祝同学们学习愉快，人人成绩优异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line09" descr=""/>
          <p:cNvPicPr/>
          <p:nvPr/>
        </p:nvPicPr>
        <p:blipFill>
          <a:blip r:embed="rId2"/>
          <a:stretch/>
        </p:blipFill>
        <p:spPr>
          <a:xfrm>
            <a:off x="0" y="1676520"/>
            <a:ext cx="9144000" cy="6411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762120" y="2666880"/>
            <a:ext cx="76960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Times New Roman"/>
              </a:rPr>
              <a:t>作业</a:t>
            </a:r>
            <a:r>
              <a:rPr b="0" lang="zh-CN" sz="5400" spc="-1" strike="noStrike">
                <a:solidFill>
                  <a:srgbClr val="cc3300"/>
                </a:solidFill>
                <a:latin typeface="Times New Roman"/>
              </a:rPr>
              <a:t>　</a:t>
            </a:r>
            <a:r>
              <a:rPr b="0" lang="zh-CN" sz="5400" spc="-1" strike="noStrike">
                <a:solidFill>
                  <a:srgbClr val="cc3300"/>
                </a:solidFill>
                <a:latin typeface="Times New Roman"/>
              </a:rPr>
              <a:t>P</a:t>
            </a:r>
            <a:r>
              <a:rPr b="0" lang="zh-CN" sz="5400" spc="-1" strike="noStrike" baseline="-25000">
                <a:solidFill>
                  <a:srgbClr val="cc3300"/>
                </a:solidFill>
                <a:latin typeface="Times New Roman"/>
              </a:rPr>
              <a:t>122     </a:t>
            </a:r>
            <a:r>
              <a:rPr b="0" lang="zh-CN" sz="54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0" lang="zh-CN" sz="5400" spc="-1" strike="noStrike" baseline="-25000">
                <a:solidFill>
                  <a:srgbClr val="cc3300"/>
                </a:solidFill>
                <a:latin typeface="Times New Roman"/>
              </a:rPr>
              <a:t>(1),(2)  ,    </a:t>
            </a:r>
            <a:r>
              <a:rPr b="0" lang="zh-CN" sz="5400" spc="-1" strike="noStrike">
                <a:solidFill>
                  <a:srgbClr val="cc3300"/>
                </a:solidFill>
                <a:latin typeface="Times New Roman"/>
              </a:rPr>
              <a:t>2 ,  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0528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等差数列的前</a:t>
            </a:r>
            <a:r>
              <a:rPr b="0" lang="zh-CN" sz="44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n</a:t>
            </a:r>
            <a:r>
              <a:rPr b="0" lang="zh-CN" sz="44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项和练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11430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自然数中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数的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236232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867280" y="838080"/>
            <a:ext cx="2819520" cy="1752480"/>
            <a:chOff x="5867280" y="838080"/>
            <a:chExt cx="2819520" cy="1752480"/>
          </a:xfrm>
        </p:grpSpPr>
        <p:sp>
          <p:nvSpPr>
            <p:cNvPr id="208" name=""/>
            <p:cNvSpPr/>
            <p:nvPr/>
          </p:nvSpPr>
          <p:spPr>
            <a:xfrm>
              <a:off x="5943600" y="838080"/>
              <a:ext cx="2666880" cy="1752480"/>
            </a:xfrm>
            <a:prstGeom prst="wedgeEllipseCallout">
              <a:avLst>
                <a:gd name="adj1" fmla="val -114462"/>
                <a:gd name="adj2" fmla="val 31976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"/>
                <p:cNvSpPr txBox="1"/>
                <p:nvPr/>
              </p:nvSpPr>
              <p:spPr>
                <a:xfrm>
                  <a:off x="5867280" y="1371600"/>
                  <a:ext cx="2819520" cy="105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（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428840" y="2133720"/>
                <a:ext cx="431316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685800" y="35053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自然数中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偶数的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324480" y="1295280"/>
            <a:ext cx="2819520" cy="1752480"/>
            <a:chOff x="6324480" y="1295280"/>
            <a:chExt cx="2819520" cy="1752480"/>
          </a:xfrm>
        </p:grpSpPr>
        <p:sp>
          <p:nvSpPr>
            <p:cNvPr id="213" name=""/>
            <p:cNvSpPr/>
            <p:nvPr/>
          </p:nvSpPr>
          <p:spPr>
            <a:xfrm>
              <a:off x="6400800" y="1295280"/>
              <a:ext cx="2666880" cy="1752480"/>
            </a:xfrm>
            <a:prstGeom prst="wedgeEllipseCallout">
              <a:avLst>
                <a:gd name="adj1" fmla="val -162736"/>
                <a:gd name="adj2" fmla="val 133875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"/>
                <p:cNvSpPr txBox="1"/>
                <p:nvPr/>
              </p:nvSpPr>
              <p:spPr>
                <a:xfrm>
                  <a:off x="6324480" y="1828440"/>
                  <a:ext cx="2819520" cy="105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（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292400" y="4495680"/>
                <a:ext cx="44719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380880" y="4800600"/>
            <a:ext cx="685800" cy="304920"/>
          </a:xfrm>
          <a:custGeom>
            <a:avLst/>
            <a:gdLst>
              <a:gd name="textAreaLeft" fmla="*/ 85680 w 685800"/>
              <a:gd name="textAreaRight" fmla="*/ 600120 w 6858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Q_039" descr=""/>
          <p:cNvPicPr/>
          <p:nvPr/>
        </p:nvPicPr>
        <p:blipFill>
          <a:blip r:embed="rId2"/>
          <a:stretch/>
        </p:blipFill>
        <p:spPr>
          <a:xfrm>
            <a:off x="8001000" y="600084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218" name="Q_039" descr=""/>
          <p:cNvPicPr/>
          <p:nvPr/>
        </p:nvPicPr>
        <p:blipFill>
          <a:blip r:embed="rId3"/>
          <a:stretch/>
        </p:blipFill>
        <p:spPr>
          <a:xfrm>
            <a:off x="0" y="600084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52280" y="958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已知一个直角三角形的三条边的长成等差数列，求证它们的比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201924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证明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3880" y="201924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将成等差数列的三条边的长从小到大排列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320" y="24764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它们可以表示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90920" y="232416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-d,   a,   a+d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这里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a-d&gt;0,d&gt;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293364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由勾股定理，得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981080" y="3314880"/>
                <a:ext cx="4648320" cy="73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d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d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533520" y="43052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解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286000" y="4152960"/>
                <a:ext cx="20574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609480" y="5257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从而这三边的长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5105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d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00600" y="5105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d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5880" y="5105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d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5867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因此，这三条边的长的比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Q_039" descr=""/>
          <p:cNvPicPr/>
          <p:nvPr/>
        </p:nvPicPr>
        <p:blipFill>
          <a:blip r:embed="rId2"/>
          <a:stretch/>
        </p:blipFill>
        <p:spPr>
          <a:xfrm>
            <a:off x="8001000" y="6000840"/>
            <a:ext cx="1143000" cy="8571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等差数列的前</a:t>
            </a:r>
            <a:r>
              <a:rPr b="0" lang="zh-CN" sz="44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n</a:t>
            </a:r>
            <a:r>
              <a:rPr b="0" lang="zh-CN" sz="44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项和练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Q_039" descr=""/>
          <p:cNvPicPr/>
          <p:nvPr/>
        </p:nvPicPr>
        <p:blipFill>
          <a:blip r:embed="rId2"/>
          <a:stretch/>
        </p:blipFill>
        <p:spPr>
          <a:xfrm>
            <a:off x="8001000" y="6000840"/>
            <a:ext cx="1143000" cy="8571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0" y="3049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等差数列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34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项的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600200"/>
            <a:ext cx="9144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等差数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a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1,a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 - 512,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 - 1022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公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及项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– a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48, 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– a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36, S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– a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– a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– a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n-1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– a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21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这个数列的所有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Q_039" descr=""/>
          <p:cNvPicPr/>
          <p:nvPr/>
        </p:nvPicPr>
        <p:blipFill>
          <a:blip r:embed="rId2"/>
          <a:stretch/>
        </p:blipFill>
        <p:spPr>
          <a:xfrm>
            <a:off x="8001000" y="6000840"/>
            <a:ext cx="1143000" cy="85716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已知一个等差数列的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项的和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310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项的和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220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求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项和公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以及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项的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1371600"/>
            <a:ext cx="8991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已知数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{a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}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是等差数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,S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是其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项的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求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:S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, S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-S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, S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-S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成等差数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k∈N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  <a:ea typeface="华文行楷"/>
              </a:rPr>
              <a:t>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求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:S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, S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2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-S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, S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3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-S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华文行楷"/>
              </a:rPr>
              <a:t>2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成等差数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Q_039" descr=""/>
          <p:cNvPicPr/>
          <p:nvPr/>
        </p:nvPicPr>
        <p:blipFill>
          <a:blip r:embed="rId2"/>
          <a:stretch/>
        </p:blipFill>
        <p:spPr>
          <a:xfrm>
            <a:off x="8001000" y="6000840"/>
            <a:ext cx="1143000" cy="85716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152280" y="1523880"/>
            <a:ext cx="86868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等差数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{a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S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其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项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首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3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S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问此数列前多少项和最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15228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P122.3,6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 P122.8,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复习数列的有关概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0" y="990720"/>
            <a:ext cx="9144000" cy="1145160"/>
            <a:chOff x="0" y="990720"/>
            <a:chExt cx="9144000" cy="1145160"/>
          </a:xfrm>
        </p:grpSpPr>
        <p:sp>
          <p:nvSpPr>
            <p:cNvPr id="47" name=""/>
            <p:cNvSpPr/>
            <p:nvPr/>
          </p:nvSpPr>
          <p:spPr>
            <a:xfrm>
              <a:off x="0" y="1066680"/>
              <a:ext cx="914400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ff"/>
                  </a:solidFill>
                  <a:latin typeface="Times New Roman"/>
                </a:rPr>
                <a:t>    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如果数列           的第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n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项       与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n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之间的关系可以用一个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公式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来表示，这个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公式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就叫做这个数列的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通项公式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" name=""/>
                <p:cNvSpPr txBox="1"/>
                <p:nvPr/>
              </p:nvSpPr>
              <p:spPr>
                <a:xfrm>
                  <a:off x="2514600" y="1066680"/>
                  <a:ext cx="83808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4724280" y="990720"/>
                  <a:ext cx="65412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" name=""/>
          <p:cNvGrpSpPr/>
          <p:nvPr/>
        </p:nvGrpSpPr>
        <p:grpSpPr>
          <a:xfrm>
            <a:off x="304920" y="2209680"/>
            <a:ext cx="8153280" cy="1600200"/>
            <a:chOff x="304920" y="2209680"/>
            <a:chExt cx="8153280" cy="1600200"/>
          </a:xfrm>
        </p:grpSpPr>
        <p:sp>
          <p:nvSpPr>
            <p:cNvPr id="51" name=""/>
            <p:cNvSpPr/>
            <p:nvPr/>
          </p:nvSpPr>
          <p:spPr>
            <a:xfrm>
              <a:off x="304920" y="3124080"/>
              <a:ext cx="579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叫做数列           的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前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n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项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1905120" y="3124080"/>
                  <a:ext cx="83808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" name=""/>
                <p:cNvSpPr txBox="1"/>
                <p:nvPr/>
              </p:nvSpPr>
              <p:spPr>
                <a:xfrm>
                  <a:off x="1066680" y="2209680"/>
                  <a:ext cx="7391520" cy="887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+</m:t>
                      </m:r>
                      <m:r>
                        <m:t xml:space="preserve">⋯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143000" y="3886200"/>
                <a:ext cx="4876920" cy="17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n</m:t>
                              </m:r>
                              <m:r>
                                <m:t xml:space="preserve">≥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5" name="Q_011" descr=""/>
          <p:cNvPicPr/>
          <p:nvPr/>
        </p:nvPicPr>
        <p:blipFill>
          <a:blip r:embed="rId2"/>
          <a:stretch/>
        </p:blipFill>
        <p:spPr>
          <a:xfrm>
            <a:off x="8001000" y="5943600"/>
            <a:ext cx="1143000" cy="91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复习等差数列的有关概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990720"/>
            <a:ext cx="89154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定义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如果一个数列从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项起，每一项与它的前一项的差等于同一个常数（指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无关的数），这个数列就叫做等差数列，这个常数叫做等差数列的公差，公差通常用字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表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609480" y="3124080"/>
            <a:ext cx="8534520" cy="1206720"/>
            <a:chOff x="609480" y="3124080"/>
            <a:chExt cx="8534520" cy="1206720"/>
          </a:xfrm>
        </p:grpSpPr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066680" y="3733920"/>
              <a:ext cx="275292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5715000" y="3276720"/>
              <a:ext cx="3429000" cy="838080"/>
            </a:xfrm>
            <a:prstGeom prst="wedgeRoundRectCallout">
              <a:avLst>
                <a:gd name="adj1" fmla="val -103333"/>
                <a:gd name="adj2" fmla="val 31439"/>
                <a:gd name="adj3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当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d≠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时，这是关于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一个一次函数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9480" y="3276720"/>
              <a:ext cx="541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等差数列            的通项公式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1981080" y="3124080"/>
                  <a:ext cx="706680" cy="74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3" name=""/>
          <p:cNvGrpSpPr/>
          <p:nvPr/>
        </p:nvGrpSpPr>
        <p:grpSpPr>
          <a:xfrm>
            <a:off x="457200" y="4800600"/>
            <a:ext cx="8229600" cy="1371600"/>
            <a:chOff x="457200" y="4800600"/>
            <a:chExt cx="8229600" cy="1371600"/>
          </a:xfrm>
        </p:grpSpPr>
        <p:sp>
          <p:nvSpPr>
            <p:cNvPr id="64" name=""/>
            <p:cNvSpPr/>
            <p:nvPr/>
          </p:nvSpPr>
          <p:spPr>
            <a:xfrm>
              <a:off x="457200" y="4800600"/>
              <a:ext cx="822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如果在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与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中间插入一个数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，使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，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，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成等差数列，那么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叫做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与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b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的等差中项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5181480" y="5257800"/>
                  <a:ext cx="175284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66" name="Q_013" descr=""/>
          <p:cNvPicPr/>
          <p:nvPr/>
        </p:nvPicPr>
        <p:blipFill>
          <a:blip r:embed="rId3"/>
          <a:stretch/>
        </p:blipFill>
        <p:spPr>
          <a:xfrm>
            <a:off x="8321760" y="0"/>
            <a:ext cx="822240" cy="82224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990720" y="2286000"/>
            <a:ext cx="7314840" cy="579600"/>
            <a:chOff x="990720" y="2286000"/>
            <a:chExt cx="7314840" cy="579600"/>
          </a:xfrm>
        </p:grpSpPr>
        <p:sp>
          <p:nvSpPr>
            <p:cNvPr id="68" name=""/>
            <p:cNvSpPr/>
            <p:nvPr/>
          </p:nvSpPr>
          <p:spPr>
            <a:xfrm>
              <a:off x="990720" y="2286000"/>
              <a:ext cx="7314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n+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=d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常数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) 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｛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8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｝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是等差数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67920" y="2514600"/>
              <a:ext cx="1190520" cy="152280"/>
            </a:xfrm>
            <a:prstGeom prst="leftRightArrow">
              <a:avLst>
                <a:gd name="adj1" fmla="val 50000"/>
                <a:gd name="adj2" fmla="val 15563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高斯求和的故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9144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等差数列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1,2,…50,51,…1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的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3048120"/>
            <a:ext cx="838080" cy="914400"/>
          </a:xfrm>
          <a:custGeom>
            <a:avLst/>
            <a:gdLst>
              <a:gd name="textAreaLeft" fmla="*/ 130680 w 838080"/>
              <a:gd name="textAreaRight" fmla="*/ 733320 w 83808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Q_024" descr=""/>
          <p:cNvPicPr/>
          <p:nvPr/>
        </p:nvPicPr>
        <p:blipFill>
          <a:blip r:embed="rId2"/>
          <a:stretch/>
        </p:blipFill>
        <p:spPr>
          <a:xfrm>
            <a:off x="8610480" y="5867280"/>
            <a:ext cx="182520" cy="731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828800" y="1447920"/>
            <a:ext cx="4648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1+2+…+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057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+100=2+99=3+98=…=50+51=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3124080"/>
            <a:ext cx="6096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197080" y="2819520"/>
                <a:ext cx="176544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1676520" y="41148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=50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等差数列的前</a:t>
            </a: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n</a:t>
            </a: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项和公式的推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209680" y="838080"/>
            <a:ext cx="4647960" cy="727560"/>
            <a:chOff x="2209680" y="838080"/>
            <a:chExt cx="4647960" cy="727560"/>
          </a:xfrm>
        </p:grpSpPr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2209680" y="838080"/>
                  <a:ext cx="645840" cy="49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2894040" y="838080"/>
                  <a:ext cx="726840" cy="49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3723840" y="887760"/>
                  <a:ext cx="68580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5106600" y="838080"/>
                  <a:ext cx="725040" cy="528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5" name=""/>
            <p:cNvSpPr/>
            <p:nvPr/>
          </p:nvSpPr>
          <p:spPr>
            <a:xfrm>
              <a:off x="4290480" y="923040"/>
              <a:ext cx="1053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803200" y="871200"/>
              <a:ext cx="1054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685800" y="914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等差数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990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的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项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048120"/>
            <a:ext cx="838080" cy="914400"/>
          </a:xfrm>
          <a:custGeom>
            <a:avLst/>
            <a:gdLst>
              <a:gd name="textAreaLeft" fmla="*/ 130680 w 838080"/>
              <a:gd name="textAreaRight" fmla="*/ 733320 w 83808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371600" y="2666880"/>
                <a:ext cx="66326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limUpp>
                      <m:e>
                        <m:groupChr>
                          <m:groupChrPr>
                            <m:chr m:val="⏞"/>
                            <m:pos m:val="top"/>
                            <m:vertJc m:val="bot"/>
                          </m:groupChrPr>
                          <m:e>
                            <m:r>
                              <m:t xml:space="preserve">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  <m:r>
                              <m:t xml:space="preserve">+</m:t>
                            </m:r>
                            <m:r>
                              <m:t xml:space="preserve">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groupChr>
                      </m:e>
                      <m:lim>
                        <m:r>
                          <m:t xml:space="preserve">n个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057400" y="3962520"/>
                <a:ext cx="30481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（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457200" y="5105520"/>
            <a:ext cx="1295280" cy="76176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057400" y="4876920"/>
                <a:ext cx="358128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（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4" name="Q_024" descr=""/>
          <p:cNvPicPr/>
          <p:nvPr/>
        </p:nvPicPr>
        <p:blipFill>
          <a:blip r:embed="rId2"/>
          <a:stretch/>
        </p:blipFill>
        <p:spPr>
          <a:xfrm>
            <a:off x="8610480" y="5867280"/>
            <a:ext cx="182520" cy="731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828800" y="1447920"/>
            <a:ext cx="4648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+…+a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2057400"/>
            <a:ext cx="4648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n-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+…+a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等差数列的前</a:t>
            </a: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n</a:t>
            </a: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项和公式的其它形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57200" y="914400"/>
                <a:ext cx="358128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（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04920" y="2286000"/>
                <a:ext cx="34988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962520" y="2057400"/>
                <a:ext cx="461628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（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7200" y="3657600"/>
                <a:ext cx="34988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d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940200" y="3352680"/>
                <a:ext cx="466092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（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3" name="Q_025" descr=""/>
          <p:cNvPicPr/>
          <p:nvPr/>
        </p:nvPicPr>
        <p:blipFill>
          <a:blip r:embed="rId2"/>
          <a:stretch/>
        </p:blipFill>
        <p:spPr>
          <a:xfrm>
            <a:off x="8001000" y="571500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104" name="Q_025" descr=""/>
          <p:cNvPicPr/>
          <p:nvPr/>
        </p:nvPicPr>
        <p:blipFill>
          <a:blip r:embed="rId3"/>
          <a:stretch/>
        </p:blipFill>
        <p:spPr>
          <a:xfrm>
            <a:off x="0" y="6000840"/>
            <a:ext cx="857160" cy="857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等差数列的前</a:t>
            </a: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n</a:t>
            </a: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项和例题</a:t>
            </a: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7621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一个堆放铅笔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形架的最下面一层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支铅笔，往上每一层都比它下面一层多放一支，最上面一层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这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形架上共放着多少支铅笔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867280" y="3124080"/>
            <a:ext cx="3048120" cy="3124080"/>
            <a:chOff x="5867280" y="3124080"/>
            <a:chExt cx="3048120" cy="3124080"/>
          </a:xfrm>
        </p:grpSpPr>
        <p:sp>
          <p:nvSpPr>
            <p:cNvPr id="108" name=""/>
            <p:cNvSpPr/>
            <p:nvPr/>
          </p:nvSpPr>
          <p:spPr>
            <a:xfrm>
              <a:off x="7543800" y="5715000"/>
              <a:ext cx="304920" cy="30492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15200" y="5486400"/>
              <a:ext cx="304920" cy="30492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0120" y="5410080"/>
              <a:ext cx="304560" cy="30492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67480" y="5181480"/>
              <a:ext cx="304920" cy="30492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772400" y="5105520"/>
              <a:ext cx="304920" cy="30456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162920" y="5181480"/>
              <a:ext cx="304560" cy="30492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0120" y="4876920"/>
              <a:ext cx="304560" cy="30456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15200" y="4876920"/>
              <a:ext cx="304920" cy="30456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924680" y="4800600"/>
              <a:ext cx="304920" cy="30492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10280" y="4876920"/>
              <a:ext cx="304920" cy="30456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534520" y="3124080"/>
              <a:ext cx="304560" cy="30492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19920" y="3200400"/>
              <a:ext cx="304560" cy="30492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229600" y="3124080"/>
              <a:ext cx="304920" cy="30492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24480" y="3200400"/>
              <a:ext cx="304920" cy="30492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5867280" y="3200040"/>
              <a:ext cx="3048120" cy="3048120"/>
              <a:chOff x="5867280" y="3200040"/>
              <a:chExt cx="3048120" cy="3048120"/>
            </a:xfrm>
          </p:grpSpPr>
          <p:sp>
            <p:nvSpPr>
              <p:cNvPr id="123" name=""/>
              <p:cNvSpPr/>
              <p:nvPr/>
            </p:nvSpPr>
            <p:spPr>
              <a:xfrm flipV="1">
                <a:off x="7696080" y="3200040"/>
                <a:ext cx="1219320" cy="30481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 flipV="1">
                <a:off x="5867280" y="3276360"/>
                <a:ext cx="1828800" cy="297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781680" y="3276720"/>
              <a:ext cx="12956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24480" y="3809880"/>
              <a:ext cx="221004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05720" y="4419720"/>
              <a:ext cx="15238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29400" y="4114800"/>
              <a:ext cx="16765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34320" y="3581280"/>
              <a:ext cx="1295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934320" y="4648320"/>
              <a:ext cx="10666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457200" y="2286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解：由题意可知，这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形架上共放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层铅笔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28195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且自下而上各层的铅笔数组成等差数列，记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905120" y="3200400"/>
                <a:ext cx="7491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57200" y="3733920"/>
                <a:ext cx="447048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239760" y="4419720"/>
                <a:ext cx="516096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6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6" name=""/>
          <p:cNvGrpSpPr/>
          <p:nvPr/>
        </p:nvGrpSpPr>
        <p:grpSpPr>
          <a:xfrm>
            <a:off x="5943600" y="3200400"/>
            <a:ext cx="2819520" cy="1752480"/>
            <a:chOff x="5943600" y="3200400"/>
            <a:chExt cx="2819520" cy="1752480"/>
          </a:xfrm>
        </p:grpSpPr>
        <p:sp>
          <p:nvSpPr>
            <p:cNvPr id="137" name=""/>
            <p:cNvSpPr/>
            <p:nvPr/>
          </p:nvSpPr>
          <p:spPr>
            <a:xfrm>
              <a:off x="6019920" y="3200400"/>
              <a:ext cx="2666880" cy="1752480"/>
            </a:xfrm>
            <a:prstGeom prst="wedgeEllipseCallout">
              <a:avLst>
                <a:gd name="adj1" fmla="val -114462"/>
                <a:gd name="adj2" fmla="val 31976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5943600" y="3733920"/>
                  <a:ext cx="2819520" cy="105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（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9" name=""/>
          <p:cNvSpPr/>
          <p:nvPr/>
        </p:nvSpPr>
        <p:spPr>
          <a:xfrm>
            <a:off x="533520" y="56386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答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形架上共放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72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支铅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Q_039" descr=""/>
          <p:cNvPicPr/>
          <p:nvPr/>
        </p:nvPicPr>
        <p:blipFill>
          <a:blip r:embed="rId2"/>
          <a:stretch/>
        </p:blipFill>
        <p:spPr>
          <a:xfrm>
            <a:off x="8001000" y="600084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04920" y="24444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2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求集合                                                                                  的元素个数，并求这些元素的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819520" y="152280"/>
                <a:ext cx="54864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m</m:t>
                        </m:r>
                        <m:r>
                          <m:t xml:space="preserve">|</m:t>
                        </m:r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且m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808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066680" y="1219320"/>
                <a:ext cx="224820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r>
                      <m:t xml:space="preserve">7</m:t>
                    </m:r>
                    <m:r>
                      <m:t xml:space="preserve">n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657600" y="914400"/>
                <a:ext cx="416412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n</m:t>
                    </m:r>
                    <m:r>
                      <m:t xml:space="preserve">&lt;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533520" y="20574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以集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元素共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205740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它们从小到大列出，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31640" y="2620800"/>
                <a:ext cx="89064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143000" y="2590920"/>
                <a:ext cx="91440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7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149560" y="2590920"/>
                <a:ext cx="88092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7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124080" y="2590920"/>
                <a:ext cx="91440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7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191120" y="2743200"/>
                <a:ext cx="110484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⋯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410080" y="2590920"/>
                <a:ext cx="14479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×</m:t>
                    </m:r>
                    <m:r>
                      <m:t xml:space="preserve">7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533520" y="32767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…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38862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个数列是成等差数列，记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648320" y="3809880"/>
                <a:ext cx="74916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047600" y="4437000"/>
                <a:ext cx="405144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949320" y="5105520"/>
                <a:ext cx="450360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3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0" name=""/>
          <p:cNvGrpSpPr/>
          <p:nvPr/>
        </p:nvGrpSpPr>
        <p:grpSpPr>
          <a:xfrm>
            <a:off x="6324480" y="3886200"/>
            <a:ext cx="2819520" cy="1752480"/>
            <a:chOff x="6324480" y="3886200"/>
            <a:chExt cx="2819520" cy="1752480"/>
          </a:xfrm>
        </p:grpSpPr>
        <p:sp>
          <p:nvSpPr>
            <p:cNvPr id="161" name=""/>
            <p:cNvSpPr/>
            <p:nvPr/>
          </p:nvSpPr>
          <p:spPr>
            <a:xfrm>
              <a:off x="6400800" y="3886200"/>
              <a:ext cx="2666880" cy="1752480"/>
            </a:xfrm>
            <a:prstGeom prst="wedgeEllipseCallout">
              <a:avLst>
                <a:gd name="adj1" fmla="val -114462"/>
                <a:gd name="adj2" fmla="val 31976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6324480" y="4419720"/>
                  <a:ext cx="2819520" cy="105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（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3" name=""/>
          <p:cNvSpPr/>
          <p:nvPr/>
        </p:nvSpPr>
        <p:spPr>
          <a:xfrm>
            <a:off x="762120" y="60199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答：集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共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元素，它们的和等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3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Q_039" descr=""/>
          <p:cNvPicPr/>
          <p:nvPr/>
        </p:nvPicPr>
        <p:blipFill>
          <a:blip r:embed="rId2"/>
          <a:stretch/>
        </p:blipFill>
        <p:spPr>
          <a:xfrm>
            <a:off x="8001000" y="600084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81240" y="-360"/>
            <a:ext cx="9219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等差数列的前</a:t>
            </a: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n</a:t>
            </a: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项和练习</a:t>
            </a:r>
            <a:r>
              <a:rPr b="1" lang="zh-CN" sz="44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907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下列条件，求相应的等差数列            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105520" y="762120"/>
                <a:ext cx="76176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6324480" y="685800"/>
                <a:ext cx="8589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685800" y="1676520"/>
                <a:ext cx="45277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85800" y="3657600"/>
                <a:ext cx="4987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1" name=""/>
          <p:cNvGrpSpPr/>
          <p:nvPr/>
        </p:nvGrpSpPr>
        <p:grpSpPr>
          <a:xfrm>
            <a:off x="6324480" y="1219320"/>
            <a:ext cx="2819520" cy="1752480"/>
            <a:chOff x="6324480" y="1219320"/>
            <a:chExt cx="2819520" cy="1752480"/>
          </a:xfrm>
        </p:grpSpPr>
        <p:sp>
          <p:nvSpPr>
            <p:cNvPr id="172" name=""/>
            <p:cNvSpPr/>
            <p:nvPr/>
          </p:nvSpPr>
          <p:spPr>
            <a:xfrm>
              <a:off x="6400800" y="1219320"/>
              <a:ext cx="2666880" cy="1752480"/>
            </a:xfrm>
            <a:prstGeom prst="wedgeEllipseCallout">
              <a:avLst>
                <a:gd name="adj1" fmla="val -114462"/>
                <a:gd name="adj2" fmla="val 31976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" name=""/>
                <p:cNvSpPr txBox="1"/>
                <p:nvPr/>
              </p:nvSpPr>
              <p:spPr>
                <a:xfrm>
                  <a:off x="6324480" y="1752840"/>
                  <a:ext cx="2819520" cy="105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（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990720" y="2514600"/>
                <a:ext cx="41227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152280" y="2743200"/>
            <a:ext cx="685800" cy="304920"/>
          </a:xfrm>
          <a:custGeom>
            <a:avLst/>
            <a:gdLst>
              <a:gd name="textAreaLeft" fmla="*/ 85680 w 685800"/>
              <a:gd name="textAreaRight" fmla="*/ 600120 w 6858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4876920"/>
            <a:ext cx="762120" cy="380880"/>
          </a:xfrm>
          <a:custGeom>
            <a:avLst/>
            <a:gdLst>
              <a:gd name="textAreaLeft" fmla="*/ 118800 w 762120"/>
              <a:gd name="textAreaRight" fmla="*/ 667080 w 7621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095880" y="3505320"/>
            <a:ext cx="3048120" cy="1752480"/>
            <a:chOff x="6095880" y="3505320"/>
            <a:chExt cx="3048120" cy="1752480"/>
          </a:xfrm>
        </p:grpSpPr>
        <p:sp>
          <p:nvSpPr>
            <p:cNvPr id="178" name=""/>
            <p:cNvSpPr/>
            <p:nvPr/>
          </p:nvSpPr>
          <p:spPr>
            <a:xfrm>
              <a:off x="6095880" y="3505320"/>
              <a:ext cx="3048120" cy="1752480"/>
            </a:xfrm>
            <a:prstGeom prst="cloudCallout">
              <a:avLst>
                <a:gd name="adj1" fmla="val -84481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9" name=""/>
                <p:cNvSpPr txBox="1"/>
                <p:nvPr/>
              </p:nvSpPr>
              <p:spPr>
                <a:xfrm>
                  <a:off x="6095880" y="3886200"/>
                  <a:ext cx="278784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n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（</m:t>
                          </m:r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838080" y="4648320"/>
                <a:ext cx="57405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（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5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1" name="Q_039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857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1T15:07:52Z</dcterms:created>
  <dc:creator>苏宏英</dc:creator>
  <dc:description/>
  <dc:language>en-US</dc:language>
  <cp:lastModifiedBy>微软用户</cp:lastModifiedBy>
  <dcterms:modified xsi:type="dcterms:W3CDTF">2014-02-26T11:49:19Z</dcterms:modified>
  <cp:revision>37</cp:revision>
  <dc:subject/>
  <dc:title>等差数列</dc:title>
</cp:coreProperties>
</file>