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7.gif" ContentType="image/gif"/>
  <Override PartName="/ppt/media/image3.wmf" ContentType="image/x-wmf"/>
  <Override PartName="/ppt/media/image2.wmf" ContentType="image/x-wmf"/>
  <Override PartName="/ppt/media/type.wav" ContentType="audio/x-wav"/>
  <Override PartName="/ppt/media/j0074975.wav" ContentType="audio/x-wav"/>
  <Override PartName="/ppt/media/image11.wmf" ContentType="image/x-wmf"/>
  <Override PartName="/ppt/media/image10.wmf" ContentType="image/x-wmf"/>
  <Override PartName="/ppt/media/camera.wav" ContentType="audio/x-wav"/>
  <Override PartName="/ppt/media/image6.png" ContentType="image/png"/>
  <Override PartName="/ppt/media/image8.jpeg" ContentType="image/jpeg"/>
  <Override PartName="/ppt/media/image1.jpeg" ContentType="image/jpeg"/>
  <Override PartName="/ppt/media/image4.wmf" ContentType="image/x-wmf"/>
  <Override PartName="/ppt/media/image5.wmf" ContentType="image/x-wmf"/>
  <Override PartName="/ppt/media/applause.wav" ContentType="audio/x-wav"/>
  <Override PartName="/ppt/media/j0074704.wav" ContentType="audio/x-wav"/>
  <Override PartName="/ppt/media/image9.jpeg" ContentType="image/jpeg"/>
  <Override PartName="/ppt/media/chimes.wav" ContentType="audio/x-wav"/>
  <Override PartName="/ppt/media/projcto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828B-CB0E-4B2C-B132-974ED101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332E-AA50-42F5-9AA8-94BB38CF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的各种关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182-0C8E-4F06-924C-BBAB0BAF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83E-2CAC-4F30-BBA9-132D8356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119-26EB-4FC9-83CB-DDFD347C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1FF9-CF03-4C8F-A372-4AF535E5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CFA8-CB95-4C71-8139-80F861C3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45EA-9589-4226-AD49-41D10CDE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7D5-3EC4-4093-B464-592DD8F8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082-093E-4D4C-B5AA-33352873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78D0-382E-40A9-87F0-8050812F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F25D-EB3D-4F1B-86D8-DEEB0023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C13-0D04-46B7-86EC-08D30489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2C7F-D310-4878-8F69-57571411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5D47-856A-461B-9300-16B7D05BA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" Target="slide14.xml"/><Relationship Id="rId5" Type="http://schemas.openxmlformats.org/officeDocument/2006/relationships/image" Target="../media/image3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j0074975.wav"/><Relationship Id="rId22" Type="http://schemas.openxmlformats.org/officeDocument/2006/relationships/audio" Target="../media/j0074975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j0074704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1066680" y="2057400"/>
            <a:ext cx="748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66"/>
                </a:solidFill>
                <a:latin typeface="Arial"/>
                <a:ea typeface="隶书"/>
              </a:rPr>
              <a:t>1.3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集合的运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4"/>
          <p:cNvSpPr/>
          <p:nvPr/>
        </p:nvSpPr>
        <p:spPr>
          <a:xfrm>
            <a:off x="-28440" y="533520"/>
            <a:ext cx="9144000" cy="22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补集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个集合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个子集（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所有不属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素组成的集合，叫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补集（或余集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0" y="2421000"/>
            <a:ext cx="8459640" cy="72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记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且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}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240" y="3168720"/>
            <a:ext cx="9144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全集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我们所要研究的各个集合的全部元素，这个集合就可以看作一个全集，记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240" y="4876920"/>
            <a:ext cx="9144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决某些数学问题时，就要以把实数集看作是全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有理数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补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全体无理数的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380880" y="685800"/>
            <a:ext cx="8610840" cy="537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举例如下，请同学们思考其结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并填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⑴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{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{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角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锐角三角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__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1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{5}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{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{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全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{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3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|m+1|,2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={5}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 _______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全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m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549360"/>
            <a:ext cx="892800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全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m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U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216000" y="1789200"/>
            <a:ext cx="8928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解：将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入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m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241200" y="2494080"/>
            <a:ext cx="8928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0" y="3141720"/>
            <a:ext cx="8928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4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}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0" y="3789360"/>
            <a:ext cx="89280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时，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5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6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}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241200" y="4437000"/>
            <a:ext cx="892836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满足条件：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={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=6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9"/>
          <p:cNvSpPr/>
          <p:nvPr/>
        </p:nvSpPr>
        <p:spPr>
          <a:xfrm>
            <a:off x="33480" y="514440"/>
            <a:ext cx="8928000" cy="122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设全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={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x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1, x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}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={6}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实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集合关系"/>
          <p:cNvPicPr/>
          <p:nvPr/>
        </p:nvPicPr>
        <p:blipFill>
          <a:blip r:embed="rId1"/>
          <a:stretch/>
        </p:blipFill>
        <p:spPr>
          <a:xfrm>
            <a:off x="420840" y="914400"/>
            <a:ext cx="8534160" cy="5365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4572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请同学们阅读以下图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685800" y="3808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提高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304920" y="11430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腰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边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下列关系正确的是（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D=D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∪B=B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∪B=C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∪D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5029200" y="1523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28600" y="2895480"/>
            <a:ext cx="8229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{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={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这样不同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（   ）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3387600" y="2863800"/>
            <a:ext cx="513000" cy="79380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7"/>
          <p:cNvSpPr/>
          <p:nvPr/>
        </p:nvSpPr>
        <p:spPr>
          <a:xfrm>
            <a:off x="2209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533520" y="480060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={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={                 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∪N=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"/>
          <p:cNvPicPr/>
          <p:nvPr/>
        </p:nvPicPr>
        <p:blipFill>
          <a:blip r:embed="rId2"/>
          <a:stretch/>
        </p:blipFill>
        <p:spPr>
          <a:xfrm>
            <a:off x="4724280" y="4800600"/>
            <a:ext cx="1251000" cy="4888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0"/>
          <p:cNvSpPr/>
          <p:nvPr/>
        </p:nvSpPr>
        <p:spPr>
          <a:xfrm>
            <a:off x="1295280" y="5154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75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228600" y="609480"/>
            <a:ext cx="1390680" cy="457200"/>
          </a:xfrm>
          <a:prstGeom prst="rect">
            <a:avLst/>
          </a:prstGeom>
          <a:gradFill rotWithShape="0">
            <a:gsLst>
              <a:gs pos="0">
                <a:srgbClr val="448fb4"/>
              </a:gs>
              <a:gs pos="100000">
                <a:srgbClr val="006699"/>
              </a:gs>
            </a:gsLst>
            <a:lin ang="0"/>
          </a:gradFill>
          <a:ln w="9360">
            <a:solidFill>
              <a:srgbClr val="f5c20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补集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960480" y="1295280"/>
            <a:ext cx="7315200" cy="172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般地，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一个集合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一个子集（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由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所有不属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素组成的集合，叫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补集（或余集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289080" y="2997360"/>
            <a:ext cx="1403280" cy="457200"/>
          </a:xfrm>
          <a:prstGeom prst="rect">
            <a:avLst/>
          </a:prstGeom>
          <a:gradFill rotWithShape="0">
            <a:gsLst>
              <a:gs pos="0">
                <a:srgbClr val="448fb4"/>
              </a:gs>
              <a:gs pos="100000">
                <a:srgbClr val="006699"/>
              </a:gs>
            </a:gsLst>
            <a:lin ang="0"/>
          </a:gradFill>
          <a:ln w="9360">
            <a:solidFill>
              <a:srgbClr val="f5c207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全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85800" y="3884760"/>
            <a:ext cx="7308720" cy="202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我们所要研究的各个集合的全部元素，这个集合就可以看作一个全集，记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9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3"/>
          <p:cNvSpPr/>
          <p:nvPr/>
        </p:nvSpPr>
        <p:spPr>
          <a:xfrm>
            <a:off x="905760" y="7621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924480" y="1523880"/>
            <a:ext cx="200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交集，并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50160" y="205740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06680" y="2484720"/>
            <a:ext cx="614916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⑴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∪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或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∩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②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∩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∪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∩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∪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∩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∩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∪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∪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1153080" y="765000"/>
            <a:ext cx="6755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P9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练习二解答题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1,3,4,5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2"/>
          <p:cNvSpPr/>
          <p:nvPr/>
        </p:nvSpPr>
        <p:spPr>
          <a:xfrm>
            <a:off x="2987640" y="1268280"/>
            <a:ext cx="925560" cy="1100160"/>
          </a:xfrm>
          <a:custGeom>
            <a:avLst/>
            <a:gdLst>
              <a:gd name="textAreaLeft" fmla="*/ 0 w 925560"/>
              <a:gd name="textAreaRight" fmla="*/ 925920 w 92556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583" h="693">
                <a:moveTo>
                  <a:pt x="309" y="0"/>
                </a:moveTo>
                <a:cubicBezTo>
                  <a:pt x="264" y="43"/>
                  <a:pt x="212" y="54"/>
                  <a:pt x="165" y="91"/>
                </a:cubicBezTo>
                <a:cubicBezTo>
                  <a:pt x="114" y="131"/>
                  <a:pt x="104" y="184"/>
                  <a:pt x="47" y="222"/>
                </a:cubicBezTo>
                <a:cubicBezTo>
                  <a:pt x="43" y="235"/>
                  <a:pt x="40" y="249"/>
                  <a:pt x="34" y="261"/>
                </a:cubicBezTo>
                <a:cubicBezTo>
                  <a:pt x="27" y="275"/>
                  <a:pt x="9" y="285"/>
                  <a:pt x="7" y="301"/>
                </a:cubicBezTo>
                <a:cubicBezTo>
                  <a:pt x="0" y="371"/>
                  <a:pt x="20" y="423"/>
                  <a:pt x="73" y="458"/>
                </a:cubicBezTo>
                <a:cubicBezTo>
                  <a:pt x="98" y="532"/>
                  <a:pt x="121" y="542"/>
                  <a:pt x="191" y="589"/>
                </a:cubicBezTo>
                <a:cubicBezTo>
                  <a:pt x="204" y="598"/>
                  <a:pt x="230" y="615"/>
                  <a:pt x="230" y="615"/>
                </a:cubicBezTo>
                <a:cubicBezTo>
                  <a:pt x="261" y="661"/>
                  <a:pt x="283" y="676"/>
                  <a:pt x="335" y="693"/>
                </a:cubicBezTo>
                <a:cubicBezTo>
                  <a:pt x="339" y="680"/>
                  <a:pt x="338" y="664"/>
                  <a:pt x="348" y="654"/>
                </a:cubicBezTo>
                <a:cubicBezTo>
                  <a:pt x="358" y="644"/>
                  <a:pt x="375" y="648"/>
                  <a:pt x="387" y="641"/>
                </a:cubicBezTo>
                <a:cubicBezTo>
                  <a:pt x="457" y="603"/>
                  <a:pt x="452" y="604"/>
                  <a:pt x="492" y="562"/>
                </a:cubicBezTo>
                <a:cubicBezTo>
                  <a:pt x="514" y="496"/>
                  <a:pt x="539" y="524"/>
                  <a:pt x="557" y="458"/>
                </a:cubicBezTo>
                <a:cubicBezTo>
                  <a:pt x="566" y="423"/>
                  <a:pt x="583" y="353"/>
                  <a:pt x="583" y="353"/>
                </a:cubicBezTo>
                <a:cubicBezTo>
                  <a:pt x="569" y="281"/>
                  <a:pt x="579" y="263"/>
                  <a:pt x="518" y="222"/>
                </a:cubicBezTo>
                <a:cubicBezTo>
                  <a:pt x="475" y="92"/>
                  <a:pt x="545" y="278"/>
                  <a:pt x="466" y="157"/>
                </a:cubicBezTo>
                <a:cubicBezTo>
                  <a:pt x="456" y="142"/>
                  <a:pt x="464" y="118"/>
                  <a:pt x="453" y="104"/>
                </a:cubicBezTo>
                <a:cubicBezTo>
                  <a:pt x="433" y="79"/>
                  <a:pt x="391" y="89"/>
                  <a:pt x="361" y="78"/>
                </a:cubicBezTo>
                <a:cubicBezTo>
                  <a:pt x="343" y="71"/>
                  <a:pt x="328" y="52"/>
                  <a:pt x="309" y="52"/>
                </a:cubicBezTo>
                <a:cubicBezTo>
                  <a:pt x="293" y="52"/>
                  <a:pt x="334" y="72"/>
                  <a:pt x="348" y="78"/>
                </a:cubicBezTo>
                <a:cubicBezTo>
                  <a:pt x="373" y="89"/>
                  <a:pt x="426" y="104"/>
                  <a:pt x="426" y="104"/>
                </a:cubicBezTo>
                <a:cubicBezTo>
                  <a:pt x="422" y="91"/>
                  <a:pt x="424" y="74"/>
                  <a:pt x="413" y="65"/>
                </a:cubicBezTo>
                <a:cubicBezTo>
                  <a:pt x="399" y="54"/>
                  <a:pt x="377" y="59"/>
                  <a:pt x="361" y="52"/>
                </a:cubicBezTo>
                <a:cubicBezTo>
                  <a:pt x="321" y="35"/>
                  <a:pt x="325" y="31"/>
                  <a:pt x="309" y="0"/>
                </a:cubicBezTo>
                <a:close/>
              </a:path>
            </a:pathLst>
          </a:custGeom>
          <a:solidFill>
            <a:srgbClr val="ff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={4,5,6,8}        B={3,5,7,8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1066680" y="990720"/>
            <a:ext cx="2819520" cy="167616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3048120" y="914400"/>
            <a:ext cx="3276360" cy="17524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200400" y="15238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5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676520" y="1295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724280" y="1143000"/>
            <a:ext cx="99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666880" y="2895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∩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380880" y="3581280"/>
            <a:ext cx="3276720" cy="1524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2895480" y="3429000"/>
            <a:ext cx="358164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991800" y="36576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4419720" y="3581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2209680" y="4114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4191120" y="4114800"/>
            <a:ext cx="121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,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277080" y="411480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ff"/>
                </a:solidFill>
                <a:latin typeface="Times New Roman"/>
              </a:rPr>
              <a:t>5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2438280" y="54864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∪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790400" y="380880"/>
            <a:ext cx="6678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学们能归纳出什么是交集、什么是并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9">
            <a:hlinkClick r:id="" action="ppaction://hlinkshowjump?jump=nextslide"/>
          </p:cNvPr>
          <p:cNvSpPr/>
          <p:nvPr/>
        </p:nvSpPr>
        <p:spPr>
          <a:xfrm>
            <a:off x="6324480" y="609588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14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1400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431640" y="99072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交集：一般地，由所有属于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于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所组成的集合，叫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交集，记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∈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∈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465120" y="2666880"/>
            <a:ext cx="8077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集：一般地，由所有属于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属于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元素所组成的集合，叫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并集，记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∈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∈B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82760" y="4586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两个概念关键的区别在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9">
            <a:hlinkClick r:id="" action="ppaction://hlinkshowjump?jump=previousslide"/>
          </p:cNvPr>
          <p:cNvSpPr/>
          <p:nvPr/>
        </p:nvSpPr>
        <p:spPr>
          <a:xfrm>
            <a:off x="784872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10800"/>
                </a:moveTo>
                <a:lnTo>
                  <a:pt x="26426" y="3794"/>
                </a:lnTo>
                <a:lnTo>
                  <a:pt x="2642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0600" y="152280"/>
          <a:ext cx="8763120" cy="6705720"/>
        </p:xfrm>
        <a:graphic>
          <a:graphicData uri="http://schemas.openxmlformats.org/drawingml/2006/table">
            <a:tbl>
              <a:tblPr/>
              <a:tblGrid>
                <a:gridCol w="2921040"/>
                <a:gridCol w="2921040"/>
                <a:gridCol w="292104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与</a:t>
                      </a: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B</a:t>
                      </a:r>
                      <a:r>
                        <a:rPr b="0" lang="zh-CN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的关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A∩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A∪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Oval 32"/>
          <p:cNvSpPr/>
          <p:nvPr/>
        </p:nvSpPr>
        <p:spPr>
          <a:xfrm>
            <a:off x="914400" y="914400"/>
            <a:ext cx="838080" cy="838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3"/>
          <p:cNvSpPr/>
          <p:nvPr/>
        </p:nvSpPr>
        <p:spPr>
          <a:xfrm>
            <a:off x="1523880" y="990720"/>
            <a:ext cx="91440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4"/>
          <p:cNvSpPr/>
          <p:nvPr/>
        </p:nvSpPr>
        <p:spPr>
          <a:xfrm>
            <a:off x="1295280" y="2286000"/>
            <a:ext cx="762120" cy="5335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5"/>
          <p:cNvSpPr/>
          <p:nvPr/>
        </p:nvSpPr>
        <p:spPr>
          <a:xfrm>
            <a:off x="1219320" y="2133720"/>
            <a:ext cx="129528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6"/>
          <p:cNvSpPr/>
          <p:nvPr/>
        </p:nvSpPr>
        <p:spPr>
          <a:xfrm>
            <a:off x="533520" y="3352680"/>
            <a:ext cx="685800" cy="76212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7"/>
          <p:cNvSpPr/>
          <p:nvPr/>
        </p:nvSpPr>
        <p:spPr>
          <a:xfrm>
            <a:off x="1752480" y="3429000"/>
            <a:ext cx="76212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8"/>
          <p:cNvSpPr/>
          <p:nvPr/>
        </p:nvSpPr>
        <p:spPr>
          <a:xfrm>
            <a:off x="914400" y="1295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9"/>
          <p:cNvSpPr/>
          <p:nvPr/>
        </p:nvSpPr>
        <p:spPr>
          <a:xfrm>
            <a:off x="1905120" y="106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0"/>
          <p:cNvSpPr/>
          <p:nvPr/>
        </p:nvSpPr>
        <p:spPr>
          <a:xfrm>
            <a:off x="14479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1"/>
          <p:cNvSpPr/>
          <p:nvPr/>
        </p:nvSpPr>
        <p:spPr>
          <a:xfrm>
            <a:off x="1981080" y="2514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2"/>
          <p:cNvSpPr/>
          <p:nvPr/>
        </p:nvSpPr>
        <p:spPr>
          <a:xfrm>
            <a:off x="533520" y="358128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3"/>
          <p:cNvSpPr/>
          <p:nvPr/>
        </p:nvSpPr>
        <p:spPr>
          <a:xfrm>
            <a:off x="19810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4"/>
          <p:cNvSpPr/>
          <p:nvPr/>
        </p:nvSpPr>
        <p:spPr>
          <a:xfrm>
            <a:off x="631800" y="1676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∩B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5"/>
          <p:cNvSpPr/>
          <p:nvPr/>
        </p:nvSpPr>
        <p:spPr>
          <a:xfrm>
            <a:off x="152280" y="2514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6"/>
          <p:cNvSpPr/>
          <p:nvPr/>
        </p:nvSpPr>
        <p:spPr>
          <a:xfrm>
            <a:off x="533520" y="40608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∩B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7" descr=""/>
          <p:cNvPicPr/>
          <p:nvPr/>
        </p:nvPicPr>
        <p:blipFill>
          <a:blip r:embed="rId1"/>
          <a:stretch/>
        </p:blipFill>
        <p:spPr>
          <a:xfrm>
            <a:off x="1600200" y="3984480"/>
            <a:ext cx="380880" cy="60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8" descr=""/>
          <p:cNvPicPr/>
          <p:nvPr/>
        </p:nvPicPr>
        <p:blipFill>
          <a:blip r:embed="rId2"/>
          <a:stretch/>
        </p:blipFill>
        <p:spPr>
          <a:xfrm>
            <a:off x="533520" y="25909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"/>
          <p:cNvPicPr/>
          <p:nvPr/>
        </p:nvPicPr>
        <p:blipFill>
          <a:blip r:embed="rId3"/>
          <a:stretch/>
        </p:blipFill>
        <p:spPr>
          <a:xfrm>
            <a:off x="1523880" y="1596960"/>
            <a:ext cx="381240" cy="615960"/>
          </a:xfrm>
          <a:prstGeom prst="rect">
            <a:avLst/>
          </a:prstGeom>
          <a:ln w="0">
            <a:noFill/>
          </a:ln>
        </p:spPr>
      </p:pic>
      <p:sp>
        <p:nvSpPr>
          <p:cNvPr id="90" name="Oval 50"/>
          <p:cNvSpPr/>
          <p:nvPr/>
        </p:nvSpPr>
        <p:spPr>
          <a:xfrm>
            <a:off x="3276720" y="990720"/>
            <a:ext cx="914400" cy="8380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3886200" y="1066680"/>
            <a:ext cx="1066680" cy="6858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6629400" y="838080"/>
            <a:ext cx="1066680" cy="91440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53"/>
          <p:cNvSpPr/>
          <p:nvPr/>
        </p:nvSpPr>
        <p:spPr>
          <a:xfrm>
            <a:off x="7315200" y="914400"/>
            <a:ext cx="990720" cy="762120"/>
          </a:xfrm>
          <a:prstGeom prst="ellipse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4038480" y="2362320"/>
            <a:ext cx="762120" cy="53316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962520" y="2133720"/>
            <a:ext cx="1295280" cy="9903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6858000" y="2133720"/>
            <a:ext cx="1523880" cy="99036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7086600" y="2438280"/>
            <a:ext cx="685800" cy="41616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3352680" y="3429000"/>
            <a:ext cx="838440" cy="8380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9"/>
          <p:cNvSpPr/>
          <p:nvPr/>
        </p:nvSpPr>
        <p:spPr>
          <a:xfrm>
            <a:off x="4800600" y="3429000"/>
            <a:ext cx="762120" cy="7621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60"/>
          <p:cNvSpPr/>
          <p:nvPr/>
        </p:nvSpPr>
        <p:spPr>
          <a:xfrm>
            <a:off x="6553080" y="3276720"/>
            <a:ext cx="91440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1"/>
          <p:cNvSpPr/>
          <p:nvPr/>
        </p:nvSpPr>
        <p:spPr>
          <a:xfrm>
            <a:off x="7696080" y="3505320"/>
            <a:ext cx="838440" cy="75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2">
            <a:hlinkClick r:id="rId4" action="ppaction://hlinksldjump"/>
          </p:cNvPr>
          <p:cNvSpPr/>
          <p:nvPr/>
        </p:nvSpPr>
        <p:spPr>
          <a:xfrm>
            <a:off x="8534520" y="6319800"/>
            <a:ext cx="471240" cy="309600"/>
          </a:xfrm>
          <a:custGeom>
            <a:avLst/>
            <a:gdLst>
              <a:gd name="textAreaLeft" fmla="*/ 19800 w 471240"/>
              <a:gd name="textAreaRight" fmla="*/ 451440 w 471240"/>
              <a:gd name="textAreaTop" fmla="*/ 19800 h 309600"/>
              <a:gd name="textAreaBottom" fmla="*/ 289800 h 309600"/>
            </a:gdLst>
            <a:ahLst/>
            <a:rect l="textAreaLeft" t="textAreaTop" r="textAreaRight" b="textAreaBottom"/>
            <a:pathLst>
              <a:path w="32864" h="21600">
                <a:moveTo>
                  <a:pt x="0" y="0"/>
                </a:moveTo>
                <a:lnTo>
                  <a:pt x="32864" y="0"/>
                </a:lnTo>
                <a:lnTo>
                  <a:pt x="32864" y="21600"/>
                </a:lnTo>
                <a:lnTo>
                  <a:pt x="0" y="21600"/>
                </a:lnTo>
                <a:close/>
              </a:path>
              <a:path fill="lightenLess" w="32864" h="21600">
                <a:moveTo>
                  <a:pt x="0" y="0"/>
                </a:moveTo>
                <a:lnTo>
                  <a:pt x="32864" y="0"/>
                </a:lnTo>
                <a:lnTo>
                  <a:pt x="31464" y="1400"/>
                </a:lnTo>
                <a:lnTo>
                  <a:pt x="1400" y="1400"/>
                </a:lnTo>
                <a:close/>
              </a:path>
              <a:path fill="darken" w="32864" h="21600">
                <a:moveTo>
                  <a:pt x="32864" y="0"/>
                </a:moveTo>
                <a:lnTo>
                  <a:pt x="32864" y="21600"/>
                </a:lnTo>
                <a:lnTo>
                  <a:pt x="31464" y="20200"/>
                </a:lnTo>
                <a:lnTo>
                  <a:pt x="31464" y="1400"/>
                </a:lnTo>
                <a:close/>
              </a:path>
              <a:path fill="darkenLess" w="32864" h="21600">
                <a:moveTo>
                  <a:pt x="32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64" y="20200"/>
                </a:lnTo>
                <a:close/>
              </a:path>
              <a:path fill="lighten" w="32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63"/>
          <p:cNvSpPr/>
          <p:nvPr/>
        </p:nvSpPr>
        <p:spPr>
          <a:xfrm>
            <a:off x="1066680" y="4495680"/>
            <a:ext cx="1371600" cy="106704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4"/>
          <p:cNvSpPr/>
          <p:nvPr/>
        </p:nvSpPr>
        <p:spPr>
          <a:xfrm>
            <a:off x="1523880" y="4800600"/>
            <a:ext cx="685800" cy="60948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5"/>
          <p:cNvSpPr/>
          <p:nvPr/>
        </p:nvSpPr>
        <p:spPr>
          <a:xfrm>
            <a:off x="1066680" y="4876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6"/>
          <p:cNvSpPr/>
          <p:nvPr/>
        </p:nvSpPr>
        <p:spPr>
          <a:xfrm>
            <a:off x="1752480" y="4876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7"/>
          <p:cNvSpPr/>
          <p:nvPr/>
        </p:nvSpPr>
        <p:spPr>
          <a:xfrm>
            <a:off x="152280" y="4876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8" descr=""/>
          <p:cNvPicPr/>
          <p:nvPr/>
        </p:nvPicPr>
        <p:blipFill>
          <a:blip r:embed="rId5"/>
          <a:stretch/>
        </p:blipFill>
        <p:spPr>
          <a:xfrm>
            <a:off x="380880" y="4952880"/>
            <a:ext cx="381240" cy="381240"/>
          </a:xfrm>
          <a:prstGeom prst="rect">
            <a:avLst/>
          </a:prstGeom>
          <a:ln w="0">
            <a:noFill/>
          </a:ln>
        </p:spPr>
      </p:pic>
      <p:sp>
        <p:nvSpPr>
          <p:cNvPr id="109" name="Oval 69"/>
          <p:cNvSpPr/>
          <p:nvPr/>
        </p:nvSpPr>
        <p:spPr>
          <a:xfrm>
            <a:off x="838080" y="5791320"/>
            <a:ext cx="1752840" cy="91440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0"/>
          <p:cNvSpPr/>
          <p:nvPr/>
        </p:nvSpPr>
        <p:spPr>
          <a:xfrm>
            <a:off x="990720" y="6019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152280" y="59436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72"/>
          <p:cNvSpPr/>
          <p:nvPr/>
        </p:nvSpPr>
        <p:spPr>
          <a:xfrm>
            <a:off x="3863880" y="4518000"/>
            <a:ext cx="1371600" cy="106668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73"/>
          <p:cNvSpPr/>
          <p:nvPr/>
        </p:nvSpPr>
        <p:spPr>
          <a:xfrm>
            <a:off x="4267080" y="4876920"/>
            <a:ext cx="685800" cy="609480"/>
          </a:xfrm>
          <a:prstGeom prst="ellipse">
            <a:avLst/>
          </a:prstGeom>
          <a:solidFill>
            <a:srgbClr val="ff00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74"/>
          <p:cNvSpPr/>
          <p:nvPr/>
        </p:nvSpPr>
        <p:spPr>
          <a:xfrm>
            <a:off x="6629400" y="4495680"/>
            <a:ext cx="1371600" cy="10670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75"/>
          <p:cNvSpPr/>
          <p:nvPr/>
        </p:nvSpPr>
        <p:spPr>
          <a:xfrm>
            <a:off x="7086600" y="4800600"/>
            <a:ext cx="685800" cy="609480"/>
          </a:xfrm>
          <a:prstGeom prst="ellipse">
            <a:avLst/>
          </a:prstGeom>
          <a:noFill/>
          <a:ln w="38160">
            <a:solidFill>
              <a:srgbClr val="9966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76"/>
          <p:cNvSpPr/>
          <p:nvPr/>
        </p:nvSpPr>
        <p:spPr>
          <a:xfrm>
            <a:off x="3657600" y="5867280"/>
            <a:ext cx="175248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7"/>
          <p:cNvSpPr/>
          <p:nvPr/>
        </p:nvSpPr>
        <p:spPr>
          <a:xfrm>
            <a:off x="6477120" y="5791320"/>
            <a:ext cx="1752480" cy="9144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78"/>
          <p:cNvSpPr/>
          <p:nvPr/>
        </p:nvSpPr>
        <p:spPr>
          <a:xfrm>
            <a:off x="3875040" y="1081080"/>
            <a:ext cx="311040" cy="595440"/>
          </a:xfrm>
          <a:custGeom>
            <a:avLst/>
            <a:gdLst>
              <a:gd name="textAreaLeft" fmla="*/ 0 w 311040"/>
              <a:gd name="textAreaRight" fmla="*/ 311400 w 31104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196" h="375">
                <a:moveTo>
                  <a:pt x="124" y="375"/>
                </a:moveTo>
                <a:cubicBezTo>
                  <a:pt x="106" y="370"/>
                  <a:pt x="83" y="373"/>
                  <a:pt x="69" y="361"/>
                </a:cubicBezTo>
                <a:cubicBezTo>
                  <a:pt x="25" y="323"/>
                  <a:pt x="16" y="286"/>
                  <a:pt x="0" y="238"/>
                </a:cubicBezTo>
                <a:cubicBezTo>
                  <a:pt x="13" y="147"/>
                  <a:pt x="1" y="127"/>
                  <a:pt x="82" y="101"/>
                </a:cubicBezTo>
                <a:cubicBezTo>
                  <a:pt x="87" y="87"/>
                  <a:pt x="86" y="70"/>
                  <a:pt x="96" y="60"/>
                </a:cubicBezTo>
                <a:cubicBezTo>
                  <a:pt x="156" y="0"/>
                  <a:pt x="154" y="117"/>
                  <a:pt x="165" y="142"/>
                </a:cubicBezTo>
                <a:cubicBezTo>
                  <a:pt x="171" y="157"/>
                  <a:pt x="183" y="169"/>
                  <a:pt x="192" y="183"/>
                </a:cubicBezTo>
                <a:cubicBezTo>
                  <a:pt x="189" y="207"/>
                  <a:pt x="196" y="375"/>
                  <a:pt x="124" y="375"/>
                </a:cubicBezTo>
                <a:close/>
              </a:path>
            </a:pathLst>
          </a:cu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j007497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j0074975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609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533520" y="1371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685800" y="420696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等腰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33520" y="3352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=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} ∩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}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685800" y="517356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∩B=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等腰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∩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等腰直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>
            <a:off x="1066680" y="2819520"/>
            <a:ext cx="586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2209680" y="2743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9"/>
          <p:cNvSpPr/>
          <p:nvPr/>
        </p:nvSpPr>
        <p:spPr>
          <a:xfrm>
            <a:off x="4267080" y="27432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810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1464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 flipV="1">
            <a:off x="2286000" y="1980720"/>
            <a:ext cx="0" cy="7621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286000" y="1981080"/>
            <a:ext cx="3124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4"/>
          <p:cNvSpPr/>
          <p:nvPr/>
        </p:nvSpPr>
        <p:spPr>
          <a:xfrm>
            <a:off x="968400" y="2286000"/>
            <a:ext cx="33526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4321080" y="22860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6"/>
          <p:cNvSpPr/>
          <p:nvPr/>
        </p:nvSpPr>
        <p:spPr>
          <a:xfrm>
            <a:off x="2181240" y="2233440"/>
            <a:ext cx="2143080" cy="56376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1350" h="355">
                <a:moveTo>
                  <a:pt x="66" y="342"/>
                </a:moveTo>
                <a:cubicBezTo>
                  <a:pt x="79" y="69"/>
                  <a:pt x="0" y="0"/>
                  <a:pt x="217" y="40"/>
                </a:cubicBezTo>
                <a:cubicBezTo>
                  <a:pt x="236" y="43"/>
                  <a:pt x="254" y="49"/>
                  <a:pt x="272" y="54"/>
                </a:cubicBezTo>
                <a:cubicBezTo>
                  <a:pt x="309" y="46"/>
                  <a:pt x="343" y="26"/>
                  <a:pt x="381" y="26"/>
                </a:cubicBezTo>
                <a:cubicBezTo>
                  <a:pt x="452" y="26"/>
                  <a:pt x="532" y="51"/>
                  <a:pt x="601" y="67"/>
                </a:cubicBezTo>
                <a:cubicBezTo>
                  <a:pt x="642" y="63"/>
                  <a:pt x="683" y="59"/>
                  <a:pt x="724" y="54"/>
                </a:cubicBezTo>
                <a:cubicBezTo>
                  <a:pt x="728" y="53"/>
                  <a:pt x="711" y="54"/>
                  <a:pt x="711" y="54"/>
                </a:cubicBezTo>
                <a:cubicBezTo>
                  <a:pt x="802" y="83"/>
                  <a:pt x="702" y="60"/>
                  <a:pt x="793" y="54"/>
                </a:cubicBezTo>
                <a:cubicBezTo>
                  <a:pt x="921" y="46"/>
                  <a:pt x="1049" y="45"/>
                  <a:pt x="1177" y="40"/>
                </a:cubicBezTo>
                <a:cubicBezTo>
                  <a:pt x="1218" y="45"/>
                  <a:pt x="1259" y="47"/>
                  <a:pt x="1300" y="54"/>
                </a:cubicBezTo>
                <a:cubicBezTo>
                  <a:pt x="1314" y="56"/>
                  <a:pt x="1339" y="53"/>
                  <a:pt x="1341" y="67"/>
                </a:cubicBezTo>
                <a:cubicBezTo>
                  <a:pt x="1350" y="131"/>
                  <a:pt x="1334" y="195"/>
                  <a:pt x="1328" y="259"/>
                </a:cubicBezTo>
                <a:cubicBezTo>
                  <a:pt x="1325" y="291"/>
                  <a:pt x="1314" y="355"/>
                  <a:pt x="1314" y="355"/>
                </a:cubicBez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2308320" y="2787480"/>
            <a:ext cx="19810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382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38088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锐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钝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609480" y="493884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=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锐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∪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钝角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斜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1600200" y="1492200"/>
            <a:ext cx="1981080" cy="114300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1600200" y="3016080"/>
            <a:ext cx="1905120" cy="106704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1905120" y="15685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锐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05120" y="3168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钝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3352680" y="1492200"/>
            <a:ext cx="660600" cy="2698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4114800" y="2286000"/>
            <a:ext cx="1676520" cy="990720"/>
          </a:xfrm>
          <a:prstGeom prst="rect">
            <a:avLst/>
          </a:prstGeom>
          <a:ln w="0">
            <a:noFill/>
          </a:ln>
        </p:spPr>
      </p:pic>
      <p:sp>
        <p:nvSpPr>
          <p:cNvPr id="143" name="Oval 10"/>
          <p:cNvSpPr/>
          <p:nvPr/>
        </p:nvSpPr>
        <p:spPr>
          <a:xfrm>
            <a:off x="5562720" y="1797120"/>
            <a:ext cx="2743200" cy="198108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6095880" y="2558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斜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066680" y="7621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685800" y="609480"/>
            <a:ext cx="784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&lt;x&lt;2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&lt;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}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480" y="3352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=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&lt;x&lt;2} ∪{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&lt;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}= {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&lt;x&lt;3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066680" y="2590920"/>
            <a:ext cx="6934320" cy="0"/>
          </a:xfrm>
          <a:prstGeom prst="line">
            <a:avLst/>
          </a:prstGeom>
          <a:ln w="3816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2819520" y="2514600"/>
            <a:ext cx="75960" cy="76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7"/>
          <p:cNvSpPr/>
          <p:nvPr/>
        </p:nvSpPr>
        <p:spPr>
          <a:xfrm>
            <a:off x="2057400" y="2514600"/>
            <a:ext cx="7632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8"/>
          <p:cNvSpPr/>
          <p:nvPr/>
        </p:nvSpPr>
        <p:spPr>
          <a:xfrm>
            <a:off x="3657600" y="2514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4419720" y="2514600"/>
            <a:ext cx="75960" cy="763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0"/>
          <p:cNvSpPr/>
          <p:nvPr/>
        </p:nvSpPr>
        <p:spPr>
          <a:xfrm>
            <a:off x="5181480" y="251460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26668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828800" y="2743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3581280" y="2819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4267080" y="28195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510552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2092320" y="1752120"/>
            <a:ext cx="0" cy="7621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2077920" y="1752480"/>
            <a:ext cx="243864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4440240" y="1752480"/>
            <a:ext cx="0" cy="8384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 flipV="1">
            <a:off x="3713040" y="1294920"/>
            <a:ext cx="0" cy="129564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5213520" y="1305000"/>
            <a:ext cx="0" cy="121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3679920" y="1295280"/>
            <a:ext cx="160020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2"/>
          <p:cNvSpPr/>
          <p:nvPr/>
        </p:nvSpPr>
        <p:spPr>
          <a:xfrm>
            <a:off x="3581280" y="1270080"/>
            <a:ext cx="1613160" cy="1320840"/>
          </a:xfrm>
          <a:custGeom>
            <a:avLst/>
            <a:gdLst>
              <a:gd name="textAreaLeft" fmla="*/ 0 w 1613160"/>
              <a:gd name="textAreaRight" fmla="*/ 1613520 w 1613160"/>
              <a:gd name="textAreaTop" fmla="*/ 0 h 1320840"/>
              <a:gd name="textAreaBottom" fmla="*/ 1321200 h 1320840"/>
            </a:gdLst>
            <a:ahLst/>
            <a:rect l="textAreaLeft" t="textAreaTop" r="textAreaRight" b="textAreaBottom"/>
            <a:pathLst>
              <a:path w="984" h="806">
                <a:moveTo>
                  <a:pt x="28" y="777"/>
                </a:moveTo>
                <a:cubicBezTo>
                  <a:pt x="0" y="555"/>
                  <a:pt x="25" y="205"/>
                  <a:pt x="56" y="19"/>
                </a:cubicBezTo>
                <a:cubicBezTo>
                  <a:pt x="59" y="0"/>
                  <a:pt x="93" y="10"/>
                  <a:pt x="112" y="5"/>
                </a:cubicBezTo>
                <a:cubicBezTo>
                  <a:pt x="223" y="41"/>
                  <a:pt x="254" y="30"/>
                  <a:pt x="393" y="19"/>
                </a:cubicBezTo>
                <a:cubicBezTo>
                  <a:pt x="585" y="30"/>
                  <a:pt x="779" y="15"/>
                  <a:pt x="969" y="47"/>
                </a:cubicBezTo>
                <a:cubicBezTo>
                  <a:pt x="984" y="49"/>
                  <a:pt x="978" y="75"/>
                  <a:pt x="983" y="89"/>
                </a:cubicBezTo>
                <a:cubicBezTo>
                  <a:pt x="966" y="609"/>
                  <a:pt x="969" y="370"/>
                  <a:pt x="969" y="806"/>
                </a:cubicBez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23"/>
          <p:cNvSpPr/>
          <p:nvPr/>
        </p:nvSpPr>
        <p:spPr>
          <a:xfrm>
            <a:off x="2133720" y="1600200"/>
            <a:ext cx="2454120" cy="973080"/>
          </a:xfrm>
          <a:custGeom>
            <a:avLst/>
            <a:gdLst>
              <a:gd name="textAreaLeft" fmla="*/ 0 w 2454120"/>
              <a:gd name="textAreaRight" fmla="*/ 2454480 w 24541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1498" h="594">
                <a:moveTo>
                  <a:pt x="0" y="565"/>
                </a:moveTo>
                <a:cubicBezTo>
                  <a:pt x="21" y="503"/>
                  <a:pt x="35" y="447"/>
                  <a:pt x="14" y="383"/>
                </a:cubicBezTo>
                <a:cubicBezTo>
                  <a:pt x="19" y="299"/>
                  <a:pt x="20" y="214"/>
                  <a:pt x="28" y="130"/>
                </a:cubicBezTo>
                <a:cubicBezTo>
                  <a:pt x="29" y="115"/>
                  <a:pt x="27" y="90"/>
                  <a:pt x="42" y="88"/>
                </a:cubicBezTo>
                <a:cubicBezTo>
                  <a:pt x="71" y="84"/>
                  <a:pt x="126" y="116"/>
                  <a:pt x="126" y="116"/>
                </a:cubicBezTo>
                <a:cubicBezTo>
                  <a:pt x="213" y="99"/>
                  <a:pt x="238" y="113"/>
                  <a:pt x="323" y="130"/>
                </a:cubicBezTo>
                <a:cubicBezTo>
                  <a:pt x="374" y="125"/>
                  <a:pt x="425" y="116"/>
                  <a:pt x="477" y="116"/>
                </a:cubicBezTo>
                <a:cubicBezTo>
                  <a:pt x="492" y="116"/>
                  <a:pt x="450" y="130"/>
                  <a:pt x="435" y="130"/>
                </a:cubicBezTo>
                <a:cubicBezTo>
                  <a:pt x="397" y="130"/>
                  <a:pt x="360" y="121"/>
                  <a:pt x="323" y="116"/>
                </a:cubicBezTo>
                <a:cubicBezTo>
                  <a:pt x="447" y="75"/>
                  <a:pt x="716" y="116"/>
                  <a:pt x="716" y="116"/>
                </a:cubicBezTo>
                <a:cubicBezTo>
                  <a:pt x="793" y="0"/>
                  <a:pt x="713" y="112"/>
                  <a:pt x="730" y="116"/>
                </a:cubicBezTo>
                <a:cubicBezTo>
                  <a:pt x="771" y="126"/>
                  <a:pt x="815" y="107"/>
                  <a:pt x="857" y="102"/>
                </a:cubicBezTo>
                <a:cubicBezTo>
                  <a:pt x="1054" y="111"/>
                  <a:pt x="1253" y="95"/>
                  <a:pt x="1447" y="130"/>
                </a:cubicBezTo>
                <a:cubicBezTo>
                  <a:pt x="1476" y="135"/>
                  <a:pt x="1491" y="239"/>
                  <a:pt x="1475" y="214"/>
                </a:cubicBezTo>
                <a:cubicBezTo>
                  <a:pt x="1466" y="200"/>
                  <a:pt x="1447" y="155"/>
                  <a:pt x="1447" y="172"/>
                </a:cubicBezTo>
                <a:cubicBezTo>
                  <a:pt x="1447" y="298"/>
                  <a:pt x="1447" y="425"/>
                  <a:pt x="1447" y="551"/>
                </a:cubicBezTo>
                <a:cubicBezTo>
                  <a:pt x="1498" y="475"/>
                  <a:pt x="1467" y="513"/>
                  <a:pt x="1461" y="551"/>
                </a:cubicBezTo>
                <a:cubicBezTo>
                  <a:pt x="1459" y="565"/>
                  <a:pt x="1461" y="580"/>
                  <a:pt x="1461" y="594"/>
                </a:cubicBez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2286000" y="1371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434340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124080" y="19051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∪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2112840" y="2590920"/>
            <a:ext cx="312444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609480" y="457200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∩B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9" descr="j0234752"/>
          <p:cNvPicPr/>
          <p:nvPr/>
        </p:nvPicPr>
        <p:blipFill>
          <a:blip r:embed="rId3"/>
          <a:stretch/>
        </p:blipFill>
        <p:spPr>
          <a:xfrm>
            <a:off x="5029200" y="4191120"/>
            <a:ext cx="1360440" cy="1520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0"/>
          <p:cNvSpPr/>
          <p:nvPr/>
        </p:nvSpPr>
        <p:spPr>
          <a:xfrm>
            <a:off x="363600" y="54864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{</a:t>
            </a:r>
            <a:r>
              <a:rPr b="0" lang="zh-CN" sz="4000" spc="-1" strike="noStrike">
                <a:solidFill>
                  <a:srgbClr val="ff00ff"/>
                </a:solidFill>
                <a:latin typeface="Times New Roman"/>
              </a:rPr>
              <a:t>ｘ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︱</a:t>
            </a:r>
            <a:r>
              <a:rPr b="0" lang="en-US" sz="4000" spc="-1" strike="noStrike">
                <a:solidFill>
                  <a:srgbClr val="ff00ff"/>
                </a:solidFill>
                <a:latin typeface="Times New Roman"/>
              </a:rPr>
              <a:t>1&lt;x&lt;2}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3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3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j00747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457200" y="297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内练习：请同学们完成以下练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练习"/>
          <p:cNvPicPr/>
          <p:nvPr/>
        </p:nvPicPr>
        <p:blipFill>
          <a:blip r:embed="rId1"/>
          <a:stretch/>
        </p:blipFill>
        <p:spPr>
          <a:xfrm>
            <a:off x="304920" y="838080"/>
            <a:ext cx="8305560" cy="5181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4572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对于第一题的第（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）题能不能除掉前提条件，怎么做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1500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∩B={5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4343400" y="20574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A∪B={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ff3399"/>
                </a:solidFill>
                <a:latin typeface="Times New Roman"/>
              </a:rPr>
              <a:t>8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7">
            <a:hlinkClick r:id="rId2" action="ppaction://hlinksldjump"/>
          </p:cNvPr>
          <p:cNvSpPr/>
          <p:nvPr/>
        </p:nvSpPr>
        <p:spPr>
          <a:xfrm>
            <a:off x="8077320" y="5943600"/>
            <a:ext cx="609480" cy="68580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303">
                <a:moveTo>
                  <a:pt x="0" y="0"/>
                </a:moveTo>
                <a:lnTo>
                  <a:pt x="21600" y="0"/>
                </a:lnTo>
                <a:lnTo>
                  <a:pt x="21600" y="24303"/>
                </a:lnTo>
                <a:lnTo>
                  <a:pt x="0" y="24303"/>
                </a:lnTo>
                <a:close/>
              </a:path>
              <a:path fill="lightenLess" w="21600" h="243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03">
                <a:moveTo>
                  <a:pt x="21600" y="0"/>
                </a:moveTo>
                <a:lnTo>
                  <a:pt x="21600" y="24303"/>
                </a:lnTo>
                <a:lnTo>
                  <a:pt x="20200" y="22903"/>
                </a:lnTo>
                <a:lnTo>
                  <a:pt x="20200" y="1400"/>
                </a:lnTo>
                <a:close/>
              </a:path>
              <a:path fill="darkenLess" w="21600" h="24303">
                <a:moveTo>
                  <a:pt x="21600" y="24303"/>
                </a:moveTo>
                <a:lnTo>
                  <a:pt x="0" y="24303"/>
                </a:lnTo>
                <a:lnTo>
                  <a:pt x="1400" y="22903"/>
                </a:lnTo>
                <a:lnTo>
                  <a:pt x="20200" y="22903"/>
                </a:lnTo>
                <a:close/>
              </a:path>
              <a:path fill="lighten" w="21600" h="24303">
                <a:moveTo>
                  <a:pt x="0" y="243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03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152280" y="609480"/>
            <a:ext cx="8460000" cy="1513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物都是相对的，集合中的部分元素与集合之间关系就是部分与整体的关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152280" y="1828800"/>
            <a:ext cx="5472360" cy="253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答下列问题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A={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上参加足球队同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B={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上没有参加足球队同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S={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班同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集合关系如何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7"/>
          <p:cNvSpPr/>
          <p:nvPr/>
        </p:nvSpPr>
        <p:spPr>
          <a:xfrm>
            <a:off x="228600" y="4365720"/>
            <a:ext cx="6192720" cy="1512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就是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除去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之后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来的集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即图中阴影部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0"/>
          <p:cNvGrpSpPr/>
          <p:nvPr/>
        </p:nvGrpSpPr>
        <p:grpSpPr>
          <a:xfrm>
            <a:off x="5837040" y="1316160"/>
            <a:ext cx="2810160" cy="3095640"/>
            <a:chOff x="5837040" y="1316160"/>
            <a:chExt cx="2810160" cy="3095640"/>
          </a:xfrm>
        </p:grpSpPr>
        <p:grpSp>
          <p:nvGrpSpPr>
            <p:cNvPr id="184" name="Group 11"/>
            <p:cNvGrpSpPr/>
            <p:nvPr/>
          </p:nvGrpSpPr>
          <p:grpSpPr>
            <a:xfrm>
              <a:off x="5837040" y="1316160"/>
              <a:ext cx="2810160" cy="2901960"/>
              <a:chOff x="5837040" y="1316160"/>
              <a:chExt cx="2810160" cy="2901960"/>
            </a:xfrm>
          </p:grpSpPr>
          <p:sp>
            <p:nvSpPr>
              <p:cNvPr id="185" name="Oval 12"/>
              <p:cNvSpPr/>
              <p:nvPr/>
            </p:nvSpPr>
            <p:spPr>
              <a:xfrm>
                <a:off x="5837400" y="1316160"/>
                <a:ext cx="2809800" cy="2901960"/>
              </a:xfrm>
              <a:prstGeom prst="ellipse">
                <a:avLst/>
              </a:prstGeom>
              <a:solidFill>
                <a:srgbClr val="00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13"/>
              <p:cNvSpPr/>
              <p:nvPr/>
            </p:nvSpPr>
            <p:spPr>
              <a:xfrm flipH="1">
                <a:off x="5837400" y="1316160"/>
                <a:ext cx="1296720" cy="133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14"/>
              <p:cNvSpPr/>
              <p:nvPr/>
            </p:nvSpPr>
            <p:spPr>
              <a:xfrm flipH="1">
                <a:off x="5837400" y="1316160"/>
                <a:ext cx="1512720" cy="15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15"/>
              <p:cNvSpPr/>
              <p:nvPr/>
            </p:nvSpPr>
            <p:spPr>
              <a:xfrm flipH="1">
                <a:off x="5837400" y="1316160"/>
                <a:ext cx="1728720" cy="17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6"/>
              <p:cNvSpPr/>
              <p:nvPr/>
            </p:nvSpPr>
            <p:spPr>
              <a:xfrm flipH="1">
                <a:off x="5837040" y="1352520"/>
                <a:ext cx="1873080" cy="193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17"/>
              <p:cNvSpPr/>
              <p:nvPr/>
            </p:nvSpPr>
            <p:spPr>
              <a:xfrm flipH="1">
                <a:off x="5891040" y="1379520"/>
                <a:ext cx="86508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18"/>
              <p:cNvSpPr/>
              <p:nvPr/>
            </p:nvSpPr>
            <p:spPr>
              <a:xfrm flipH="1">
                <a:off x="5854320" y="1352520"/>
                <a:ext cx="1081080" cy="111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9"/>
              <p:cNvSpPr/>
              <p:nvPr/>
            </p:nvSpPr>
            <p:spPr>
              <a:xfrm flipH="1">
                <a:off x="5837040" y="1427040"/>
                <a:ext cx="1998360" cy="206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20"/>
              <p:cNvSpPr/>
              <p:nvPr/>
            </p:nvSpPr>
            <p:spPr>
              <a:xfrm flipH="1">
                <a:off x="6016680" y="1501920"/>
                <a:ext cx="1946160" cy="20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21"/>
              <p:cNvSpPr/>
              <p:nvPr/>
            </p:nvSpPr>
            <p:spPr>
              <a:xfrm flipH="1">
                <a:off x="6143760" y="1601640"/>
                <a:ext cx="1944720" cy="20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 flipH="1">
                <a:off x="6234120" y="1725480"/>
                <a:ext cx="1944720" cy="200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23"/>
              <p:cNvSpPr/>
              <p:nvPr/>
            </p:nvSpPr>
            <p:spPr>
              <a:xfrm flipH="1">
                <a:off x="6359400" y="1822320"/>
                <a:ext cx="1944720" cy="200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24"/>
              <p:cNvSpPr/>
              <p:nvPr/>
            </p:nvSpPr>
            <p:spPr>
              <a:xfrm flipH="1">
                <a:off x="6450120" y="1914480"/>
                <a:ext cx="1944720" cy="200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25"/>
              <p:cNvSpPr/>
              <p:nvPr/>
            </p:nvSpPr>
            <p:spPr>
              <a:xfrm flipH="1">
                <a:off x="6558120" y="2016000"/>
                <a:ext cx="1944720" cy="200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26"/>
              <p:cNvSpPr/>
              <p:nvPr/>
            </p:nvSpPr>
            <p:spPr>
              <a:xfrm flipH="1">
                <a:off x="7133760" y="2625840"/>
                <a:ext cx="1513080" cy="156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27"/>
              <p:cNvSpPr/>
              <p:nvPr/>
            </p:nvSpPr>
            <p:spPr>
              <a:xfrm flipH="1">
                <a:off x="7727760" y="3224160"/>
                <a:ext cx="865080" cy="89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28"/>
              <p:cNvSpPr/>
              <p:nvPr/>
            </p:nvSpPr>
            <p:spPr>
              <a:xfrm flipH="1">
                <a:off x="7531200" y="3030480"/>
                <a:ext cx="1079280" cy="111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29"/>
              <p:cNvSpPr/>
              <p:nvPr/>
            </p:nvSpPr>
            <p:spPr>
              <a:xfrm flipH="1">
                <a:off x="6918480" y="2413080"/>
                <a:ext cx="1728720" cy="178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30"/>
              <p:cNvSpPr/>
              <p:nvPr/>
            </p:nvSpPr>
            <p:spPr>
              <a:xfrm flipH="1">
                <a:off x="6702120" y="2190600"/>
                <a:ext cx="1819080" cy="187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31"/>
              <p:cNvSpPr/>
              <p:nvPr/>
            </p:nvSpPr>
            <p:spPr>
              <a:xfrm flipH="1">
                <a:off x="6791040" y="2290680"/>
                <a:ext cx="1819080" cy="18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32"/>
              <p:cNvSpPr/>
              <p:nvPr/>
            </p:nvSpPr>
            <p:spPr>
              <a:xfrm flipH="1">
                <a:off x="7313760" y="2825640"/>
                <a:ext cx="1296720" cy="133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Oval 33"/>
              <p:cNvSpPr/>
              <p:nvPr/>
            </p:nvSpPr>
            <p:spPr>
              <a:xfrm>
                <a:off x="7493040" y="2346480"/>
                <a:ext cx="865080" cy="822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34"/>
              <p:cNvSpPr/>
              <p:nvPr/>
            </p:nvSpPr>
            <p:spPr>
              <a:xfrm>
                <a:off x="7710480" y="2489040"/>
                <a:ext cx="792360" cy="71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35"/>
              <p:cNvSpPr/>
              <p:nvPr/>
            </p:nvSpPr>
            <p:spPr>
              <a:xfrm>
                <a:off x="6558120" y="1797120"/>
                <a:ext cx="649080" cy="7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3300"/>
                    </a:solidFill>
                    <a:latin typeface="Times New Roman"/>
                  </a:rPr>
                  <a:t>S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Text Box 36"/>
            <p:cNvSpPr/>
            <p:nvPr/>
          </p:nvSpPr>
          <p:spPr>
            <a:xfrm>
              <a:off x="6269040" y="2863800"/>
              <a:ext cx="1730160" cy="15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0" lang="en-US" sz="2800" spc="-1" strike="noStrike" baseline="-25000">
                  <a:solidFill>
                    <a:srgbClr val="ff3300"/>
                  </a:solidFill>
                  <a:latin typeface="Times New Roman"/>
                </a:rPr>
                <a:t>S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8-19T07:52:21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