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22C1-2D66-4865-9311-F71E1C081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7FC73-FCD5-4775-9092-C4CBC8296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9B3E-2F56-4D73-81BF-F79B2325E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BE8F-5B78-44A4-A109-D269DC12B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7D9B5-3E90-4DBD-8077-5F2201824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949E-65E4-44B2-9A76-05C4A631B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D219-B3F8-4217-89E8-702C83CB3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1F9C-4DFE-4709-99E3-C3F1E8AFF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D5A1-BF9F-4B69-A3BC-40BAA328C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A7E9-DE1B-490E-A84C-492225F9E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2C7-29BB-4FE5-8B71-B01CBACA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9382-C897-4C3F-92D0-2E2005B3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E8FE-ADAC-4BA3-8CF6-11360D1B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F8E4-5781-4EEC-95D4-254FECA4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D4AF4-F039-4C7F-AEBE-7CB3FFC7C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2710-0C5B-40E5-BBB0-D2E13562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620E-49E2-4FEE-A99D-9E780038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AE75E-7196-427D-8E32-726DBE52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EED0-C884-4698-94A0-3DD5E154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E86B-2498-4195-808B-404010AA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5B31-195E-43E5-AB12-141C2867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3F8F-B562-4945-AAC0-1BA51958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4B62-034B-44F9-B414-C2559223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0A17-6CD1-4459-8A24-4FA69942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5084-5064-4C93-8519-5EC8AE605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6F2C-FF07-43AF-BFFD-08354A32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CC855-6365-4403-B3EB-C92F1086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6445-1B23-4ADB-9963-DED3F4DD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1FE9-3038-4745-8436-7A26F609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0E7-5B44-4329-B4D2-91781522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73BB-16C8-4F22-8D21-9D8B5798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E81-D39B-45F7-861E-D9DA73E6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7C4E-6A63-4778-BF4C-A36AF4D5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8357-F0A8-4C48-804C-C91E5532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6449-173B-4F71-9913-976D19A5C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2C15-7A9B-42ED-A752-1C49EFADA5DA}" type="slidenum"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62120" y="106668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与等量关系一样，不等关系也是自然界中存在着的基本关系 ，它们在现实世界和日常生活中大量存在，在数学研究和数学应用中起着重要作用。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WordArt 5" descr=""/>
          <p:cNvPicPr/>
          <p:nvPr/>
        </p:nvPicPr>
        <p:blipFill>
          <a:blip r:embed="rId1"/>
          <a:stretch/>
        </p:blipFill>
        <p:spPr>
          <a:xfrm>
            <a:off x="-542880" y="1517760"/>
            <a:ext cx="8858160" cy="35416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828800" y="5334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多与少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1295280" y="990720"/>
            <a:ext cx="762120" cy="16761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AutoShape 7"/>
          <p:cNvSpPr/>
          <p:nvPr/>
        </p:nvSpPr>
        <p:spPr>
          <a:xfrm>
            <a:off x="2362320" y="1523880"/>
            <a:ext cx="761760" cy="114300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>
            <a:off x="6705720" y="457200"/>
            <a:ext cx="761760" cy="190512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>
            <a:off x="5334120" y="457200"/>
            <a:ext cx="1143000" cy="190512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533520" y="4114800"/>
            <a:ext cx="761760" cy="609480"/>
          </a:xfrm>
          <a:custGeom>
            <a:avLst/>
            <a:gdLst>
              <a:gd name="textAreaLeft" fmla="*/ 177480 w 761760"/>
              <a:gd name="textAreaRight" fmla="*/ 583920 w 76176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2057400" y="4114800"/>
            <a:ext cx="762120" cy="609480"/>
          </a:xfrm>
          <a:custGeom>
            <a:avLst/>
            <a:gdLst>
              <a:gd name="textAreaLeft" fmla="*/ 177480 w 762120"/>
              <a:gd name="textAreaRight" fmla="*/ 584280 w 76212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1295280" y="4114800"/>
            <a:ext cx="762120" cy="609480"/>
          </a:xfrm>
          <a:custGeom>
            <a:avLst/>
            <a:gdLst>
              <a:gd name="textAreaLeft" fmla="*/ 177480 w 762120"/>
              <a:gd name="textAreaRight" fmla="*/ 584280 w 76212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>
            <a:off x="3581280" y="4114800"/>
            <a:ext cx="762120" cy="609480"/>
          </a:xfrm>
          <a:custGeom>
            <a:avLst/>
            <a:gdLst>
              <a:gd name="textAreaLeft" fmla="*/ 177480 w 762120"/>
              <a:gd name="textAreaRight" fmla="*/ 584280 w 762120"/>
              <a:gd name="textAreaTop" fmla="*/ 64080 h 609480"/>
              <a:gd name="textAreaBottom" fmla="*/ 385920 h 6094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1998000" y="2971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长与短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Rectangle 15"/>
          <p:cNvSpPr/>
          <p:nvPr/>
        </p:nvSpPr>
        <p:spPr>
          <a:xfrm>
            <a:off x="6112800" y="2590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大与小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5427000" y="6095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远与近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Freeform 25"/>
          <p:cNvSpPr/>
          <p:nvPr/>
        </p:nvSpPr>
        <p:spPr>
          <a:xfrm>
            <a:off x="6019920" y="2819520"/>
            <a:ext cx="1993680" cy="3276360"/>
          </a:xfrm>
          <a:custGeom>
            <a:avLst/>
            <a:gdLst>
              <a:gd name="textAreaLeft" fmla="*/ 0 w 1993680"/>
              <a:gd name="textAreaRight" fmla="*/ 1994040 w 199368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776" h="2064">
                <a:moveTo>
                  <a:pt x="0" y="2064"/>
                </a:moveTo>
                <a:cubicBezTo>
                  <a:pt x="60" y="1972"/>
                  <a:pt x="120" y="1880"/>
                  <a:pt x="240" y="1824"/>
                </a:cubicBezTo>
                <a:cubicBezTo>
                  <a:pt x="360" y="1768"/>
                  <a:pt x="664" y="1808"/>
                  <a:pt x="720" y="1728"/>
                </a:cubicBezTo>
                <a:cubicBezTo>
                  <a:pt x="776" y="1648"/>
                  <a:pt x="640" y="1456"/>
                  <a:pt x="576" y="1344"/>
                </a:cubicBezTo>
                <a:cubicBezTo>
                  <a:pt x="512" y="1232"/>
                  <a:pt x="336" y="1152"/>
                  <a:pt x="336" y="1056"/>
                </a:cubicBezTo>
                <a:cubicBezTo>
                  <a:pt x="336" y="960"/>
                  <a:pt x="520" y="912"/>
                  <a:pt x="576" y="768"/>
                </a:cubicBezTo>
                <a:cubicBezTo>
                  <a:pt x="632" y="624"/>
                  <a:pt x="648" y="320"/>
                  <a:pt x="672" y="192"/>
                </a:cubicBezTo>
                <a:cubicBezTo>
                  <a:pt x="696" y="64"/>
                  <a:pt x="708" y="32"/>
                  <a:pt x="720" y="0"/>
                </a:cubicBez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Freeform 26"/>
          <p:cNvSpPr/>
          <p:nvPr/>
        </p:nvSpPr>
        <p:spPr>
          <a:xfrm>
            <a:off x="5334120" y="2743200"/>
            <a:ext cx="2438280" cy="327672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3276720"/>
              <a:gd name="textAreaBottom" fmla="*/ 3277080 h 3276720"/>
            </a:gdLst>
            <a:ahLst/>
            <a:rect l="textAreaLeft" t="textAreaTop" r="textAreaRight" b="textAreaBottom"/>
            <a:pathLst>
              <a:path w="1536" h="2064">
                <a:moveTo>
                  <a:pt x="0" y="2064"/>
                </a:moveTo>
                <a:cubicBezTo>
                  <a:pt x="140" y="1936"/>
                  <a:pt x="280" y="1808"/>
                  <a:pt x="480" y="1728"/>
                </a:cubicBezTo>
                <a:cubicBezTo>
                  <a:pt x="680" y="1648"/>
                  <a:pt x="1152" y="1664"/>
                  <a:pt x="1200" y="1584"/>
                </a:cubicBezTo>
                <a:cubicBezTo>
                  <a:pt x="1248" y="1504"/>
                  <a:pt x="840" y="1344"/>
                  <a:pt x="768" y="1248"/>
                </a:cubicBezTo>
                <a:cubicBezTo>
                  <a:pt x="696" y="1152"/>
                  <a:pt x="712" y="1080"/>
                  <a:pt x="768" y="1008"/>
                </a:cubicBezTo>
                <a:cubicBezTo>
                  <a:pt x="824" y="936"/>
                  <a:pt x="1024" y="864"/>
                  <a:pt x="1104" y="816"/>
                </a:cubicBezTo>
                <a:cubicBezTo>
                  <a:pt x="1184" y="768"/>
                  <a:pt x="1200" y="808"/>
                  <a:pt x="1248" y="720"/>
                </a:cubicBezTo>
                <a:cubicBezTo>
                  <a:pt x="1296" y="632"/>
                  <a:pt x="1344" y="408"/>
                  <a:pt x="1392" y="288"/>
                </a:cubicBezTo>
                <a:cubicBezTo>
                  <a:pt x="1440" y="168"/>
                  <a:pt x="1512" y="48"/>
                  <a:pt x="1536" y="0"/>
                </a:cubicBez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09" name="Picture 29" descr="NA01441_"/>
          <p:cNvPicPr/>
          <p:nvPr/>
        </p:nvPicPr>
        <p:blipFill>
          <a:blip r:embed="rId1"/>
          <a:stretch/>
        </p:blipFill>
        <p:spPr>
          <a:xfrm>
            <a:off x="4952880" y="4038480"/>
            <a:ext cx="685800" cy="1914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0" descr="NA01441_"/>
          <p:cNvPicPr/>
          <p:nvPr/>
        </p:nvPicPr>
        <p:blipFill>
          <a:blip r:embed="rId2"/>
          <a:stretch/>
        </p:blipFill>
        <p:spPr>
          <a:xfrm>
            <a:off x="7086600" y="2971800"/>
            <a:ext cx="304920" cy="923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304920" y="30384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3399"/>
              </a:buClr>
              <a:buSzPct val="75000"/>
              <a:buFont typeface="Arial"/>
              <a:buChar char="•"/>
              <a:tabLst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从实际问题谈起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250160" y="989640"/>
            <a:ext cx="63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3399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现实生活中，存在着许许多多的不等关系。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304920" y="191844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限速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0km/h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路标，指示司机前方路段行驶时，应使汽车的速度不超过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40km/h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：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80880" y="405252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．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某品牌酸奶的质量检查规定，酸奶中的脂肪含量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f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应不少于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2.5%,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蛋白质的含量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应不少于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2.3%, 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7" name="Object 7" descr=""/>
          <p:cNvPicPr/>
          <p:nvPr/>
        </p:nvPicPr>
        <p:blipFill>
          <a:blip r:embed="rId1"/>
          <a:stretch/>
        </p:blipFill>
        <p:spPr>
          <a:xfrm>
            <a:off x="-3154320" y="3390840"/>
            <a:ext cx="1190520" cy="8384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0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Object 11" descr=""/>
          <p:cNvPicPr/>
          <p:nvPr/>
        </p:nvPicPr>
        <p:blipFill>
          <a:blip r:embed="rId2"/>
          <a:stretch/>
        </p:blipFill>
        <p:spPr>
          <a:xfrm>
            <a:off x="3657600" y="2992320"/>
            <a:ext cx="2901960" cy="66528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120" name="Object 13" descr=""/>
          <p:cNvPicPr/>
          <p:nvPr/>
        </p:nvPicPr>
        <p:blipFill>
          <a:blip r:embed="rId3"/>
          <a:stretch/>
        </p:blipFill>
        <p:spPr>
          <a:xfrm>
            <a:off x="3276720" y="5335560"/>
            <a:ext cx="2209680" cy="14461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914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问题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某博物馆的门票每位十元，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人以上（含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人）的团体票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折优惠，那么不足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人时，应该选择怎样的购票策略？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228600" y="28195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问题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某种杂志原以每本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元的价格销售，可以售出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万本。根据市场调查，若单价每提高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0.2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元，销售量就可能相应减少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5000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本。要使杂志社的收入大于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22.4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万元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每本杂志的价格应定在怎样的范围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内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396252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问题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下表给出了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Y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Z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三种食物的</a:t>
            </a:r>
            <a:br>
              <a:rPr sz="3200"/>
            </a:b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维生素含量及成本：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0" y="1676520"/>
          <a:ext cx="6172200" cy="2763720"/>
        </p:xfrm>
        <a:graphic>
          <a:graphicData uri="http://schemas.openxmlformats.org/drawingml/2006/table">
            <a:tbl>
              <a:tblPr/>
              <a:tblGrid>
                <a:gridCol w="1371600"/>
                <a:gridCol w="1676520"/>
                <a:gridCol w="1752480"/>
                <a:gridCol w="1371600"/>
              </a:tblGrid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维生素</a:t>
                      </a: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A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（单位</a:t>
                      </a: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/kg)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维生素</a:t>
                      </a: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B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（单位</a:t>
                      </a: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/kg)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成本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（元</a:t>
                      </a: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/kg)</a:t>
                      </a:r>
                      <a:endParaRPr b="1" lang="en-US" sz="2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2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X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700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5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Y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500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00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4 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Z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00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</a:t>
                      </a:r>
                      <a:endParaRPr b="1" lang="en-US" sz="2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Text Box 86"/>
          <p:cNvSpPr/>
          <p:nvPr/>
        </p:nvSpPr>
        <p:spPr>
          <a:xfrm>
            <a:off x="304920" y="5410080"/>
            <a:ext cx="784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Text Box 87"/>
          <p:cNvSpPr/>
          <p:nvPr/>
        </p:nvSpPr>
        <p:spPr>
          <a:xfrm>
            <a:off x="457200" y="469116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某人欲将这三种食物混合成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00kg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的食品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要使混合食品中至少含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35000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单位的维生素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及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40000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单位的维生素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,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设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X,Y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这两种食物各取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xkg,ykg,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那么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x,y</a:t>
            </a:r>
            <a:r>
              <a:rPr b="1" lang="zh-CN" sz="2400" spc="-1" strike="noStrike">
                <a:solidFill>
                  <a:srgbClr val="003399"/>
                </a:solidFill>
                <a:latin typeface="Arial"/>
              </a:rPr>
              <a:t>应满足怎样的关系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304920" y="990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课堂练习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某钢铁厂要把长度为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4000mm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的钢管截成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500mm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600mm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两种。按照生产的要求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600mm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钢管的数量不能超过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500mm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钢管的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倍。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怎样写出满足关系的不等式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组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?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38616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304920" y="31240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解：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假设截得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500mm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钢管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根，截得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600mm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钢管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根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.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根据题意，应有如下的不等关系：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解得两种钢管的总长度不能超过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4000mm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；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截得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600mm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钢管数量不能超过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500mm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钢管数量的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倍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解得两钟钢管的数量都不能为负。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知识应用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[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]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火车站有某公司待运的甲种货物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53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吨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乙种货物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15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吨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现计划用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辆种型号的车厢共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节运送这批货物，已知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吨甲种货物和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吨乙种货物可装满一节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型货厢；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吨甲种货物和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吨乙种货物可装满一节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型货厢。据此安排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两种货厢的节数，共有几种方案？若每节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型货厢的运费是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0.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万元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每节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型货厢的运费是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0.8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万元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哪种方案的运费最少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457200" y="228600"/>
            <a:ext cx="1828800" cy="13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牛刀小试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52280" y="15238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常见的文字语言与数学符号之间的转换如下表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：</a:t>
            </a:r>
            <a:endParaRPr b="1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42" name="Group 66"/>
          <p:cNvGrpSpPr/>
          <p:nvPr/>
        </p:nvGrpSpPr>
        <p:grpSpPr>
          <a:xfrm>
            <a:off x="304920" y="2590920"/>
            <a:ext cx="8229600" cy="2755800"/>
            <a:chOff x="304920" y="2590920"/>
            <a:chExt cx="8229600" cy="2755800"/>
          </a:xfrm>
        </p:grpSpPr>
        <p:grpSp>
          <p:nvGrpSpPr>
            <p:cNvPr id="143" name="Group 64"/>
            <p:cNvGrpSpPr/>
            <p:nvPr/>
          </p:nvGrpSpPr>
          <p:grpSpPr>
            <a:xfrm>
              <a:off x="308880" y="2595600"/>
              <a:ext cx="8220960" cy="2746440"/>
              <a:chOff x="308880" y="2595600"/>
              <a:chExt cx="8220960" cy="2746440"/>
            </a:xfrm>
          </p:grpSpPr>
          <p:grpSp>
            <p:nvGrpSpPr>
              <p:cNvPr id="144" name="Group 25"/>
              <p:cNvGrpSpPr/>
              <p:nvPr/>
            </p:nvGrpSpPr>
            <p:grpSpPr>
              <a:xfrm>
                <a:off x="308880" y="2595600"/>
                <a:ext cx="2055240" cy="549360"/>
                <a:chOff x="308880" y="2595600"/>
                <a:chExt cx="2055240" cy="549360"/>
              </a:xfrm>
            </p:grpSpPr>
            <p:sp>
              <p:nvSpPr>
                <p:cNvPr id="145" name="Rectangle 4"/>
                <p:cNvSpPr/>
                <p:nvPr/>
              </p:nvSpPr>
              <p:spPr>
                <a:xfrm>
                  <a:off x="370080" y="2595600"/>
                  <a:ext cx="1932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文字语言</a:t>
                  </a: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24"/>
                <p:cNvSpPr/>
                <p:nvPr/>
              </p:nvSpPr>
              <p:spPr>
                <a:xfrm>
                  <a:off x="308880" y="2595600"/>
                  <a:ext cx="2055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" name="Group 27"/>
              <p:cNvGrpSpPr/>
              <p:nvPr/>
            </p:nvGrpSpPr>
            <p:grpSpPr>
              <a:xfrm>
                <a:off x="2364120" y="2595600"/>
                <a:ext cx="2055240" cy="549360"/>
                <a:chOff x="2364120" y="2595600"/>
                <a:chExt cx="2055240" cy="549360"/>
              </a:xfrm>
            </p:grpSpPr>
            <p:sp>
              <p:nvSpPr>
                <p:cNvPr id="148" name="Rectangle 5"/>
                <p:cNvSpPr/>
                <p:nvPr/>
              </p:nvSpPr>
              <p:spPr>
                <a:xfrm>
                  <a:off x="2425320" y="2595600"/>
                  <a:ext cx="1932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数学符号</a:t>
                  </a: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26"/>
                <p:cNvSpPr/>
                <p:nvPr/>
              </p:nvSpPr>
              <p:spPr>
                <a:xfrm>
                  <a:off x="2364120" y="2595600"/>
                  <a:ext cx="2055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29"/>
              <p:cNvGrpSpPr/>
              <p:nvPr/>
            </p:nvGrpSpPr>
            <p:grpSpPr>
              <a:xfrm>
                <a:off x="4419360" y="2595600"/>
                <a:ext cx="2055240" cy="549360"/>
                <a:chOff x="4419360" y="2595600"/>
                <a:chExt cx="2055240" cy="549360"/>
              </a:xfrm>
            </p:grpSpPr>
            <p:sp>
              <p:nvSpPr>
                <p:cNvPr id="151" name="Rectangle 6"/>
                <p:cNvSpPr/>
                <p:nvPr/>
              </p:nvSpPr>
              <p:spPr>
                <a:xfrm>
                  <a:off x="4480560" y="2595600"/>
                  <a:ext cx="1932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文字语言</a:t>
                  </a: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52" name="Rectangle 28"/>
                <p:cNvSpPr/>
                <p:nvPr/>
              </p:nvSpPr>
              <p:spPr>
                <a:xfrm>
                  <a:off x="4419360" y="2595600"/>
                  <a:ext cx="2055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31"/>
              <p:cNvGrpSpPr/>
              <p:nvPr/>
            </p:nvGrpSpPr>
            <p:grpSpPr>
              <a:xfrm>
                <a:off x="6474600" y="2595600"/>
                <a:ext cx="2055240" cy="549360"/>
                <a:chOff x="6474600" y="2595600"/>
                <a:chExt cx="2055240" cy="549360"/>
              </a:xfrm>
            </p:grpSpPr>
            <p:sp>
              <p:nvSpPr>
                <p:cNvPr id="154" name="Rectangle 7"/>
                <p:cNvSpPr/>
                <p:nvPr/>
              </p:nvSpPr>
              <p:spPr>
                <a:xfrm>
                  <a:off x="6535800" y="2595600"/>
                  <a:ext cx="1932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数学符号</a:t>
                  </a: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30"/>
                <p:cNvSpPr/>
                <p:nvPr/>
              </p:nvSpPr>
              <p:spPr>
                <a:xfrm>
                  <a:off x="6474600" y="2595600"/>
                  <a:ext cx="2055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" name="Group 33"/>
              <p:cNvGrpSpPr/>
              <p:nvPr/>
            </p:nvGrpSpPr>
            <p:grpSpPr>
              <a:xfrm>
                <a:off x="308880" y="3144960"/>
                <a:ext cx="2055240" cy="549000"/>
                <a:chOff x="308880" y="3144960"/>
                <a:chExt cx="2055240" cy="549000"/>
              </a:xfrm>
            </p:grpSpPr>
            <p:sp>
              <p:nvSpPr>
                <p:cNvPr id="157" name="Rectangle 8"/>
                <p:cNvSpPr/>
                <p:nvPr/>
              </p:nvSpPr>
              <p:spPr>
                <a:xfrm>
                  <a:off x="370080" y="3144960"/>
                  <a:ext cx="19321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大于</a:t>
                  </a: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32"/>
                <p:cNvSpPr/>
                <p:nvPr/>
              </p:nvSpPr>
              <p:spPr>
                <a:xfrm>
                  <a:off x="308880" y="3144960"/>
                  <a:ext cx="2055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35"/>
              <p:cNvGrpSpPr/>
              <p:nvPr/>
            </p:nvGrpSpPr>
            <p:grpSpPr>
              <a:xfrm>
                <a:off x="2364120" y="3144960"/>
                <a:ext cx="2055240" cy="549000"/>
                <a:chOff x="2364120" y="3144960"/>
                <a:chExt cx="2055240" cy="549000"/>
              </a:xfrm>
            </p:grpSpPr>
            <p:sp>
              <p:nvSpPr>
                <p:cNvPr id="160" name="Rectangle 9"/>
                <p:cNvSpPr/>
                <p:nvPr/>
              </p:nvSpPr>
              <p:spPr>
                <a:xfrm>
                  <a:off x="2425320" y="3144960"/>
                  <a:ext cx="19321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3000"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＞</a:t>
                  </a:r>
                  <a:endParaRPr b="1" lang="en-US" sz="3200" spc="-1" strike="noStrike">
                    <a:solidFill>
                      <a:srgbClr val="00339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34"/>
                <p:cNvSpPr/>
                <p:nvPr/>
              </p:nvSpPr>
              <p:spPr>
                <a:xfrm>
                  <a:off x="2364120" y="3144960"/>
                  <a:ext cx="2055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Group 37"/>
              <p:cNvGrpSpPr/>
              <p:nvPr/>
            </p:nvGrpSpPr>
            <p:grpSpPr>
              <a:xfrm>
                <a:off x="4419360" y="3144960"/>
                <a:ext cx="2055240" cy="549000"/>
                <a:chOff x="4419360" y="3144960"/>
                <a:chExt cx="2055240" cy="549000"/>
              </a:xfrm>
            </p:grpSpPr>
            <p:sp>
              <p:nvSpPr>
                <p:cNvPr id="163" name="Rectangle 10"/>
                <p:cNvSpPr/>
                <p:nvPr/>
              </p:nvSpPr>
              <p:spPr>
                <a:xfrm>
                  <a:off x="4480560" y="3144960"/>
                  <a:ext cx="19321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至多</a:t>
                  </a: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36"/>
                <p:cNvSpPr/>
                <p:nvPr/>
              </p:nvSpPr>
              <p:spPr>
                <a:xfrm>
                  <a:off x="4419360" y="3144960"/>
                  <a:ext cx="2055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" name="Group 39"/>
              <p:cNvGrpSpPr/>
              <p:nvPr/>
            </p:nvGrpSpPr>
            <p:grpSpPr>
              <a:xfrm>
                <a:off x="6474600" y="3144960"/>
                <a:ext cx="2055240" cy="549000"/>
                <a:chOff x="6474600" y="3144960"/>
                <a:chExt cx="2055240" cy="549000"/>
              </a:xfrm>
            </p:grpSpPr>
            <p:sp>
              <p:nvSpPr>
                <p:cNvPr id="166" name="Rectangle 11"/>
                <p:cNvSpPr/>
                <p:nvPr/>
              </p:nvSpPr>
              <p:spPr>
                <a:xfrm>
                  <a:off x="6535800" y="3144960"/>
                  <a:ext cx="193212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3000"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≤</a:t>
                  </a:r>
                  <a:endParaRPr b="1" lang="en-US" sz="3200" spc="-1" strike="noStrike">
                    <a:solidFill>
                      <a:srgbClr val="00339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38"/>
                <p:cNvSpPr/>
                <p:nvPr/>
              </p:nvSpPr>
              <p:spPr>
                <a:xfrm>
                  <a:off x="6474600" y="3144960"/>
                  <a:ext cx="2055240" cy="549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Group 41"/>
              <p:cNvGrpSpPr/>
              <p:nvPr/>
            </p:nvGrpSpPr>
            <p:grpSpPr>
              <a:xfrm>
                <a:off x="308880" y="3693960"/>
                <a:ext cx="2055240" cy="549360"/>
                <a:chOff x="308880" y="3693960"/>
                <a:chExt cx="2055240" cy="549360"/>
              </a:xfrm>
            </p:grpSpPr>
            <p:sp>
              <p:nvSpPr>
                <p:cNvPr id="169" name="Rectangle 12"/>
                <p:cNvSpPr/>
                <p:nvPr/>
              </p:nvSpPr>
              <p:spPr>
                <a:xfrm>
                  <a:off x="370080" y="3693960"/>
                  <a:ext cx="1932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小于</a:t>
                  </a: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70" name="Rectangle 40"/>
                <p:cNvSpPr/>
                <p:nvPr/>
              </p:nvSpPr>
              <p:spPr>
                <a:xfrm>
                  <a:off x="308880" y="3693960"/>
                  <a:ext cx="2055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43"/>
              <p:cNvGrpSpPr/>
              <p:nvPr/>
            </p:nvGrpSpPr>
            <p:grpSpPr>
              <a:xfrm>
                <a:off x="2364120" y="3693960"/>
                <a:ext cx="2055240" cy="549360"/>
                <a:chOff x="2364120" y="3693960"/>
                <a:chExt cx="2055240" cy="549360"/>
              </a:xfrm>
            </p:grpSpPr>
            <p:sp>
              <p:nvSpPr>
                <p:cNvPr id="172" name="Rectangle 13"/>
                <p:cNvSpPr/>
                <p:nvPr/>
              </p:nvSpPr>
              <p:spPr>
                <a:xfrm>
                  <a:off x="2425320" y="3693960"/>
                  <a:ext cx="1932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3000"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2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＜</a:t>
                  </a:r>
                  <a:endParaRPr b="1" lang="en-US" sz="3200" spc="-1" strike="noStrike">
                    <a:solidFill>
                      <a:srgbClr val="00339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42"/>
                <p:cNvSpPr/>
                <p:nvPr/>
              </p:nvSpPr>
              <p:spPr>
                <a:xfrm>
                  <a:off x="2364120" y="3693960"/>
                  <a:ext cx="2055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45"/>
              <p:cNvGrpSpPr/>
              <p:nvPr/>
            </p:nvGrpSpPr>
            <p:grpSpPr>
              <a:xfrm>
                <a:off x="4419360" y="3693960"/>
                <a:ext cx="2055240" cy="549360"/>
                <a:chOff x="4419360" y="3693960"/>
                <a:chExt cx="2055240" cy="549360"/>
              </a:xfrm>
            </p:grpSpPr>
            <p:sp>
              <p:nvSpPr>
                <p:cNvPr id="175" name="Rectangle 14"/>
                <p:cNvSpPr/>
                <p:nvPr/>
              </p:nvSpPr>
              <p:spPr>
                <a:xfrm>
                  <a:off x="4480560" y="3693960"/>
                  <a:ext cx="1932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至少</a:t>
                  </a: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44"/>
                <p:cNvSpPr/>
                <p:nvPr/>
              </p:nvSpPr>
              <p:spPr>
                <a:xfrm>
                  <a:off x="4419360" y="3693960"/>
                  <a:ext cx="2055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47"/>
              <p:cNvGrpSpPr/>
              <p:nvPr/>
            </p:nvGrpSpPr>
            <p:grpSpPr>
              <a:xfrm>
                <a:off x="6474600" y="3693960"/>
                <a:ext cx="2055240" cy="549360"/>
                <a:chOff x="6474600" y="3693960"/>
                <a:chExt cx="2055240" cy="549360"/>
              </a:xfrm>
            </p:grpSpPr>
            <p:sp>
              <p:nvSpPr>
                <p:cNvPr id="178" name="Rectangle 15"/>
                <p:cNvSpPr/>
                <p:nvPr/>
              </p:nvSpPr>
              <p:spPr>
                <a:xfrm>
                  <a:off x="6535800" y="3693960"/>
                  <a:ext cx="1932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3000"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≥</a:t>
                  </a:r>
                  <a:endParaRPr b="1" lang="en-US" sz="3200" spc="-1" strike="noStrike">
                    <a:solidFill>
                      <a:srgbClr val="00339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46"/>
                <p:cNvSpPr/>
                <p:nvPr/>
              </p:nvSpPr>
              <p:spPr>
                <a:xfrm>
                  <a:off x="6474600" y="3693960"/>
                  <a:ext cx="2055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49"/>
              <p:cNvGrpSpPr/>
              <p:nvPr/>
            </p:nvGrpSpPr>
            <p:grpSpPr>
              <a:xfrm>
                <a:off x="308880" y="4243320"/>
                <a:ext cx="2055240" cy="549360"/>
                <a:chOff x="308880" y="4243320"/>
                <a:chExt cx="2055240" cy="549360"/>
              </a:xfrm>
            </p:grpSpPr>
            <p:sp>
              <p:nvSpPr>
                <p:cNvPr id="181" name="Rectangle 16"/>
                <p:cNvSpPr/>
                <p:nvPr/>
              </p:nvSpPr>
              <p:spPr>
                <a:xfrm>
                  <a:off x="370080" y="4243320"/>
                  <a:ext cx="1932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大于等于</a:t>
                  </a: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48"/>
                <p:cNvSpPr/>
                <p:nvPr/>
              </p:nvSpPr>
              <p:spPr>
                <a:xfrm>
                  <a:off x="308880" y="4243320"/>
                  <a:ext cx="2055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3" name="Group 51"/>
              <p:cNvGrpSpPr/>
              <p:nvPr/>
            </p:nvGrpSpPr>
            <p:grpSpPr>
              <a:xfrm>
                <a:off x="2364120" y="4243320"/>
                <a:ext cx="2055240" cy="549360"/>
                <a:chOff x="2364120" y="4243320"/>
                <a:chExt cx="2055240" cy="549360"/>
              </a:xfrm>
            </p:grpSpPr>
            <p:sp>
              <p:nvSpPr>
                <p:cNvPr id="184" name="Rectangle 17"/>
                <p:cNvSpPr/>
                <p:nvPr/>
              </p:nvSpPr>
              <p:spPr>
                <a:xfrm>
                  <a:off x="2425320" y="4243320"/>
                  <a:ext cx="1932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3000"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≥</a:t>
                  </a:r>
                  <a:endParaRPr b="1" lang="en-US" sz="3200" spc="-1" strike="noStrike">
                    <a:solidFill>
                      <a:srgbClr val="00339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85" name="Rectangle 50"/>
                <p:cNvSpPr/>
                <p:nvPr/>
              </p:nvSpPr>
              <p:spPr>
                <a:xfrm>
                  <a:off x="2364120" y="4243320"/>
                  <a:ext cx="2055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Group 53"/>
              <p:cNvGrpSpPr/>
              <p:nvPr/>
            </p:nvGrpSpPr>
            <p:grpSpPr>
              <a:xfrm>
                <a:off x="4419360" y="4243320"/>
                <a:ext cx="2055240" cy="549360"/>
                <a:chOff x="4419360" y="4243320"/>
                <a:chExt cx="2055240" cy="549360"/>
              </a:xfrm>
            </p:grpSpPr>
            <p:sp>
              <p:nvSpPr>
                <p:cNvPr id="187" name="Rectangle 18"/>
                <p:cNvSpPr/>
                <p:nvPr/>
              </p:nvSpPr>
              <p:spPr>
                <a:xfrm>
                  <a:off x="4480560" y="4243320"/>
                  <a:ext cx="1932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不少于</a:t>
                  </a: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52"/>
                <p:cNvSpPr/>
                <p:nvPr/>
              </p:nvSpPr>
              <p:spPr>
                <a:xfrm>
                  <a:off x="4419360" y="4243320"/>
                  <a:ext cx="2055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" name="Group 55"/>
              <p:cNvGrpSpPr/>
              <p:nvPr/>
            </p:nvGrpSpPr>
            <p:grpSpPr>
              <a:xfrm>
                <a:off x="6474600" y="4243320"/>
                <a:ext cx="2055240" cy="549360"/>
                <a:chOff x="6474600" y="4243320"/>
                <a:chExt cx="2055240" cy="549360"/>
              </a:xfrm>
            </p:grpSpPr>
            <p:sp>
              <p:nvSpPr>
                <p:cNvPr id="190" name="Rectangle 19"/>
                <p:cNvSpPr/>
                <p:nvPr/>
              </p:nvSpPr>
              <p:spPr>
                <a:xfrm>
                  <a:off x="6535800" y="4243320"/>
                  <a:ext cx="1932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3000"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≥</a:t>
                  </a:r>
                  <a:endParaRPr b="1" lang="en-US" sz="3200" spc="-1" strike="noStrike">
                    <a:solidFill>
                      <a:srgbClr val="00339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54"/>
                <p:cNvSpPr/>
                <p:nvPr/>
              </p:nvSpPr>
              <p:spPr>
                <a:xfrm>
                  <a:off x="6474600" y="4243320"/>
                  <a:ext cx="2055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Group 57"/>
              <p:cNvGrpSpPr/>
              <p:nvPr/>
            </p:nvGrpSpPr>
            <p:grpSpPr>
              <a:xfrm>
                <a:off x="308880" y="4792680"/>
                <a:ext cx="2055240" cy="549360"/>
                <a:chOff x="308880" y="4792680"/>
                <a:chExt cx="2055240" cy="549360"/>
              </a:xfrm>
            </p:grpSpPr>
            <p:sp>
              <p:nvSpPr>
                <p:cNvPr id="193" name="Rectangle 20"/>
                <p:cNvSpPr/>
                <p:nvPr/>
              </p:nvSpPr>
              <p:spPr>
                <a:xfrm>
                  <a:off x="370080" y="4792680"/>
                  <a:ext cx="1932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小于等于</a:t>
                  </a: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56"/>
                <p:cNvSpPr/>
                <p:nvPr/>
              </p:nvSpPr>
              <p:spPr>
                <a:xfrm>
                  <a:off x="308880" y="4792680"/>
                  <a:ext cx="2055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59"/>
              <p:cNvGrpSpPr/>
              <p:nvPr/>
            </p:nvGrpSpPr>
            <p:grpSpPr>
              <a:xfrm>
                <a:off x="2364120" y="4792680"/>
                <a:ext cx="2055240" cy="549360"/>
                <a:chOff x="2364120" y="4792680"/>
                <a:chExt cx="2055240" cy="549360"/>
              </a:xfrm>
            </p:grpSpPr>
            <p:sp>
              <p:nvSpPr>
                <p:cNvPr id="196" name="Rectangle 21"/>
                <p:cNvSpPr/>
                <p:nvPr/>
              </p:nvSpPr>
              <p:spPr>
                <a:xfrm>
                  <a:off x="2425320" y="4792680"/>
                  <a:ext cx="1932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3000"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≤</a:t>
                  </a:r>
                  <a:endParaRPr b="1" lang="en-US" sz="3200" spc="-1" strike="noStrike">
                    <a:solidFill>
                      <a:srgbClr val="00339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58"/>
                <p:cNvSpPr/>
                <p:nvPr/>
              </p:nvSpPr>
              <p:spPr>
                <a:xfrm>
                  <a:off x="2364120" y="4792680"/>
                  <a:ext cx="2055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61"/>
              <p:cNvGrpSpPr/>
              <p:nvPr/>
            </p:nvGrpSpPr>
            <p:grpSpPr>
              <a:xfrm>
                <a:off x="4419360" y="4792680"/>
                <a:ext cx="2055240" cy="549360"/>
                <a:chOff x="4419360" y="4792680"/>
                <a:chExt cx="2055240" cy="549360"/>
              </a:xfrm>
            </p:grpSpPr>
            <p:sp>
              <p:nvSpPr>
                <p:cNvPr id="199" name="Rectangle 22"/>
                <p:cNvSpPr/>
                <p:nvPr/>
              </p:nvSpPr>
              <p:spPr>
                <a:xfrm>
                  <a:off x="4480560" y="4792680"/>
                  <a:ext cx="1932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7a77"/>
                      </a:solidFill>
                      <a:latin typeface="Times New Roman"/>
                      <a:ea typeface="楷体_GB2312"/>
                    </a:rPr>
                    <a:t>不多于</a:t>
                  </a: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200" name="Rectangle 60"/>
                <p:cNvSpPr/>
                <p:nvPr/>
              </p:nvSpPr>
              <p:spPr>
                <a:xfrm>
                  <a:off x="4419360" y="4792680"/>
                  <a:ext cx="2055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63"/>
              <p:cNvGrpSpPr/>
              <p:nvPr/>
            </p:nvGrpSpPr>
            <p:grpSpPr>
              <a:xfrm>
                <a:off x="6474600" y="4792680"/>
                <a:ext cx="2055240" cy="549360"/>
                <a:chOff x="6474600" y="4792680"/>
                <a:chExt cx="2055240" cy="549360"/>
              </a:xfrm>
            </p:grpSpPr>
            <p:sp>
              <p:nvSpPr>
                <p:cNvPr id="202" name="Rectangle 23"/>
                <p:cNvSpPr/>
                <p:nvPr/>
              </p:nvSpPr>
              <p:spPr>
                <a:xfrm>
                  <a:off x="6535800" y="4792680"/>
                  <a:ext cx="193212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3000"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ff0000"/>
                      </a:solidFill>
                      <a:latin typeface="Times New Roman"/>
                      <a:ea typeface="楷体_GB2312"/>
                    </a:rPr>
                    <a:t>≤</a:t>
                  </a:r>
                  <a:endParaRPr b="1" lang="en-US" sz="3200" spc="-1" strike="noStrike">
                    <a:solidFill>
                      <a:srgbClr val="003399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2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62"/>
                <p:cNvSpPr/>
                <p:nvPr/>
              </p:nvSpPr>
              <p:spPr>
                <a:xfrm>
                  <a:off x="6474600" y="4792680"/>
                  <a:ext cx="2055240" cy="54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339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4" name="Rectangle 65"/>
            <p:cNvSpPr/>
            <p:nvPr/>
          </p:nvSpPr>
          <p:spPr>
            <a:xfrm>
              <a:off x="304920" y="2590920"/>
              <a:ext cx="8229600" cy="2755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205" name="Text Box 67"/>
          <p:cNvSpPr/>
          <p:nvPr/>
        </p:nvSpPr>
        <p:spPr>
          <a:xfrm>
            <a:off x="0" y="762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课堂小结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6" name="Text Box 67"/>
          <p:cNvSpPr/>
          <p:nvPr/>
        </p:nvSpPr>
        <p:spPr>
          <a:xfrm>
            <a:off x="152280" y="556272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课后作业  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书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P17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练习第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1,2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题</a:t>
            </a:r>
            <a:endParaRPr b="1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8048</dc:creator>
  <dc:description/>
  <dc:language>en-US</dc:language>
  <cp:lastModifiedBy>Administrator</cp:lastModifiedBy>
  <dcterms:modified xsi:type="dcterms:W3CDTF">2022-01-17T14:42:38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