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8.wmf" ContentType="image/x-wmf"/>
  <Override PartName="/ppt/media/image10.jpeg" ContentType="image/jpeg"/>
  <Override PartName="/ppt/media/image13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07E-5F9C-469C-892B-DBA0BB744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D3A7-D81A-4BF6-A83F-EECCD2EA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07D-3767-4824-9041-D69D9D53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A8A4-66E9-4233-BC0B-FE557461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9B08-9C4A-4DB8-8953-DB93F15AC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6DC8-7DAA-475B-AC12-6948E192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2A42-4516-4258-9E88-B29507F7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9649-98C9-4C1C-A1C2-F72B62AB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E52D-DF0F-4E15-BE32-A192D689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75E1-9AB7-408D-8D60-4F05AC2A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AAE6-A659-4F5B-8A15-85371B06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55E-9CEA-468A-8316-3C987DD8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9F19-4104-47A0-9E33-D8BF2BB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2E7B-B141-4A15-841D-D771B470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D90C-FA7B-4454-B51D-75F3B96C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8948-2AE5-4B15-934E-0F747887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E9F5-28AD-4AD3-8CD3-014CEA3F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536-AECA-44E2-9EAD-68EDBD13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6842-FB43-477B-B28F-D5ED2FF2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9C25-F0D3-4601-A279-55853918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77BA-E65F-4E77-8789-2F370CAF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90F2-2D52-43C3-B24D-9255B170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632-D3EA-4BD0-BF39-28D37D57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BE89-CFBC-4200-B623-E6A05908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4205-806B-4CDF-932F-55FDFDFBFB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B57B-AEE0-4ACF-BB00-105F526908B0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1676520"/>
            <a:ext cx="76197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8000" spc="-1" strike="noStrike">
                <a:solidFill>
                  <a:srgbClr val="0066ff"/>
                </a:solidFill>
                <a:latin typeface="宋体"/>
              </a:rPr>
              <a:t>组  合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219320" y="3429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苏州幼儿师范高等专科学校理科教研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8000" y="189864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4"/>
              <p:cNvSpPr txBox="1"/>
              <p:nvPr/>
            </p:nvSpPr>
            <p:spPr>
              <a:xfrm>
                <a:off x="914400" y="2658960"/>
                <a:ext cx="46483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914400" y="3343320"/>
                <a:ext cx="51814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2</m:t>
                        </m:r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6"/>
          <p:cNvSpPr/>
          <p:nvPr/>
        </p:nvSpPr>
        <p:spPr>
          <a:xfrm>
            <a:off x="533520" y="1590840"/>
            <a:ext cx="3657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04920" y="2200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例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2 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求证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9" name="Picture 8" descr="4"/>
          <p:cNvPicPr/>
          <p:nvPr/>
        </p:nvPicPr>
        <p:blipFill>
          <a:blip r:embed="rId1"/>
          <a:stretch/>
        </p:blipFill>
        <p:spPr>
          <a:xfrm>
            <a:off x="380880" y="685800"/>
            <a:ext cx="33433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8000" y="189864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87240" y="2133720"/>
            <a:ext cx="830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结合所学知识，根据下列材料：不同面值的钱币（真钱仿制品），（物品的包装袋、价目），纸，笔。设计一个幼儿园 活动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小鬼当家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228600" y="10666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知识与实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286000" y="2057400"/>
            <a:ext cx="28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布置作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27080" y="38736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609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895480" y="152280"/>
            <a:ext cx="2514600" cy="6426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复习巩固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228600" y="685800"/>
            <a:ext cx="8220240" cy="1541880"/>
            <a:chOff x="228600" y="685800"/>
            <a:chExt cx="8220240" cy="1541880"/>
          </a:xfrm>
        </p:grpSpPr>
        <p:sp>
          <p:nvSpPr>
            <p:cNvPr id="90" name="Rectangle 8"/>
            <p:cNvSpPr/>
            <p:nvPr/>
          </p:nvSpPr>
          <p:spPr>
            <a:xfrm>
              <a:off x="228600" y="68580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、组合定义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1" name="Text Box 9"/>
            <p:cNvSpPr/>
            <p:nvPr/>
          </p:nvSpPr>
          <p:spPr>
            <a:xfrm>
              <a:off x="457200" y="1219320"/>
              <a:ext cx="7991640" cy="1008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  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一般地，从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个不同元素中取出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（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≤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）个元素</a:t>
              </a:r>
              <a:r>
                <a:rPr b="1" lang="zh-CN" sz="2400" spc="-1" strike="noStrike">
                  <a:solidFill>
                    <a:srgbClr val="ff3300"/>
                  </a:solidFill>
                  <a:latin typeface="隶书"/>
                </a:rPr>
                <a:t>并成一组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，叫做从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个不同元素中取出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个元素的一个</a:t>
              </a:r>
              <a:r>
                <a:rPr b="1" lang="zh-CN" sz="2400" spc="-1" strike="noStrike">
                  <a:solidFill>
                    <a:srgbClr val="ff3300"/>
                  </a:solidFill>
                  <a:latin typeface="隶书"/>
                </a:rPr>
                <a:t>组合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．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2" name="Group 10"/>
          <p:cNvGrpSpPr/>
          <p:nvPr/>
        </p:nvGrpSpPr>
        <p:grpSpPr>
          <a:xfrm>
            <a:off x="533520" y="2438280"/>
            <a:ext cx="8153280" cy="1839960"/>
            <a:chOff x="533520" y="2438280"/>
            <a:chExt cx="8153280" cy="1839960"/>
          </a:xfrm>
        </p:grpSpPr>
        <p:grpSp>
          <p:nvGrpSpPr>
            <p:cNvPr id="93" name="Group 11"/>
            <p:cNvGrpSpPr/>
            <p:nvPr/>
          </p:nvGrpSpPr>
          <p:grpSpPr>
            <a:xfrm>
              <a:off x="533520" y="2966760"/>
              <a:ext cx="8153280" cy="1311480"/>
              <a:chOff x="533520" y="2966760"/>
              <a:chExt cx="8153280" cy="1311480"/>
            </a:xfrm>
          </p:grpSpPr>
          <p:sp>
            <p:nvSpPr>
              <p:cNvPr id="94" name="Rectangle 12"/>
              <p:cNvSpPr/>
              <p:nvPr/>
            </p:nvSpPr>
            <p:spPr>
              <a:xfrm>
                <a:off x="533520" y="2966760"/>
                <a:ext cx="8153280" cy="1191240"/>
              </a:xfrm>
              <a:prstGeom prst="rect">
                <a:avLst/>
              </a:prstGeom>
              <a:solidFill>
                <a:srgbClr val="00ccff">
                  <a:alpha val="35000"/>
                </a:srgbClr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从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个不同元素中取出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m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（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m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≤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）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个元素的所有组合的个数，叫做从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个不同元素中取出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m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个元素的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组合数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，用符号             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     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表示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.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95" name="Object 13"/>
              <p:cNvGraphicFramePr/>
              <p:nvPr/>
            </p:nvGraphicFramePr>
            <p:xfrm>
              <a:off x="762120" y="3581280"/>
              <a:ext cx="836640" cy="696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6" name="Object 1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62120" y="3581280"/>
                        <a:ext cx="836640" cy="69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Rectangle 14"/>
            <p:cNvSpPr/>
            <p:nvPr/>
          </p:nvSpPr>
          <p:spPr>
            <a:xfrm>
              <a:off x="671040" y="2438280"/>
              <a:ext cx="83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、组合数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8" name="Group 15"/>
          <p:cNvGrpSpPr/>
          <p:nvPr/>
        </p:nvGrpSpPr>
        <p:grpSpPr>
          <a:xfrm>
            <a:off x="380880" y="4266000"/>
            <a:ext cx="8610840" cy="2363040"/>
            <a:chOff x="380880" y="4266000"/>
            <a:chExt cx="8610840" cy="2363040"/>
          </a:xfrm>
        </p:grpSpPr>
        <p:sp>
          <p:nvSpPr>
            <p:cNvPr id="99" name="Rectangle 16"/>
            <p:cNvSpPr/>
            <p:nvPr/>
          </p:nvSpPr>
          <p:spPr>
            <a:xfrm>
              <a:off x="1006200" y="426600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组合数公式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100" name="Object 17"/>
            <p:cNvGraphicFramePr/>
            <p:nvPr/>
          </p:nvGraphicFramePr>
          <p:xfrm>
            <a:off x="380880" y="4800960"/>
            <a:ext cx="5715000" cy="108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1" name="Object 17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880" y="4800960"/>
                      <a:ext cx="5715000" cy="1089720"/>
                    </a:xfrm>
                    <a:prstGeom prst="rect">
                      <a:avLst/>
                    </a:prstGeom>
                    <a:ln w="9360">
                      <a:solidFill>
                        <a:srgbClr val="0000cc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Object 18"/>
            <p:cNvGraphicFramePr/>
            <p:nvPr/>
          </p:nvGraphicFramePr>
          <p:xfrm>
            <a:off x="6248520" y="4802400"/>
            <a:ext cx="2743200" cy="10915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3" name="Object 18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48520" y="4802400"/>
                      <a:ext cx="2743200" cy="1091520"/>
                    </a:xfrm>
                    <a:prstGeom prst="rect">
                      <a:avLst/>
                    </a:prstGeom>
                    <a:ln w="9360">
                      <a:solidFill>
                        <a:srgbClr val="0000cc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Object 19"/>
            <p:cNvGraphicFramePr/>
            <p:nvPr/>
          </p:nvGraphicFramePr>
          <p:xfrm>
            <a:off x="380880" y="6020640"/>
            <a:ext cx="3200400" cy="6084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5" name="Object 1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80880" y="6020640"/>
                      <a:ext cx="3200400" cy="60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Object 20"/>
            <p:cNvGraphicFramePr/>
            <p:nvPr/>
          </p:nvGraphicFramePr>
          <p:xfrm>
            <a:off x="4343400" y="6020640"/>
            <a:ext cx="3048120" cy="578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7" name="Object 20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43400" y="6020640"/>
                      <a:ext cx="3048120" cy="578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08000" y="167112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615960"/>
            <a:ext cx="224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331b5"/>
                </a:solidFill>
                <a:latin typeface="Arial"/>
                <a:ea typeface="华文行楷"/>
              </a:rPr>
              <a:t>性质</a:t>
            </a:r>
            <a:r>
              <a:rPr b="1" lang="zh-CN" sz="4800" spc="-1" strike="noStrike">
                <a:solidFill>
                  <a:srgbClr val="c331b5"/>
                </a:solidFill>
                <a:latin typeface="Arial"/>
                <a:ea typeface="华文行楷"/>
              </a:rPr>
              <a:t>1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838080" y="1752480"/>
                <a:ext cx="3978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求组合数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和C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的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5"/>
              <p:cNvSpPr txBox="1"/>
              <p:nvPr/>
            </p:nvSpPr>
            <p:spPr>
              <a:xfrm>
                <a:off x="1447920" y="2589120"/>
                <a:ext cx="407484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6"/>
              <p:cNvSpPr txBox="1"/>
              <p:nvPr/>
            </p:nvSpPr>
            <p:spPr>
              <a:xfrm>
                <a:off x="1447920" y="4037040"/>
                <a:ext cx="4074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5</m:t>
                        </m:r>
                        <m:r>
                          <m:t xml:space="preserve">!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" name="Group 7"/>
          <p:cNvGrpSpPr/>
          <p:nvPr/>
        </p:nvGrpSpPr>
        <p:grpSpPr>
          <a:xfrm>
            <a:off x="990720" y="685800"/>
            <a:ext cx="6095880" cy="685800"/>
            <a:chOff x="990720" y="685800"/>
            <a:chExt cx="6095880" cy="685800"/>
          </a:xfrm>
        </p:grpSpPr>
        <mc:AlternateContent>
          <mc:Choice xmlns:a14="http://schemas.microsoft.com/office/drawing/2010/main" Requires="a14">
            <p:sp>
              <p:nvSpPr>
                <p:cNvPr id="114" name="Object 8"/>
                <p:cNvSpPr txBox="1"/>
                <p:nvPr/>
              </p:nvSpPr>
              <p:spPr>
                <a:xfrm>
                  <a:off x="3003480" y="685800"/>
                  <a:ext cx="408312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Text Box 9"/>
            <p:cNvSpPr/>
            <p:nvPr/>
          </p:nvSpPr>
          <p:spPr>
            <a:xfrm>
              <a:off x="990720" y="719640"/>
              <a:ext cx="181008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990720" y="5257800"/>
                <a:ext cx="4171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求组合数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sSubSup>
                      <m:e>
                        <m:r>
                          <m:t xml:space="preserve">和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7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的值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8000" y="167112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533520" y="615960"/>
            <a:ext cx="224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331b5"/>
                </a:solidFill>
                <a:latin typeface="Arial"/>
                <a:ea typeface="华文行楷"/>
              </a:rPr>
              <a:t>性质</a:t>
            </a:r>
            <a:r>
              <a:rPr b="1" lang="zh-CN" sz="4800" spc="-1" strike="noStrike">
                <a:solidFill>
                  <a:srgbClr val="c331b5"/>
                </a:solidFill>
                <a:latin typeface="Arial"/>
                <a:ea typeface="华文行楷"/>
              </a:rPr>
              <a:t>1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066680" y="1981080"/>
                <a:ext cx="997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证明：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" name="Picture 5" descr="QQ图片20140226151925"/>
          <p:cNvPicPr/>
          <p:nvPr/>
        </p:nvPicPr>
        <p:blipFill>
          <a:blip r:embed="rId1"/>
          <a:stretch/>
        </p:blipFill>
        <p:spPr>
          <a:xfrm>
            <a:off x="2743200" y="1906560"/>
            <a:ext cx="2514600" cy="8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QQ图片20140226152000"/>
          <p:cNvPicPr/>
          <p:nvPr/>
        </p:nvPicPr>
        <p:blipFill>
          <a:blip r:embed="rId2"/>
          <a:stretch/>
        </p:blipFill>
        <p:spPr>
          <a:xfrm>
            <a:off x="2743200" y="2971800"/>
            <a:ext cx="4724280" cy="914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QQ图片20140226152003"/>
          <p:cNvPicPr/>
          <p:nvPr/>
        </p:nvPicPr>
        <p:blipFill>
          <a:blip r:embed="rId3"/>
          <a:stretch/>
        </p:blipFill>
        <p:spPr>
          <a:xfrm>
            <a:off x="2743200" y="4267080"/>
            <a:ext cx="2819520" cy="735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Object 8"/>
              <p:cNvSpPr txBox="1"/>
              <p:nvPr/>
            </p:nvSpPr>
            <p:spPr>
              <a:xfrm>
                <a:off x="1143000" y="5334120"/>
                <a:ext cx="17017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计算：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9</m:t>
                        </m:r>
                      </m:sub>
                      <m:sup>
                        <m:r>
                          <m:t xml:space="preserve">7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24" name="Group 9"/>
          <p:cNvGrpSpPr/>
          <p:nvPr/>
        </p:nvGrpSpPr>
        <p:grpSpPr>
          <a:xfrm>
            <a:off x="990720" y="685800"/>
            <a:ext cx="6172200" cy="838080"/>
            <a:chOff x="990720" y="685800"/>
            <a:chExt cx="6172200" cy="838080"/>
          </a:xfrm>
        </p:grpSpPr>
        <mc:AlternateContent>
          <mc:Choice xmlns:a14="http://schemas.microsoft.com/office/drawing/2010/main" Requires="a14">
            <p:sp>
              <p:nvSpPr>
                <p:cNvPr id="125" name="Object 10"/>
                <p:cNvSpPr txBox="1"/>
                <p:nvPr/>
              </p:nvSpPr>
              <p:spPr>
                <a:xfrm>
                  <a:off x="3028680" y="685800"/>
                  <a:ext cx="41342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26" name="Text Box 11"/>
            <p:cNvSpPr/>
            <p:nvPr/>
          </p:nvSpPr>
          <p:spPr>
            <a:xfrm>
              <a:off x="990720" y="727200"/>
              <a:ext cx="1832760" cy="6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04920" y="1569240"/>
            <a:ext cx="788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一个口袋内装有大小相同的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个白球和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个黑球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⑴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从口袋内取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个球，共有多少种取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⑵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从口袋内取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个球，使其中含有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个黑球，有多少种取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⑶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从口袋内取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个球，使其中不含黑球，有多少种取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2440080" y="4413240"/>
                <a:ext cx="1342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6"/>
          <p:cNvSpPr/>
          <p:nvPr/>
        </p:nvSpPr>
        <p:spPr>
          <a:xfrm>
            <a:off x="4095720" y="4523040"/>
            <a:ext cx="90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  <a:ea typeface="Times New Roman"/>
              </a:rPr>
              <a:t>⑵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7"/>
              <p:cNvSpPr txBox="1"/>
              <p:nvPr/>
            </p:nvSpPr>
            <p:spPr>
              <a:xfrm>
                <a:off x="5535720" y="4413240"/>
                <a:ext cx="167472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7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Rectangle 8"/>
          <p:cNvSpPr/>
          <p:nvPr/>
        </p:nvSpPr>
        <p:spPr>
          <a:xfrm>
            <a:off x="1143000" y="4590720"/>
            <a:ext cx="82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2511360" y="5060880"/>
                <a:ext cx="138420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7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Rectangle 10"/>
          <p:cNvSpPr/>
          <p:nvPr/>
        </p:nvSpPr>
        <p:spPr>
          <a:xfrm>
            <a:off x="1793880" y="3222720"/>
            <a:ext cx="11206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23720" y="4557600"/>
            <a:ext cx="19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解：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2743200" y="457200"/>
            <a:ext cx="224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331b5"/>
                </a:solidFill>
                <a:latin typeface="Arial"/>
                <a:ea typeface="华文行楷"/>
              </a:rPr>
              <a:t>性质</a:t>
            </a:r>
            <a:r>
              <a:rPr b="1" lang="zh-CN" sz="4800" spc="-1" strike="noStrike">
                <a:solidFill>
                  <a:srgbClr val="c331b5"/>
                </a:solidFill>
                <a:latin typeface="Arial"/>
                <a:ea typeface="华文行楷"/>
              </a:rPr>
              <a:t>2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755640" y="2957400"/>
            <a:ext cx="734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我们可以这样解释：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Times New Roman"/>
              </a:rPr>
              <a:t>从口袋内的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8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Times New Roman"/>
              </a:rPr>
              <a:t>个球中所取出的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Times New Roman"/>
              </a:rPr>
              <a:t>个球，可以分为两类：一类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含有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个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  <a:ea typeface="Times New Roman"/>
              </a:rPr>
              <a:t>黑球，一类不含有黑球．因此根据分类计数原理，上述等式成立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826920" y="7642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我们发现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1042920" y="1484280"/>
            <a:ext cx="4608360" cy="961920"/>
            <a:chOff x="1042920" y="1484280"/>
            <a:chExt cx="4608360" cy="961920"/>
          </a:xfrm>
        </p:grpSpPr>
        <mc:AlternateContent>
          <mc:Choice xmlns:a14="http://schemas.microsoft.com/office/drawing/2010/main" Requires="a14">
            <p:sp>
              <p:nvSpPr>
                <p:cNvPr id="143" name="Object 7"/>
                <p:cNvSpPr txBox="1"/>
                <p:nvPr/>
              </p:nvSpPr>
              <p:spPr>
                <a:xfrm>
                  <a:off x="1042920" y="1484280"/>
                  <a:ext cx="2160720" cy="84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8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</m:sSub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8"/>
                <p:cNvSpPr txBox="1"/>
                <p:nvPr/>
              </p:nvSpPr>
              <p:spPr>
                <a:xfrm>
                  <a:off x="2916000" y="1484280"/>
                  <a:ext cx="1297080" cy="901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7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+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9"/>
                <p:cNvSpPr txBox="1"/>
                <p:nvPr/>
              </p:nvSpPr>
              <p:spPr>
                <a:xfrm>
                  <a:off x="4284720" y="1484280"/>
                  <a:ext cx="1366560" cy="961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7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" name="Rectangle 10"/>
          <p:cNvSpPr/>
          <p:nvPr/>
        </p:nvSpPr>
        <p:spPr>
          <a:xfrm>
            <a:off x="5724360" y="1601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为什么呢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9440" y="765000"/>
            <a:ext cx="8129520" cy="27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0" y="304920"/>
            <a:ext cx="839304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4"/>
              <p:cNvSpPr txBox="1"/>
              <p:nvPr/>
            </p:nvSpPr>
            <p:spPr>
              <a:xfrm>
                <a:off x="609480" y="1832040"/>
                <a:ext cx="28288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证明</m:t>
                    </m:r>
                    <m:r>
                      <m:rPr>
                        <m:lit/>
                        <m:nor/>
                      </m:rPr>
                      <m:t xml:space="preserve">:      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5"/>
              <p:cNvSpPr txBox="1"/>
              <p:nvPr/>
            </p:nvSpPr>
            <p:spPr>
              <a:xfrm>
                <a:off x="914400" y="2517840"/>
                <a:ext cx="443556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[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6"/>
              <p:cNvSpPr txBox="1"/>
              <p:nvPr/>
            </p:nvSpPr>
            <p:spPr>
              <a:xfrm>
                <a:off x="914400" y="3889440"/>
                <a:ext cx="267984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7"/>
              <p:cNvSpPr txBox="1"/>
              <p:nvPr/>
            </p:nvSpPr>
            <p:spPr>
              <a:xfrm>
                <a:off x="3962520" y="3886200"/>
                <a:ext cx="24033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8"/>
              <p:cNvSpPr txBox="1"/>
              <p:nvPr/>
            </p:nvSpPr>
            <p:spPr>
              <a:xfrm>
                <a:off x="912960" y="5184720"/>
                <a:ext cx="22510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]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3657600" y="5334120"/>
                <a:ext cx="1220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Text Box 10"/>
          <p:cNvSpPr/>
          <p:nvPr/>
        </p:nvSpPr>
        <p:spPr>
          <a:xfrm>
            <a:off x="687960" y="685800"/>
            <a:ext cx="14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华文行楷"/>
              </a:rPr>
              <a:t>  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华文行楷"/>
              </a:rPr>
              <a:t>性质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华文行楷"/>
              </a:rPr>
              <a:t>2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6" name="Group 11"/>
          <p:cNvGrpSpPr/>
          <p:nvPr/>
        </p:nvGrpSpPr>
        <p:grpSpPr>
          <a:xfrm>
            <a:off x="380880" y="609480"/>
            <a:ext cx="6400440" cy="685800"/>
            <a:chOff x="380880" y="609480"/>
            <a:chExt cx="6400440" cy="685800"/>
          </a:xfrm>
        </p:grpSpPr>
        <mc:AlternateContent>
          <mc:Choice xmlns:a14="http://schemas.microsoft.com/office/drawing/2010/main" Requires="a14">
            <p:sp>
              <p:nvSpPr>
                <p:cNvPr id="157" name="Object 12"/>
                <p:cNvSpPr txBox="1"/>
                <p:nvPr/>
              </p:nvSpPr>
              <p:spPr>
                <a:xfrm>
                  <a:off x="2494080" y="609480"/>
                  <a:ext cx="42872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Text Box 13"/>
            <p:cNvSpPr/>
            <p:nvPr/>
          </p:nvSpPr>
          <p:spPr>
            <a:xfrm>
              <a:off x="380880" y="643320"/>
              <a:ext cx="1900800" cy="52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24000" y="2172960"/>
            <a:ext cx="8388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:1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公式特征：下标相同而上标差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两个组合数之和，等于下标比原下标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而上标与原组合数上标较大的相同的一个组合数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                                                  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Symbol"/>
                <a:ea typeface="Symbol"/>
              </a:rPr>
              <a:t>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此性质的作用：恒等变形，简化运算．在今后学习“二项式定理”时，我们会看到它的主要应用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1692360" y="549360"/>
                <a:ext cx="463212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04920" y="19000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例１　计算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533520" y="2738520"/>
          <a:ext cx="221112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738520"/>
                    <a:ext cx="22111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685800" y="4343400"/>
          <a:ext cx="2711520" cy="48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343400"/>
                    <a:ext cx="271152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066680" y="3276720"/>
                <a:ext cx="6218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sSubSup>
                      <m:e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17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1066680" y="5105520"/>
                <a:ext cx="67802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8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2" name="Picture 9" descr="4"/>
          <p:cNvPicPr/>
          <p:nvPr/>
        </p:nvPicPr>
        <p:blipFill>
          <a:blip r:embed="rId5"/>
          <a:stretch/>
        </p:blipFill>
        <p:spPr>
          <a:xfrm>
            <a:off x="152280" y="609480"/>
            <a:ext cx="33433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26:32Z</dcterms:created>
  <dc:creator/>
  <dc:description/>
  <cp:keywords/>
  <dc:language>en-US</dc:language>
  <cp:lastModifiedBy>Administrator</cp:lastModifiedBy>
  <dcterms:modified xsi:type="dcterms:W3CDTF">2021-03-15T06:28:4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