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5A30-D9DC-4999-BE0B-28C79D430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E3C8-E205-4E90-99DD-5184FEB3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85B-D621-497B-8888-7076B2B1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2955-9B58-41CB-ADC5-5B8CC55FA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F95-FF25-4807-9D3F-CA1FB669F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3341-C566-492F-91A7-398D5CD8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F15-E855-4953-ADFE-45500D25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CB2D-35B2-41B5-AB03-37509BB1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CB6-C7B3-411A-9C0E-1572FE75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4CD3-47AC-4A55-BA5E-804CB750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9E0-ECED-4081-BC69-A7C87EE8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FD1B-AA5B-4A94-89F7-B5FE3BD0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E58F-4D5D-4E93-B2C7-5C59E8A79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2362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66"/>
                </a:solidFill>
                <a:latin typeface="Arial"/>
                <a:ea typeface="隶书"/>
              </a:rPr>
              <a:t> </a:t>
            </a:r>
            <a:r>
              <a:rPr b="1" lang="en-US" sz="6600" spc="-1" strike="noStrike">
                <a:solidFill>
                  <a:srgbClr val="ff0066"/>
                </a:solidFill>
                <a:latin typeface="Arial"/>
                <a:ea typeface="隶书"/>
              </a:rPr>
              <a:t>1.2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隶书"/>
              </a:rPr>
              <a:t>集合之间的关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873000" y="2017800"/>
            <a:ext cx="704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设集合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={x|1≤x≤3}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={x|x-a≥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若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是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的真子集，求实数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的取值范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783720" y="3618000"/>
            <a:ext cx="7519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设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={1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2}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={x|x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}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，问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有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么关系？并用列举法写出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课堂练习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293760" y="914400"/>
          <a:ext cx="847872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760" y="914400"/>
                    <a:ext cx="847872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75" name="Object 3"/>
              <p:cNvSpPr txBox="1"/>
              <p:nvPr/>
            </p:nvSpPr>
            <p:spPr>
              <a:xfrm>
                <a:off x="304920" y="2155680"/>
                <a:ext cx="8305560" cy="420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</m:t>
                        </m:r>
                        <m:r>
                          <m:t xml:space="preserve">∵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4</m:t>
                            </m:r>
                          </m:e>
                        </m:d>
                        <m:r>
                          <m:t xml:space="preserve">，</m:t>
                        </m:r>
                        <m:r>
                          <m:t xml:space="preserve">B</m:t>
                        </m:r>
                        <m:r>
                          <m:t xml:space="preserve">⊆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，于是可分类处理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当A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时，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，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-4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由此知：</m:t>
                        </m:r>
                        <m:r>
                          <m:t xml:space="preserve">0</m:t>
                        </m:r>
                        <m:r>
                          <m:t xml:space="preserve">，</m:t>
                        </m:r>
                        <m:r>
                          <m:rPr>
                            <m:lit/>
                            <m:nor/>
                          </m:rPr>
                          <m:t xml:space="preserve">-4</m:t>
                        </m:r>
                        <m:r>
                          <m:rPr>
                            <m:lit/>
                            <m:nor/>
                          </m:rPr>
                          <m:t xml:space="preserve">是方程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的两根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由韦达定理得</m:t>
                        </m:r>
                      </m:e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2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解得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152280" y="685800"/>
                <a:ext cx="8839440" cy="36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当B</m:t>
                        </m:r>
                        <m:r>
                          <m:t xml:space="preserve">⊂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时，又可分为：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</m:t>
                        </m:r>
                        <m:r>
                          <m:t xml:space="preserve">≠</m:t>
                        </m:r>
                        <m:r>
                          <m:t xml:space="preserve">∅</m:t>
                        </m:r>
                        <m:r>
                          <m:rPr>
                            <m:lit/>
                            <m:nor/>
                          </m:rPr>
                          <m:t xml:space="preserve">时，即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，或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4</m:t>
                            </m:r>
                          </m:e>
                        </m:d>
                        <m:r>
                          <m:t xml:space="preserve">，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解得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满足条件；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∅</m:t>
                        </m:r>
                        <m:r>
                          <m:rPr>
                            <m:lit/>
                            <m:nor/>
                          </m:rPr>
                          <m:t xml:space="preserve">时，</m:t>
                        </m:r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解得</m:t>
                        </m:r>
                        <m:r>
                          <m:t xml:space="preserve">a</m:t>
                        </m:r>
                        <m:r>
                          <m:t xml:space="preserve">&lt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综合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、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知，所求实数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值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或a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子集、真子集的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合之间的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空集是任何集合的子集，是任何非空集合的真子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3471840"/>
            <a:ext cx="801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后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,7,8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152280" y="21337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实数集合中，任意两个实数间有相等关系、大小关系等等。类比实数之间的关系，集合之间会有什么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6019920" y="1052640"/>
            <a:ext cx="1981080" cy="914400"/>
          </a:xfrm>
          <a:prstGeom prst="wedgeEllipseCallout">
            <a:avLst>
              <a:gd name="adj1" fmla="val -46634"/>
              <a:gd name="adj2" fmla="val 69967"/>
            </a:avLst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52280" y="685800"/>
            <a:ext cx="8839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333399"/>
                </a:solidFill>
                <a:latin typeface="Arial"/>
              </a:rPr>
              <a:t>观察下面几个例子，你能发现两个集合之间的关系吗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228600" y="2133720"/>
            <a:ext cx="891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={1,2,3} , B={-1,0,1,2,3,4,}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228600" y="2971800"/>
            <a:ext cx="861048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为某幼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）班女生的全体组成的集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为这个班学生的全体组成的集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04920" y="4343400"/>
            <a:ext cx="8534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⑶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{x|x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是中国的四大发明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={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指南针，造纸，火药，活字印刷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}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．子集的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52280" y="1600200"/>
            <a:ext cx="8763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一般地，对于两个集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， 如果集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"/>
              </a:rPr>
              <a:t>任意一个元素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都是集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中的元素，我们就说这两个集合有包含关系，称集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为集合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3000" spc="-1" strike="noStrike">
                <a:solidFill>
                  <a:srgbClr val="009999"/>
                </a:solidFill>
                <a:latin typeface="Arial"/>
              </a:rPr>
              <a:t>子集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990720" y="3048120"/>
                <a:ext cx="6248160" cy="11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记作</m:t>
                        </m:r>
                        <m:r>
                          <m:rPr>
                            <m:lit/>
                            <m:nor/>
                          </m:rPr>
                          <m:t xml:space="preserve">          A</m:t>
                        </m:r>
                        <m:r>
                          <m:t xml:space="preserve">⊆</m:t>
                        </m:r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  <m:r>
                          <m:t xml:space="preserve">(</m:t>
                        </m:r>
                        <m:r>
                          <m:t xml:space="preserve">或B</m:t>
                        </m:r>
                        <m:r>
                          <m:t xml:space="preserve">⊇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读作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“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含于</m:t>
                        </m:r>
                        <m:r>
                          <m:t xml:space="preserve">B</m:t>
                        </m:r>
                        <m:r>
                          <m:t xml:space="preserve">”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或“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包含</m:t>
                        </m:r>
                        <m:r>
                          <m:t xml:space="preserve">A</m:t>
                        </m:r>
                        <m:r>
                          <m:t xml:space="preserve">”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Oval 5"/>
          <p:cNvSpPr/>
          <p:nvPr/>
        </p:nvSpPr>
        <p:spPr>
          <a:xfrm>
            <a:off x="2590920" y="4343400"/>
            <a:ext cx="3504960" cy="190512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3962520" y="4952880"/>
            <a:ext cx="1447560" cy="914400"/>
          </a:xfrm>
          <a:prstGeom prst="ellipse">
            <a:avLst/>
          </a:prstGeom>
          <a:solidFill>
            <a:srgbClr val="80808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集合相等与真子集的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152280" y="1503360"/>
                <a:ext cx="8656920" cy="23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　　如果集合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是集合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的子集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⊆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，且集合</m:t>
                        </m:r>
                        <m:r>
                          <m:t xml:space="preserve">B是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集合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子集（</m:t>
                        </m:r>
                        <m:r>
                          <m:t xml:space="preserve">B</m:t>
                        </m:r>
                        <m:r>
                          <m:t xml:space="preserve">⊆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），此时，集合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与集合</m:t>
                        </m:r>
                        <m:r>
                          <m:t xml:space="preserve">B中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的元素是一样，因此，集合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与集合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相等</m:t>
                        </m:r>
                        <m:r>
                          <m:t xml:space="preserve">，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　　　　记作　　　</m:t>
                        </m:r>
                        <m:r>
                          <m:t xml:space="preserve">A</m:t>
                        </m:r>
                        <m:r>
                          <m:t xml:space="preserve">＝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76320" y="3951360"/>
                <a:ext cx="8915400" cy="17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rPr>
                            <m:lit/>
                            <m:nor/>
                          </m:rPr>
                          <m:t xml:space="preserve">如果集合</m:t>
                        </m:r>
                        <m:r>
                          <m:t xml:space="preserve">A</m:t>
                        </m:r>
                        <m:r>
                          <m:t xml:space="preserve">⊆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，但存在元素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，且</m:t>
                        </m:r>
                        <m:r>
                          <m:t xml:space="preserve">x</m:t>
                        </m:r>
                        <m:r>
                          <m:t xml:space="preserve">∉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，我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们称集合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是集合</m:t>
                        </m:r>
                        <m:r>
                          <m:t xml:space="preserve">B的</m:t>
                        </m:r>
                        <m:r>
                          <m:rPr>
                            <m:lit/>
                            <m:nor/>
                          </m:rPr>
                          <m:t xml:space="preserve">真子集</m:t>
                        </m:r>
                        <m:r>
                          <m:rPr>
                            <m:lit/>
                            <m:nor/>
                          </m:rPr>
                          <m:t xml:space="preserve">，记作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A</m:t>
                        </m:r>
                        <m:r>
                          <m:t xml:space="preserve">⊂</m:t>
                        </m:r>
                        <m:r>
                          <m:rPr>
                            <m:lit/>
                            <m:nor/>
                          </m:rPr>
                          <m:t xml:space="preserve">B </m:t>
                        </m:r>
                        <m:r>
                          <m:t xml:space="preserve">(</m:t>
                        </m:r>
                        <m:r>
                          <m:t xml:space="preserve">或B</m:t>
                        </m:r>
                        <m:r>
                          <m:t xml:space="preserve">⊃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空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365040" y="1851120"/>
            <a:ext cx="8474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4"/>
              <p:cNvSpPr txBox="1"/>
              <p:nvPr/>
            </p:nvSpPr>
            <p:spPr>
              <a:xfrm>
                <a:off x="0" y="2959200"/>
                <a:ext cx="891540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　我们把不含任何元素的集合叫做</m:t>
                        </m:r>
                        <m:r>
                          <m:rPr>
                            <m:lit/>
                            <m:nor/>
                          </m:rPr>
                          <m:t xml:space="preserve">空集</m:t>
                        </m:r>
                        <m:r>
                          <m:rPr>
                            <m:lit/>
                            <m:nor/>
                          </m:rPr>
                          <m:t xml:space="preserve">，记为</m:t>
                        </m:r>
                        <m:r>
                          <m:t xml:space="preserve">∅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并规定：</m:t>
                        </m:r>
                        <m:r>
                          <m:rPr>
                            <m:lit/>
                            <m:nor/>
                          </m:rPr>
                          <m:t xml:space="preserve">空集是任何集合的子集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76320" y="1600200"/>
                <a:ext cx="861516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　我们知道，方程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没有实数根，所以，方程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的实数组成的集合没有元素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" name="Text Box 6"/>
          <p:cNvSpPr/>
          <p:nvPr/>
        </p:nvSpPr>
        <p:spPr>
          <a:xfrm>
            <a:off x="1676520" y="4191120"/>
            <a:ext cx="632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空集是任何非空集合的真子集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380880" y="1905120"/>
                <a:ext cx="8325000" cy="22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（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）任何一个集合是它本身的子集，即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　　　　　　</m:t>
                        </m:r>
                        <m:r>
                          <m:t xml:space="preserve">A</m:t>
                        </m:r>
                        <m:r>
                          <m:t xml:space="preserve">⊆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（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）对于集合</m:t>
                        </m:r>
                        <m:r>
                          <m:t xml:space="preserve">A</m:t>
                        </m:r>
                        <m:r>
                          <m:t xml:space="preserve">、</m:t>
                        </m:r>
                        <m:r>
                          <m:t xml:space="preserve">B</m:t>
                        </m:r>
                        <m:r>
                          <m:t xml:space="preserve">、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，如果</m:t>
                        </m:r>
                        <m:r>
                          <m:t xml:space="preserve">A</m:t>
                        </m:r>
                        <m:r>
                          <m:t xml:space="preserve">⊆</m:t>
                        </m:r>
                        <m:r>
                          <m:t xml:space="preserve">B</m:t>
                        </m:r>
                        <m:r>
                          <m:t xml:space="preserve">，</m:t>
                        </m:r>
                        <m:r>
                          <m:t xml:space="preserve">B</m:t>
                        </m:r>
                        <m:r>
                          <m:t xml:space="preserve">⊆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，那么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⊆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200160" y="4632480"/>
                <a:ext cx="8667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　例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、写出集合｛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｝的所有子集，并指出哪些是它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的真子集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集合之间的基本关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反馈演练</a:t>
            </a:r>
            <a:br>
              <a:rPr sz="3500"/>
            </a:b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457200" y="1523880"/>
                <a:ext cx="8039160" cy="20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、下列命题：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空集没有子集；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任何集合至少有两个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子休；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空集是任何集合的真子集；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若</m:t>
                        </m:r>
                        <m:r>
                          <m:t xml:space="preserve">∅</m:t>
                        </m:r>
                        <m:r>
                          <m:t xml:space="preserve">⊂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，则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∅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其中正确的有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个</m:t>
                        </m:r>
                        <m:r>
                          <m:rPr>
                            <m:lit/>
                            <m:nor/>
                          </m:rPr>
                          <m:t xml:space="preserve">      B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个</m:t>
                        </m:r>
                        <m:r>
                          <m:rPr>
                            <m:lit/>
                            <m:nor/>
                          </m:rPr>
                          <m:t xml:space="preserve">   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个</m:t>
                        </m:r>
                        <m:r>
                          <m:rPr>
                            <m:lit/>
                            <m:nor/>
                          </m:rPr>
                          <m:t xml:space="preserve">      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t xml:space="preserve">个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457200" y="3727440"/>
                <a:ext cx="83818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设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，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-3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-2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,B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,y</m:t>
                            </m:r>
                            <m:r>
                              <m:t xml:space="preserve">)</m:t>
                            </m:r>
                            <m:r>
                              <m:t xml:space="preserve">|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y-3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x-2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,</m:t>
                        </m:r>
                      </m:e>
                      <m:e>
                        <m:r>
                          <m:t xml:space="preserve">则A</m:t>
                        </m:r>
                        <m:r>
                          <m:t xml:space="preserve">，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的关系是</m:t>
                        </m:r>
                        <m:r>
                          <m:rPr>
                            <m:lit/>
                            <m:nor/>
                          </m:rPr>
                          <m:t xml:space="preserve">______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380880" y="2157480"/>
                <a:ext cx="8534520" cy="37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∵</m:t>
                        </m:r>
                        <m:r>
                          <m:t xml:space="preserve">∅</m:t>
                        </m:r>
                        <m:r>
                          <m:t xml:space="preserve">⊆</m:t>
                        </m:r>
                        <m:r>
                          <m:t xml:space="preserve">A</m:t>
                        </m:r>
                        <m:r>
                          <m:t xml:space="preserve">，</m:t>
                        </m:r>
                        <m:r>
                          <m:t xml:space="preserve">∴</m:t>
                        </m:r>
                        <m:r>
                          <m:t xml:space="preserve">当B</m:t>
                        </m:r>
                        <m:r>
                          <m:t xml:space="preserve">=</m:t>
                        </m:r>
                        <m:r>
                          <m:t xml:space="preserve">∅</m:t>
                        </m:r>
                        <m:r>
                          <m:rPr>
                            <m:lit/>
                            <m:nor/>
                          </m:rPr>
                          <m:t xml:space="preserve">，有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&gt;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即a</m:t>
                        </m:r>
                        <m:r>
                          <m:t xml:space="preserve">&lt;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当B</m:t>
                        </m:r>
                        <m:r>
                          <m:t xml:space="preserve">≠</m:t>
                        </m:r>
                        <m:r>
                          <m:t xml:space="preserve">∅</m:t>
                        </m:r>
                        <m:r>
                          <m:rPr>
                            <m:lit/>
                            <m:nor/>
                          </m:rPr>
                          <m:t xml:space="preserve">时，有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≥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a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≥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t xml:space="preserve">a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∴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综上所述，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的取值范围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8" name="Object 3"/>
          <p:cNvGraphicFramePr/>
          <p:nvPr/>
        </p:nvGraphicFramePr>
        <p:xfrm>
          <a:off x="262080" y="728640"/>
          <a:ext cx="854208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728640"/>
                    <a:ext cx="8542080" cy="12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8-19T07:51:4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