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8D6E-2781-450F-B8E0-AD8E7991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AEB-FD3C-4850-A034-290F1A97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0511-F53D-4FCB-8046-4CBBACD55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E61-26A7-40FC-8A76-271025315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F5B2-03DD-4490-8A0F-B851D1FA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41EB-7CCB-49CF-BE39-74D121C9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5FBD-1EB9-4D75-9397-3D1474B3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2739-E89C-4211-BE36-3B9C1BDD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A7FF-4CF9-457C-A0F2-7A4AC74B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949C6-7C1F-4456-BAD8-98D9600E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CB5E-2A51-4595-901B-4A0C62FE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F331-3F19-4150-AA31-BB873004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4120-E58C-4091-89CA-A2E4F4E0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9A5BE-3C01-4ED8-90DB-9180B14F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6694-7A62-413E-A0C8-396454ED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5094-75F1-4650-8ABE-CA446EB8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F781-27E2-4A3B-9210-CEC2D7F0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1311-0F91-47BC-B8DC-836924C6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A8B6-4229-4B83-ABCB-BB3871CA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4DD-AE1F-48AE-AE52-8842524F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F7FB-3A84-4FEA-99F4-48665C56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A3CB-66E9-4ACF-A7C1-DB66367C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FF49-920B-4310-91B2-60D93207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8DD2-47F3-4E8C-A6E6-9540BBE0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242B-65A8-46CA-96CD-6ED866D4E9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C0AE-8C4C-4840-90B3-747EF32EB4F6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16002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 </a:t>
            </a:r>
            <a:r>
              <a:rPr b="1" lang="zh-CN" sz="8000" spc="-1" strike="noStrike">
                <a:solidFill>
                  <a:srgbClr val="0066ff"/>
                </a:solidFill>
                <a:latin typeface="宋体"/>
              </a:rPr>
              <a:t>组  合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143000" y="34290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苏州幼儿师范高等专科学校理科教研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219320" y="2514600"/>
            <a:ext cx="2209680" cy="5205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布置作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6094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895480" y="152280"/>
            <a:ext cx="2514600" cy="6426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复习巩固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228600" y="687240"/>
            <a:ext cx="8220240" cy="1541880"/>
            <a:chOff x="228600" y="687240"/>
            <a:chExt cx="8220240" cy="1541880"/>
          </a:xfrm>
        </p:grpSpPr>
        <p:sp>
          <p:nvSpPr>
            <p:cNvPr id="89" name="Rectangle 7"/>
            <p:cNvSpPr/>
            <p:nvPr/>
          </p:nvSpPr>
          <p:spPr>
            <a:xfrm>
              <a:off x="228600" y="687240"/>
              <a:ext cx="32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</a:t>
              </a: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、组合定义</a:t>
              </a: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: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0" name="Text Box 8"/>
            <p:cNvSpPr/>
            <p:nvPr/>
          </p:nvSpPr>
          <p:spPr>
            <a:xfrm>
              <a:off x="457200" y="1220760"/>
              <a:ext cx="7991640" cy="1008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  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</a:rPr>
                <a:t>一般地，从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</a:rPr>
                <a:t>个不同元素中取出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</a:rPr>
                <a:t>（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≤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</a:rPr>
                <a:t>）个元素</a:t>
              </a:r>
              <a:r>
                <a:rPr b="1" lang="zh-CN" sz="2400" spc="-1" strike="noStrike">
                  <a:solidFill>
                    <a:srgbClr val="ff3300"/>
                  </a:solidFill>
                  <a:latin typeface="隶书"/>
                </a:rPr>
                <a:t>并成一组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</a:rPr>
                <a:t>，叫做从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n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</a:rPr>
                <a:t>个不同元素中取出</a:t>
              </a:r>
              <a:r>
                <a:rPr b="1" i="1" lang="zh-CN" sz="2400" spc="-1" strike="noStrike">
                  <a:solidFill>
                    <a:srgbClr val="007a77"/>
                  </a:solidFill>
                  <a:latin typeface="Times New Roman"/>
                </a:rPr>
                <a:t>m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</a:rPr>
                <a:t>个元素的一个</a:t>
              </a:r>
              <a:r>
                <a:rPr b="1" lang="zh-CN" sz="2400" spc="-1" strike="noStrike">
                  <a:solidFill>
                    <a:srgbClr val="ff3300"/>
                  </a:solidFill>
                  <a:latin typeface="隶书"/>
                </a:rPr>
                <a:t>组合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</a:rPr>
                <a:t>．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1" name="Group 9"/>
          <p:cNvGrpSpPr/>
          <p:nvPr/>
        </p:nvGrpSpPr>
        <p:grpSpPr>
          <a:xfrm>
            <a:off x="533520" y="2438280"/>
            <a:ext cx="8153280" cy="1839960"/>
            <a:chOff x="533520" y="2438280"/>
            <a:chExt cx="8153280" cy="1839960"/>
          </a:xfrm>
        </p:grpSpPr>
        <p:grpSp>
          <p:nvGrpSpPr>
            <p:cNvPr id="92" name="Group 10"/>
            <p:cNvGrpSpPr/>
            <p:nvPr/>
          </p:nvGrpSpPr>
          <p:grpSpPr>
            <a:xfrm>
              <a:off x="533520" y="2966760"/>
              <a:ext cx="8153280" cy="1311480"/>
              <a:chOff x="533520" y="2966760"/>
              <a:chExt cx="8153280" cy="1311480"/>
            </a:xfrm>
          </p:grpSpPr>
          <p:sp>
            <p:nvSpPr>
              <p:cNvPr id="93" name="Rectangle 11"/>
              <p:cNvSpPr/>
              <p:nvPr/>
            </p:nvSpPr>
            <p:spPr>
              <a:xfrm>
                <a:off x="533520" y="2966760"/>
                <a:ext cx="8153280" cy="1191240"/>
              </a:xfrm>
              <a:prstGeom prst="rect">
                <a:avLst/>
              </a:prstGeom>
              <a:solidFill>
                <a:srgbClr val="00ccff">
                  <a:alpha val="35000"/>
                </a:srgbClr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从</a:t>
                </a:r>
                <a:r>
                  <a:rPr b="1" i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n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个不同元素中取出</a:t>
                </a:r>
                <a:r>
                  <a:rPr b="1" i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m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（</a:t>
                </a:r>
                <a:r>
                  <a:rPr b="1" i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m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≤</a:t>
                </a:r>
                <a:r>
                  <a:rPr b="1" i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n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）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个元素的所有组合的个数，叫做从</a:t>
                </a:r>
                <a:r>
                  <a:rPr b="1" i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n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个不同元素中取出</a:t>
                </a:r>
                <a:r>
                  <a:rPr b="1" i="1" lang="zh-CN" sz="2400" spc="-1" strike="noStrike">
                    <a:solidFill>
                      <a:srgbClr val="007a77"/>
                    </a:solidFill>
                    <a:latin typeface="Times New Roman"/>
                  </a:rPr>
                  <a:t>m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个元素的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隶书"/>
                    <a:ea typeface="隶书"/>
                  </a:rPr>
                  <a:t>组合数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，用符号             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     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表示</a:t>
                </a:r>
                <a:r>
                  <a:rPr b="1" lang="zh-CN" sz="24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.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aphicFrame>
            <p:nvGraphicFramePr>
              <p:cNvPr id="94" name="Object 12"/>
              <p:cNvGraphicFramePr/>
              <p:nvPr/>
            </p:nvGraphicFramePr>
            <p:xfrm>
              <a:off x="762120" y="3581280"/>
              <a:ext cx="836640" cy="69696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95" name="Object 12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62120" y="3581280"/>
                        <a:ext cx="836640" cy="6969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6" name="Rectangle 13"/>
            <p:cNvSpPr/>
            <p:nvPr/>
          </p:nvSpPr>
          <p:spPr>
            <a:xfrm>
              <a:off x="671040" y="2438280"/>
              <a:ext cx="83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、组合数</a:t>
              </a: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: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97" name="Group 14"/>
          <p:cNvGrpSpPr/>
          <p:nvPr/>
        </p:nvGrpSpPr>
        <p:grpSpPr>
          <a:xfrm>
            <a:off x="380880" y="4266000"/>
            <a:ext cx="8610840" cy="2361600"/>
            <a:chOff x="380880" y="4266000"/>
            <a:chExt cx="8610840" cy="2361600"/>
          </a:xfrm>
        </p:grpSpPr>
        <p:sp>
          <p:nvSpPr>
            <p:cNvPr id="98" name="Rectangle 15"/>
            <p:cNvSpPr/>
            <p:nvPr/>
          </p:nvSpPr>
          <p:spPr>
            <a:xfrm>
              <a:off x="1006200" y="4266000"/>
              <a:ext cx="73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、组合数公式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99" name="Object 16"/>
            <p:cNvGraphicFramePr/>
            <p:nvPr/>
          </p:nvGraphicFramePr>
          <p:xfrm>
            <a:off x="380880" y="4800600"/>
            <a:ext cx="5715000" cy="10890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00" name="Object 16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380880" y="4800600"/>
                      <a:ext cx="5715000" cy="1089000"/>
                    </a:xfrm>
                    <a:prstGeom prst="rect">
                      <a:avLst/>
                    </a:prstGeom>
                    <a:ln w="9360">
                      <a:solidFill>
                        <a:srgbClr val="0000cc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1" name="Object 17"/>
            <p:cNvGraphicFramePr/>
            <p:nvPr/>
          </p:nvGraphicFramePr>
          <p:xfrm>
            <a:off x="6248520" y="4802040"/>
            <a:ext cx="2743200" cy="10908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2" name="Object 17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248520" y="4802040"/>
                      <a:ext cx="2743200" cy="1090800"/>
                    </a:xfrm>
                    <a:prstGeom prst="rect">
                      <a:avLst/>
                    </a:prstGeom>
                    <a:ln w="9360">
                      <a:solidFill>
                        <a:srgbClr val="0000cc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Object 18"/>
            <p:cNvGraphicFramePr/>
            <p:nvPr/>
          </p:nvGraphicFramePr>
          <p:xfrm>
            <a:off x="380880" y="6019560"/>
            <a:ext cx="3200400" cy="608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4" name="Object 18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380880" y="6019560"/>
                      <a:ext cx="3200400" cy="60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Object 19"/>
            <p:cNvGraphicFramePr/>
            <p:nvPr/>
          </p:nvGraphicFramePr>
          <p:xfrm>
            <a:off x="4343400" y="6019560"/>
            <a:ext cx="3048120" cy="5778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06" name="Object 19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343400" y="6019560"/>
                      <a:ext cx="3048120" cy="577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8000" y="1596960"/>
            <a:ext cx="88567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3049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例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  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平面内有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个点，其中任何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点不共线，以其中任意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个点为端点的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 线段有多少条？；（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 有向线段有多少条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80880" y="25909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解：（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所求线段的条数，即为从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个元素中任取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个元素的组合数，共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1" name="Picture 6" descr="QQ图片20140225151038"/>
          <p:cNvPicPr/>
          <p:nvPr/>
        </p:nvPicPr>
        <p:blipFill>
          <a:blip r:embed="rId1"/>
          <a:stretch/>
        </p:blipFill>
        <p:spPr>
          <a:xfrm>
            <a:off x="2743200" y="3124080"/>
            <a:ext cx="308628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685800" y="4267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所求有向线段的条数，即为从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个元素中任取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个元素的排列数，共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3" name="Picture 8" descr="QQ图片20140225151149"/>
          <p:cNvPicPr/>
          <p:nvPr/>
        </p:nvPicPr>
        <p:blipFill>
          <a:blip r:embed="rId2"/>
          <a:stretch/>
        </p:blipFill>
        <p:spPr>
          <a:xfrm>
            <a:off x="2286000" y="5105520"/>
            <a:ext cx="3124080" cy="74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4"/>
          <p:cNvPicPr/>
          <p:nvPr/>
        </p:nvPicPr>
        <p:blipFill>
          <a:blip r:embed="rId3"/>
          <a:stretch/>
        </p:blipFill>
        <p:spPr>
          <a:xfrm>
            <a:off x="76320" y="76320"/>
            <a:ext cx="33433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8000" y="1596960"/>
            <a:ext cx="88567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3520" y="12193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例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从全班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4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人中选出班委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人，共有多少种不同的选法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(2)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从全班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4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人中选出班长、副班长、学习委员、体育委员、宣传委员、生活委员、文娱委员各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人，共有多少种不同的选法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533520" y="31240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解：（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从全班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4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人中选出班委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人的所有不同选法种数，就是从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4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个不同元素中取出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个元素的的组合数，即      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990720" y="5105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0" name="Picture 7" descr="4"/>
          <p:cNvPicPr/>
          <p:nvPr/>
        </p:nvPicPr>
        <p:blipFill>
          <a:blip r:embed="rId1"/>
          <a:stretch/>
        </p:blipFill>
        <p:spPr>
          <a:xfrm>
            <a:off x="76320" y="76320"/>
            <a:ext cx="3343320" cy="11332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QQ图片20140225151607"/>
          <p:cNvPicPr/>
          <p:nvPr/>
        </p:nvPicPr>
        <p:blipFill>
          <a:blip r:embed="rId2"/>
          <a:stretch/>
        </p:blipFill>
        <p:spPr>
          <a:xfrm>
            <a:off x="2971800" y="3962520"/>
            <a:ext cx="3162240" cy="83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"/>
          <p:cNvPicPr/>
          <p:nvPr/>
        </p:nvPicPr>
        <p:blipFill>
          <a:blip r:embed="rId3"/>
          <a:stretch/>
        </p:blipFill>
        <p:spPr>
          <a:xfrm>
            <a:off x="2286000" y="5029200"/>
            <a:ext cx="64800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57200" y="6094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6" name="Picture 5" descr="4"/>
          <p:cNvPicPr/>
          <p:nvPr/>
        </p:nvPicPr>
        <p:blipFill>
          <a:blip r:embed="rId1"/>
          <a:stretch/>
        </p:blipFill>
        <p:spPr>
          <a:xfrm>
            <a:off x="152280" y="152280"/>
            <a:ext cx="3343320" cy="1133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228600" y="1447920"/>
            <a:ext cx="86868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例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：一位教练的足球队共有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名初级学员，他们中以前没有一人参加过比赛。按照足球比赛规则，比赛时一个足球队的上场队员是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人。问：                                           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这位教练从这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名学员中可以形成多少种学员上场方案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如果在选出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名上场队员时，还要确定其中的守门员，那么教练员有多少种方式做这件事情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57200" y="6094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1" name="Picture 5" descr="4"/>
          <p:cNvPicPr/>
          <p:nvPr/>
        </p:nvPicPr>
        <p:blipFill>
          <a:blip r:embed="rId1"/>
          <a:stretch/>
        </p:blipFill>
        <p:spPr>
          <a:xfrm>
            <a:off x="0" y="0"/>
            <a:ext cx="3343320" cy="1133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228600" y="1447920"/>
            <a:ext cx="868680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例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：一位教练的足球队共有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名初级学员，他们中以前没有一人参加过比赛。按照足球比赛规则，比赛时一个足球队的上场队员是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人。问：                                           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这位教练从这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7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名学员中可以形成多少种学员上场方案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如果在选出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名上场队员时，还要确定其中的守门员，那么教练员有多少种方式做这件事情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8000" y="1598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04920" y="614520"/>
            <a:ext cx="8496360" cy="30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例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：在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件产品中有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98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件合格品，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件次品。产品检验时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从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00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件产品中任意抽出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(1)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一共有多少种不同的抽法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抽出的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件中恰好有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件是次品的抽法有多少种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(3)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抽出的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件中至少有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件是次品的抽法有多少种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7a77"/>
                </a:solidFill>
                <a:latin typeface="Arial"/>
              </a:rPr>
              <a:t>(4)</a:t>
            </a:r>
            <a:r>
              <a:rPr b="0" lang="zh-CN" sz="2600" spc="-1" strike="noStrike">
                <a:solidFill>
                  <a:srgbClr val="007a77"/>
                </a:solidFill>
                <a:latin typeface="Arial"/>
              </a:rPr>
              <a:t>抽出的</a:t>
            </a:r>
            <a:r>
              <a:rPr b="0" lang="zh-CN" sz="2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600" spc="-1" strike="noStrike">
                <a:solidFill>
                  <a:srgbClr val="007a77"/>
                </a:solidFill>
                <a:latin typeface="Arial"/>
              </a:rPr>
              <a:t>件中至多有一件是次品的抽法有多少种？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04920" y="4267080"/>
            <a:ext cx="853416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说明：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“至少”“至多”的问题，通常用分类法或间接法求解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4920" y="457200"/>
            <a:ext cx="2057400" cy="5814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变式练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28600" y="990720"/>
            <a:ext cx="8686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按下列条件，从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2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人中选出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人，有多少种不同选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甲、乙、丙三人必须当选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甲、乙、丙三人不能当选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甲必须当选，乙、丙不能当选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甲、乙、丙三人只有一人当选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甲、乙、丙三人至多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人当选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）甲、乙、丙三人至少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人当选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41" name="Object 6"/>
          <p:cNvGraphicFramePr/>
          <p:nvPr/>
        </p:nvGraphicFramePr>
        <p:xfrm>
          <a:off x="6172200" y="2362320"/>
          <a:ext cx="160020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362320"/>
                    <a:ext cx="1600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7"/>
          <p:cNvGraphicFramePr/>
          <p:nvPr/>
        </p:nvGraphicFramePr>
        <p:xfrm>
          <a:off x="6172200" y="2819520"/>
          <a:ext cx="175248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819520"/>
                    <a:ext cx="17524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8"/>
          <p:cNvGraphicFramePr/>
          <p:nvPr/>
        </p:nvGraphicFramePr>
        <p:xfrm>
          <a:off x="685800" y="4114800"/>
          <a:ext cx="6477120" cy="63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114800"/>
                    <a:ext cx="64771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9"/>
          <p:cNvGraphicFramePr/>
          <p:nvPr/>
        </p:nvGraphicFramePr>
        <p:xfrm>
          <a:off x="1143000" y="4648320"/>
          <a:ext cx="4876920" cy="698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648320"/>
                    <a:ext cx="487692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0"/>
          <p:cNvGraphicFramePr/>
          <p:nvPr/>
        </p:nvGraphicFramePr>
        <p:xfrm>
          <a:off x="762120" y="5334120"/>
          <a:ext cx="6781680" cy="66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5334120"/>
                    <a:ext cx="6781680" cy="6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11"/>
          <p:cNvGraphicFramePr/>
          <p:nvPr/>
        </p:nvGraphicFramePr>
        <p:xfrm>
          <a:off x="1295280" y="5943600"/>
          <a:ext cx="4800600" cy="685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95280" y="5943600"/>
                    <a:ext cx="4800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219320" y="2438280"/>
            <a:ext cx="693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结合本节课所学知识，设计一个幼儿园活动“握手游戏”，并思考：若每两个小朋友都要握一次手，则全班共要握多少次手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304920" y="144792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知识与实践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2:26:32Z</dcterms:created>
  <dc:creator/>
  <dc:description/>
  <cp:keywords/>
  <dc:language>en-US</dc:language>
  <cp:lastModifiedBy>Administrator</cp:lastModifiedBy>
  <dcterms:modified xsi:type="dcterms:W3CDTF">2021-03-15T06:28:0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