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D1E2-EE35-4650-9018-BB0D35D018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93BE-E989-438A-B091-C21C58F2C4FE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6DC2-6CEE-42BB-9AE0-D3E326AC5C98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2960" y="8685360"/>
            <a:ext cx="297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CF73-D401-4BE9-8AE8-EAF581B8812B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993D-8FF5-4653-BB25-ED8AD4CC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F54D-7824-4525-A46A-03D16B51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3EE-F11A-4EED-9D77-1DF59A8D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CF3-EE51-44B5-8B41-89BEEB16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5AC1-3707-485A-8D6E-6E527712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5595-8455-4C8F-9506-380804C3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3E2-6FC6-48BA-A449-C190DC35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2F75-FCD3-4E6B-A6F4-8C649698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865-7524-4C07-ADB9-7CF55EBC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5A4-0112-4B65-9EFF-F6441047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ACE-310C-45E0-ABD3-2479954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8E80-F8D9-424B-9077-F4332BE9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4CF0-A352-4634-8C28-00F50C428D14}" type="datetime">
              <a:rPr b="0" lang="zh-CN" sz="1400" spc="-1" strike="noStrike">
                <a:solidFill>
                  <a:srgbClr val="007a77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557F-4F89-47E3-98CF-B277CFA5F7C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09480" y="1676520"/>
            <a:ext cx="762012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宋体"/>
              </a:rPr>
              <a:t>随机事件的概率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258920" y="3716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3"/>
          <p:cNvSpPr txBox="1"/>
          <p:nvPr/>
        </p:nvSpPr>
        <p:spPr>
          <a:xfrm>
            <a:off x="108000" y="26028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活动：投掷硬币试验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87280" y="2637000"/>
            <a:ext cx="6769440" cy="19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81f"/>
                </a:solidFill>
                <a:latin typeface="幼圆"/>
                <a:ea typeface="幼圆"/>
              </a:rPr>
              <a:t>抛硬币的规则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硬币统一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(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元硬币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规定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幼圆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的一面为正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1044720" y="4437000"/>
            <a:ext cx="7346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）离桌面高度大约为一尺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垂直下抛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6720" y="1197000"/>
            <a:ext cx="820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幼圆"/>
              </a:rPr>
              <a:t>我们来做抛掷硬币的试验观察落地时哪一个面朝上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2A29-81F9-4A10-AB1A-3A95BD6A9D8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24000" y="476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步：两人一组，取一枚硬币，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次掷硬币的试验，记录下试验结果，填在表格中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1413000"/>
          <a:ext cx="8642160" cy="1036440"/>
        </p:xfrm>
        <a:graphic>
          <a:graphicData uri="http://schemas.openxmlformats.org/drawingml/2006/table">
            <a:tbl>
              <a:tblPr/>
              <a:tblGrid>
                <a:gridCol w="1008000"/>
                <a:gridCol w="2017800"/>
                <a:gridCol w="2735280"/>
                <a:gridCol w="28810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组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试验总次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面朝上的次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面朝上的比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0"/>
          <p:cNvSpPr/>
          <p:nvPr/>
        </p:nvSpPr>
        <p:spPr>
          <a:xfrm>
            <a:off x="324000" y="2565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第二步：每大组统计本组试验结果，填入下表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38"/>
          <p:cNvSpPr/>
          <p:nvPr/>
        </p:nvSpPr>
        <p:spPr>
          <a:xfrm>
            <a:off x="324000" y="4365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第三步：统计全班同学的试验结果， 填入下表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B800-7743-4D4C-929B-60D403545EA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50920" y="3141720"/>
          <a:ext cx="8785080" cy="1036440"/>
        </p:xfrm>
        <a:graphic>
          <a:graphicData uri="http://schemas.openxmlformats.org/drawingml/2006/table">
            <a:tbl>
              <a:tblPr/>
              <a:tblGrid>
                <a:gridCol w="1008000"/>
                <a:gridCol w="2017800"/>
                <a:gridCol w="2735280"/>
                <a:gridCol w="3024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组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试验总次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面朝上总次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面朝上的比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24000" y="5013360"/>
          <a:ext cx="8642160" cy="1036440"/>
        </p:xfrm>
        <a:graphic>
          <a:graphicData uri="http://schemas.openxmlformats.org/drawingml/2006/table">
            <a:tbl>
              <a:tblPr/>
              <a:tblGrid>
                <a:gridCol w="1008000"/>
                <a:gridCol w="2017800"/>
                <a:gridCol w="2734920"/>
                <a:gridCol w="288144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班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试验总次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面朝上总次数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正面朝上的比例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675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a77"/>
                </a:solidFill>
                <a:latin typeface="Arial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比较你小组的“正面向上”次数与其他小组的相同吗？为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比较你小组的“正面向上”比例与大组的，与班级的相同吗？为什么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250920" y="620640"/>
            <a:ext cx="21589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问题：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586E-0585-44EF-A14C-8F4493A76944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468360" y="14842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黑体"/>
                <a:ea typeface="黑体"/>
              </a:rPr>
              <a:t>频率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相同条件下，进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试验，其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中，事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生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次，那么比值   称为事件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发生的频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622080" y="549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频率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68360" y="443700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频率的范围：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[0,1]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5940360" y="2060640"/>
          <a:ext cx="5587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060640"/>
                    <a:ext cx="558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6EB1-327F-4C32-AA3E-D36530C3102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0"/>
            <a:ext cx="81532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7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历史上曾有人做过抛掷硬币的大量重复试验，结果如下表 ：</a:t>
            </a:r>
            <a:endParaRPr b="0" lang="en-US" sz="27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63640" y="907920"/>
          <a:ext cx="6089760" cy="4272120"/>
        </p:xfrm>
        <a:graphic>
          <a:graphicData uri="http://schemas.openxmlformats.org/drawingml/2006/table">
            <a:tbl>
              <a:tblPr/>
              <a:tblGrid>
                <a:gridCol w="2001960"/>
                <a:gridCol w="2055600"/>
                <a:gridCol w="2032200"/>
              </a:tblGrid>
              <a:tr h="100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抛掷次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面向上次数（频数</a:t>
                      </a:r>
                      <a:r>
                        <a:rPr b="1" i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频率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     )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518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4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506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1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501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1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500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8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4996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8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12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.501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Object 37"/>
          <p:cNvGraphicFramePr/>
          <p:nvPr/>
        </p:nvGraphicFramePr>
        <p:xfrm>
          <a:off x="6948360" y="1052640"/>
          <a:ext cx="36828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48360" y="1052640"/>
                    <a:ext cx="36828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38"/>
          <p:cNvSpPr/>
          <p:nvPr/>
        </p:nvSpPr>
        <p:spPr>
          <a:xfrm>
            <a:off x="395280" y="53737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观察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着抛掷次数的增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面向上”的频率的变化趋势有何规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28E7-74BD-4C12-A8A4-7CA417D45050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87840" y="2997360"/>
            <a:ext cx="8866080" cy="3312720"/>
            <a:chOff x="87840" y="2997360"/>
            <a:chExt cx="8866080" cy="3312720"/>
          </a:xfrm>
        </p:grpSpPr>
        <p:sp>
          <p:nvSpPr>
            <p:cNvPr id="131" name="Line 3"/>
            <p:cNvSpPr/>
            <p:nvPr/>
          </p:nvSpPr>
          <p:spPr>
            <a:xfrm>
              <a:off x="1006560" y="5805360"/>
              <a:ext cx="698508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Line 4"/>
            <p:cNvSpPr/>
            <p:nvPr/>
          </p:nvSpPr>
          <p:spPr>
            <a:xfrm flipV="1">
              <a:off x="1008000" y="3428280"/>
              <a:ext cx="0" cy="2376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Line 5"/>
            <p:cNvSpPr/>
            <p:nvPr/>
          </p:nvSpPr>
          <p:spPr>
            <a:xfrm>
              <a:off x="1008000" y="3860640"/>
              <a:ext cx="716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4" name="Line 6"/>
            <p:cNvSpPr/>
            <p:nvPr/>
          </p:nvSpPr>
          <p:spPr>
            <a:xfrm>
              <a:off x="1008000" y="4797360"/>
              <a:ext cx="7164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Line 7"/>
            <p:cNvSpPr/>
            <p:nvPr/>
          </p:nvSpPr>
          <p:spPr>
            <a:xfrm>
              <a:off x="1655640" y="5732280"/>
              <a:ext cx="0" cy="727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Line 8"/>
            <p:cNvSpPr/>
            <p:nvPr/>
          </p:nvSpPr>
          <p:spPr>
            <a:xfrm>
              <a:off x="2374920" y="5732280"/>
              <a:ext cx="0" cy="727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Line 9"/>
            <p:cNvSpPr/>
            <p:nvPr/>
          </p:nvSpPr>
          <p:spPr>
            <a:xfrm>
              <a:off x="3456000" y="5732280"/>
              <a:ext cx="0" cy="727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5183280" y="5732280"/>
              <a:ext cx="0" cy="727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Line 11"/>
            <p:cNvSpPr/>
            <p:nvPr/>
          </p:nvSpPr>
          <p:spPr>
            <a:xfrm>
              <a:off x="5975280" y="5732280"/>
              <a:ext cx="0" cy="7272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0" name="Line 12"/>
            <p:cNvSpPr/>
            <p:nvPr/>
          </p:nvSpPr>
          <p:spPr>
            <a:xfrm>
              <a:off x="7704000" y="5732280"/>
              <a:ext cx="0" cy="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1" name="Line 13"/>
            <p:cNvSpPr/>
            <p:nvPr/>
          </p:nvSpPr>
          <p:spPr>
            <a:xfrm>
              <a:off x="7632720" y="5733720"/>
              <a:ext cx="0" cy="71280"/>
            </a:xfrm>
            <a:prstGeom prst="line">
              <a:avLst/>
            </a:prstGeom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2" name="Text Box 14"/>
            <p:cNvSpPr/>
            <p:nvPr/>
          </p:nvSpPr>
          <p:spPr>
            <a:xfrm>
              <a:off x="7782840" y="5300640"/>
              <a:ext cx="117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抛掷次数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3" name="Text Box 15"/>
            <p:cNvSpPr/>
            <p:nvPr/>
          </p:nvSpPr>
          <p:spPr>
            <a:xfrm>
              <a:off x="87840" y="299736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频率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m/n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557280" y="460044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0.5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5" name="Text Box 17"/>
            <p:cNvSpPr/>
            <p:nvPr/>
          </p:nvSpPr>
          <p:spPr>
            <a:xfrm>
              <a:off x="721080" y="3663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6" name="Text Box 18"/>
            <p:cNvSpPr/>
            <p:nvPr/>
          </p:nvSpPr>
          <p:spPr>
            <a:xfrm>
              <a:off x="1226880" y="58957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2048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7" name="Text Box 19"/>
            <p:cNvSpPr/>
            <p:nvPr/>
          </p:nvSpPr>
          <p:spPr>
            <a:xfrm>
              <a:off x="2090160" y="58957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404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8" name="Text Box 20"/>
            <p:cNvSpPr/>
            <p:nvPr/>
          </p:nvSpPr>
          <p:spPr>
            <a:xfrm>
              <a:off x="3150720" y="589572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1200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49" name="Text Box 21"/>
            <p:cNvSpPr/>
            <p:nvPr/>
          </p:nvSpPr>
          <p:spPr>
            <a:xfrm>
              <a:off x="4646160" y="59418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2400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0" name="Text Box 22"/>
            <p:cNvSpPr/>
            <p:nvPr/>
          </p:nvSpPr>
          <p:spPr>
            <a:xfrm>
              <a:off x="5619600" y="59418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3000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1" name="Text Box 23"/>
            <p:cNvSpPr/>
            <p:nvPr/>
          </p:nvSpPr>
          <p:spPr>
            <a:xfrm>
              <a:off x="7183080" y="5941800"/>
              <a:ext cx="81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7a77"/>
                  </a:solidFill>
                  <a:latin typeface="Arial"/>
                </a:rPr>
                <a:t>72088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>
              <a:off x="1079640" y="4797360"/>
              <a:ext cx="684036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53" name="Group 25"/>
          <p:cNvGrpSpPr/>
          <p:nvPr/>
        </p:nvGrpSpPr>
        <p:grpSpPr>
          <a:xfrm>
            <a:off x="1547640" y="4556160"/>
            <a:ext cx="6119640" cy="358920"/>
            <a:chOff x="1547640" y="4556160"/>
            <a:chExt cx="6119640" cy="358920"/>
          </a:xfrm>
        </p:grpSpPr>
        <p:sp>
          <p:nvSpPr>
            <p:cNvPr id="154" name="Oval 26"/>
            <p:cNvSpPr/>
            <p:nvPr/>
          </p:nvSpPr>
          <p:spPr>
            <a:xfrm>
              <a:off x="1547640" y="4556160"/>
              <a:ext cx="71280" cy="7128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5" name="Oval 27"/>
            <p:cNvSpPr/>
            <p:nvPr/>
          </p:nvSpPr>
          <p:spPr>
            <a:xfrm>
              <a:off x="2338200" y="4843440"/>
              <a:ext cx="71280" cy="7164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6" name="Oval 28"/>
            <p:cNvSpPr/>
            <p:nvPr/>
          </p:nvSpPr>
          <p:spPr>
            <a:xfrm>
              <a:off x="3419280" y="4627440"/>
              <a:ext cx="71640" cy="7164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7" name="Oval 29"/>
            <p:cNvSpPr/>
            <p:nvPr/>
          </p:nvSpPr>
          <p:spPr>
            <a:xfrm>
              <a:off x="5146560" y="4627440"/>
              <a:ext cx="71280" cy="7164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8" name="Oval 30"/>
            <p:cNvSpPr/>
            <p:nvPr/>
          </p:nvSpPr>
          <p:spPr>
            <a:xfrm>
              <a:off x="5938560" y="4772160"/>
              <a:ext cx="71640" cy="7128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Oval 31"/>
            <p:cNvSpPr/>
            <p:nvPr/>
          </p:nvSpPr>
          <p:spPr>
            <a:xfrm>
              <a:off x="7596000" y="4627440"/>
              <a:ext cx="71280" cy="71640"/>
            </a:xfrm>
            <a:prstGeom prst="ellipse">
              <a:avLst/>
            </a:prstGeom>
            <a:solidFill>
              <a:srgbClr val="ebf7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0" name="Line 32"/>
            <p:cNvSpPr/>
            <p:nvPr/>
          </p:nvSpPr>
          <p:spPr>
            <a:xfrm>
              <a:off x="1618920" y="4627440"/>
              <a:ext cx="720720" cy="28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1" name="Line 33"/>
            <p:cNvSpPr/>
            <p:nvPr/>
          </p:nvSpPr>
          <p:spPr>
            <a:xfrm flipV="1">
              <a:off x="2409480" y="4699080"/>
              <a:ext cx="1008360" cy="216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Line 34"/>
            <p:cNvSpPr/>
            <p:nvPr/>
          </p:nvSpPr>
          <p:spPr>
            <a:xfrm>
              <a:off x="3417840" y="4699080"/>
              <a:ext cx="1800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>
              <a:off x="5217840" y="4699080"/>
              <a:ext cx="79236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4" name="Line 36"/>
            <p:cNvSpPr/>
            <p:nvPr/>
          </p:nvSpPr>
          <p:spPr>
            <a:xfrm flipV="1">
              <a:off x="6010200" y="4698720"/>
              <a:ext cx="158436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5" name="Text Box 37"/>
          <p:cNvSpPr/>
          <p:nvPr/>
        </p:nvSpPr>
        <p:spPr>
          <a:xfrm>
            <a:off x="468360" y="1411560"/>
            <a:ext cx="82105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能找出掷硬币时“正面朝上”这个事件发生频率的变化趋势规律吗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WordArt 38"/>
          <p:cNvSpPr txBox="1"/>
          <p:nvPr/>
        </p:nvSpPr>
        <p:spPr>
          <a:xfrm>
            <a:off x="250920" y="549360"/>
            <a:ext cx="208908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问题：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395280" y="3744360"/>
            <a:ext cx="842472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81f"/>
                </a:solidFill>
                <a:latin typeface="Arial"/>
              </a:rPr>
              <a:t>规律：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随着实验次数的增加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正面朝上的频率稳定在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0.5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附近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日期占位符 4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灯片编号占位符 4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76A5-72BC-4725-8F80-8F004057D9C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56760" y="571680"/>
            <a:ext cx="849636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事件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的概率 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地，在大量重复进行同一试验后，随着试验次数的增加，事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生的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频率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逐渐</a:t>
            </a:r>
            <a:r>
              <a:rPr b="1" lang="zh-CN" sz="3200" spc="-1" strike="noStrike">
                <a:solidFill>
                  <a:srgbClr val="f8081f"/>
                </a:solidFill>
                <a:latin typeface="Arial"/>
              </a:rPr>
              <a:t>稳定在某一个常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，这时就把这个常数叫做事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概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Probability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记作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B4E0-F795-4801-8CB0-64E89078759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954800" y="3716280"/>
            <a:ext cx="5261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试验的次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大时，可以将事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的频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8"/>
              <p:cNvSpPr txBox="1"/>
              <p:nvPr/>
            </p:nvSpPr>
            <p:spPr>
              <a:xfrm>
                <a:off x="611280" y="4292640"/>
                <a:ext cx="3492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Text Box 9"/>
          <p:cNvSpPr/>
          <p:nvPr/>
        </p:nvSpPr>
        <p:spPr>
          <a:xfrm>
            <a:off x="1638720" y="4437000"/>
            <a:ext cx="3559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为事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概率的近似值，即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3203640" y="5013360"/>
                <a:ext cx="1368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712944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性质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对于任意一个随机事件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A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有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4"/>
              <p:cNvSpPr txBox="1"/>
              <p:nvPr/>
            </p:nvSpPr>
            <p:spPr>
              <a:xfrm>
                <a:off x="2484360" y="2133720"/>
                <a:ext cx="306396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Text Box 7"/>
          <p:cNvSpPr/>
          <p:nvPr/>
        </p:nvSpPr>
        <p:spPr>
          <a:xfrm>
            <a:off x="731880" y="3016080"/>
            <a:ext cx="13399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11"/>
              <p:cNvSpPr txBox="1"/>
              <p:nvPr/>
            </p:nvSpPr>
            <p:spPr>
              <a:xfrm>
                <a:off x="2095560" y="3162240"/>
                <a:ext cx="5428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16"/>
              <p:cNvSpPr txBox="1"/>
              <p:nvPr/>
            </p:nvSpPr>
            <p:spPr>
              <a:xfrm>
                <a:off x="3132000" y="3141720"/>
                <a:ext cx="4017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7"/>
              <p:cNvSpPr txBox="1"/>
              <p:nvPr/>
            </p:nvSpPr>
            <p:spPr>
              <a:xfrm>
                <a:off x="3995640" y="3860640"/>
                <a:ext cx="331308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18"/>
          <p:cNvSpPr/>
          <p:nvPr/>
        </p:nvSpPr>
        <p:spPr>
          <a:xfrm>
            <a:off x="2638800" y="2997360"/>
            <a:ext cx="4244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19"/>
          <p:cNvSpPr/>
          <p:nvPr/>
        </p:nvSpPr>
        <p:spPr>
          <a:xfrm>
            <a:off x="4468320" y="2997360"/>
            <a:ext cx="28630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别表示必然事件与不可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2031120" y="378936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事件，则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50920" y="2231640"/>
            <a:ext cx="86518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频率是概率的近似值；概率是频率的稳定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频率本身是随机的，试验前不能确定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率是一个确定的数，是客观存在的，与每次试验无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WordArt 3"/>
          <p:cNvSpPr txBox="1"/>
          <p:nvPr/>
        </p:nvSpPr>
        <p:spPr>
          <a:xfrm>
            <a:off x="179280" y="765000"/>
            <a:ext cx="4753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频率与概率的区别与联系：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A0F9-6E2F-44DF-83C8-A991C21FD60D}" type="datetime">
              <a:rPr b="0" lang="zh-CN" sz="1400" spc="-1" strike="noStrike">
                <a:solidFill>
                  <a:srgbClr val="007a77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E6C7-FC24-4DBC-A476-07D771094BE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1748880" y="1218600"/>
            <a:ext cx="59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某电视机厂生产的电视机进行抽样检测的数据如下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0" y="2205000"/>
          <a:ext cx="8964720" cy="1513080"/>
        </p:xfrm>
        <a:graphic>
          <a:graphicData uri="http://schemas.openxmlformats.org/drawingml/2006/table">
            <a:tbl>
              <a:tblPr/>
              <a:tblGrid>
                <a:gridCol w="2771640"/>
                <a:gridCol w="936720"/>
                <a:gridCol w="1079640"/>
                <a:gridCol w="1224000"/>
                <a:gridCol w="1008000"/>
                <a:gridCol w="1008000"/>
                <a:gridCol w="93672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抽取台数（</a:t>
                      </a: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等品数（）       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92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192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285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478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954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优等品频率（      ）</a:t>
                      </a:r>
                      <a:endParaRPr b="0" lang="en-US" sz="25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2" name="Rectangle 39"/>
          <p:cNvSpPr/>
          <p:nvPr/>
        </p:nvSpPr>
        <p:spPr>
          <a:xfrm>
            <a:off x="1635840" y="4221360"/>
            <a:ext cx="4484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表中优等品的各个频率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厂生产的电视机优等品的概率是多少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3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7596360" y="4580640"/>
            <a:ext cx="1091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0.95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2886120" y="32590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3867480" y="3259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9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5020200" y="3259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9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6172560" y="3259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95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7011360" y="3259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956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8019360" y="3141720"/>
            <a:ext cx="9428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0.954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1187280" y="1844640"/>
            <a:ext cx="7715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抛出一块石块，下落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标准大气压下，把水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热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，沸腾；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异性电荷，互相排斥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煮熟的种子，发芽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掷一枚硬币，出现正面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在幼儿园投篮游戏中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明正好命中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214960" y="19288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---------------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必然发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580000" y="2708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---------------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必然发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5364000" y="3573360"/>
            <a:ext cx="210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-------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不可能发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435640" y="4076640"/>
            <a:ext cx="21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-------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  <a:ea typeface="黑体"/>
              </a:rPr>
              <a:t>不可能发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4965840" y="4581360"/>
            <a:ext cx="417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---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可能发生、也可能不发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716360" y="5157720"/>
            <a:ext cx="417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---</a:t>
            </a: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黑体"/>
              </a:rPr>
              <a:t>可能发生、也可能不发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1187280" y="1125360"/>
            <a:ext cx="379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观察下列现象，各有什么特点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539640" y="333360"/>
            <a:ext cx="396108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Symbol"/>
                <a:ea typeface="Symbol"/>
              </a:rPr>
              <a:t>事件的分类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E7F8-0486-4E7D-A211-FDD1C6267E9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533880" y="2276640"/>
            <a:ext cx="256932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事件的分类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1325160" y="3573360"/>
            <a:ext cx="508716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）随机事件概率与频率的区别与联系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153320" y="2852640"/>
            <a:ext cx="61020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8081f"/>
                </a:solidFill>
                <a:latin typeface="幼圆"/>
                <a:ea typeface="幼圆"/>
              </a:rPr>
              <a:t>必然事件、不可能事件和随机事件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WordArt 7"/>
          <p:cNvSpPr txBox="1"/>
          <p:nvPr/>
        </p:nvSpPr>
        <p:spPr>
          <a:xfrm>
            <a:off x="250920" y="112536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课堂小结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4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C121-A461-4D65-B423-6B027A81F8D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CFDC-4A15-411A-80DE-FED09022FEFA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6" name="WordArt 7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7796520" cy="622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457200" y="69228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下列事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口袋里有伍角、壹角、壹元的硬币若干枚，随机地摸出一枚是壹角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标准大气压下，水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沸腾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射击运动员射击一次命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掷两颗骰子，出现的点数之和不超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是随机事件的有                                                        （     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②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③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②④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下列事件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∈R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+b=b+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②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地球不停地转动”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天泰安下雨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水份，黄豆能发芽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中是必然事件的有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②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①②③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①④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②③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B2E6-D2A0-47AA-AA81-BBA44A977AB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WordArt 7"/>
          <p:cNvSpPr txBox="1"/>
          <p:nvPr/>
        </p:nvSpPr>
        <p:spPr>
          <a:xfrm>
            <a:off x="571680" y="1000080"/>
            <a:ext cx="77864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概率应用二：解释生活现象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10" name="TextBox 5"/>
          <p:cNvSpPr/>
          <p:nvPr/>
        </p:nvSpPr>
        <p:spPr>
          <a:xfrm>
            <a:off x="611280" y="242100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张明同学抛一枚硬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，共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反面朝上，于是，他指出：抛掷一枚硬币，出现反面朝上的概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.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你认为他的结论正确吗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857160"/>
            <a:ext cx="91440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某射手在同一条件下进行射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果如下表所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表中击中靶心的各个频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个射手射击一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击中靶心的概率约是多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09480" y="1500120"/>
          <a:ext cx="8534520" cy="1800360"/>
        </p:xfrm>
        <a:graphic>
          <a:graphicData uri="http://schemas.openxmlformats.org/drawingml/2006/table">
            <a:tbl>
              <a:tblPr/>
              <a:tblGrid>
                <a:gridCol w="331020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射击次数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击中靶心次数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9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7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55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击中靶心频率</a:t>
                      </a: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/n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37"/>
          <p:cNvSpPr/>
          <p:nvPr/>
        </p:nvSpPr>
        <p:spPr>
          <a:xfrm>
            <a:off x="4014720" y="271476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38"/>
          <p:cNvSpPr/>
          <p:nvPr/>
        </p:nvSpPr>
        <p:spPr>
          <a:xfrm>
            <a:off x="4857840" y="27147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.95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39"/>
          <p:cNvSpPr/>
          <p:nvPr/>
        </p:nvSpPr>
        <p:spPr>
          <a:xfrm>
            <a:off x="5715000" y="27147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.88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40"/>
          <p:cNvSpPr/>
          <p:nvPr/>
        </p:nvSpPr>
        <p:spPr>
          <a:xfrm>
            <a:off x="6572160" y="27860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.9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41"/>
          <p:cNvSpPr/>
          <p:nvPr/>
        </p:nvSpPr>
        <p:spPr>
          <a:xfrm>
            <a:off x="7385040" y="2738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.8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42"/>
          <p:cNvSpPr/>
          <p:nvPr/>
        </p:nvSpPr>
        <p:spPr>
          <a:xfrm>
            <a:off x="8358120" y="278604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.91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Text Box 43"/>
          <p:cNvSpPr/>
          <p:nvPr/>
        </p:nvSpPr>
        <p:spPr>
          <a:xfrm>
            <a:off x="6786720" y="371484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约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0.9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179280" y="4149720"/>
            <a:ext cx="8891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射手击中靶心的概率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0.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他射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，一定能击中靶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次吗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250920" y="5302080"/>
            <a:ext cx="89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答：不一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篮相当于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试验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每次试验的结果都是随机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所以射击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次的结果也是随机的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但随着射击次数的增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他击中的可能性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%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灯片编号占位符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5C9D-2214-46C2-B145-439FB44D388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WordArt 7"/>
          <p:cNvSpPr txBox="1"/>
          <p:nvPr/>
        </p:nvSpPr>
        <p:spPr>
          <a:xfrm>
            <a:off x="1143000" y="0"/>
            <a:ext cx="778680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概率应用三：用频率估计概率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Oval 2"/>
          <p:cNvSpPr/>
          <p:nvPr/>
        </p:nvSpPr>
        <p:spPr>
          <a:xfrm>
            <a:off x="0" y="549360"/>
            <a:ext cx="1077840" cy="5760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练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00000" y="1268280"/>
            <a:ext cx="777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地区从某年起几年之内的新生儿数及其中的男婴数如下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76360" y="2492280"/>
          <a:ext cx="5832360" cy="1828800"/>
        </p:xfrm>
        <a:graphic>
          <a:graphicData uri="http://schemas.openxmlformats.org/drawingml/2006/table">
            <a:tbl>
              <a:tblPr/>
              <a:tblGrid>
                <a:gridCol w="1752480"/>
                <a:gridCol w="974880"/>
                <a:gridCol w="907920"/>
                <a:gridCol w="984240"/>
                <a:gridCol w="1212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范围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内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内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内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内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新生婴儿数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7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2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9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婴数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3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0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94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92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婴出生频率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36"/>
          <p:cNvSpPr/>
          <p:nvPr/>
        </p:nvSpPr>
        <p:spPr>
          <a:xfrm>
            <a:off x="3203640" y="37893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0.520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Text Box 37"/>
          <p:cNvSpPr/>
          <p:nvPr/>
        </p:nvSpPr>
        <p:spPr>
          <a:xfrm>
            <a:off x="4140360" y="3789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0.51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Text Box 38"/>
          <p:cNvSpPr/>
          <p:nvPr/>
        </p:nvSpPr>
        <p:spPr>
          <a:xfrm>
            <a:off x="5148360" y="37893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0.51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Text Box 39"/>
          <p:cNvSpPr/>
          <p:nvPr/>
        </p:nvSpPr>
        <p:spPr>
          <a:xfrm>
            <a:off x="6084720" y="378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0.517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Text Box 40"/>
          <p:cNvSpPr/>
          <p:nvPr/>
        </p:nvSpPr>
        <p:spPr>
          <a:xfrm>
            <a:off x="612720" y="4365720"/>
            <a:ext cx="73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填写上表中的男婴出生频率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这一地区男婴出生的概率约为多少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41"/>
          <p:cNvSpPr/>
          <p:nvPr/>
        </p:nvSpPr>
        <p:spPr>
          <a:xfrm>
            <a:off x="7122240" y="5517360"/>
            <a:ext cx="11728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约</a:t>
            </a:r>
            <a:r>
              <a:rPr b="1" lang="zh-CN" sz="2800" spc="-1" strike="noStrike">
                <a:solidFill>
                  <a:srgbClr val="f8081f"/>
                </a:solidFill>
                <a:latin typeface="Arial"/>
              </a:rPr>
              <a:t>0.5</a:t>
            </a:r>
            <a:r>
              <a:rPr b="1" lang="en-US" sz="2800" spc="-1" strike="noStrike">
                <a:solidFill>
                  <a:srgbClr val="f8081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539-D53D-4429-8C61-25DB556AC8CB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7"/>
          <p:cNvSpPr txBox="1"/>
          <p:nvPr/>
        </p:nvSpPr>
        <p:spPr>
          <a:xfrm>
            <a:off x="1979640" y="249228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5D08-7D41-474B-B9C9-C8B21B4536E1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1619280" y="765000"/>
            <a:ext cx="5977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定性现象与随机现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55640" y="2133720"/>
            <a:ext cx="812340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定条件下，事先就能断定发生或不发生某种结果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种现象就是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确定性现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1116000" y="3357720"/>
            <a:ext cx="6912000" cy="734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定条件下，某种现象可能发生，也可能不发生，事先不能断定出哪种结果，这种现象就是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随机现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3467520" y="4869000"/>
            <a:ext cx="2283480" cy="8254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某个现象，如果能让其条件实现一次，就是进行了一次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试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而试验的每一种可能的结果，都是一个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事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539640" y="3068640"/>
            <a:ext cx="77155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抛出一块石块，下落；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在标准大气压下，把水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加热到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时，沸腾；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异性电荷，互相排斥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煮熟的种子，发芽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掷一枚硬币，出现正面；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在幼儿园投篮游戏中，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小明正好命中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3564000" y="386064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-----------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必然发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3708360" y="3357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------------</a:t>
            </a: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必然发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4500720" y="45086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黑体"/>
              </a:rPr>
              <a:t>-------</a:t>
            </a:r>
            <a:r>
              <a:rPr b="1" lang="zh-CN" sz="1800" spc="-1" strike="noStrike">
                <a:solidFill>
                  <a:srgbClr val="0000cc"/>
                </a:solidFill>
                <a:latin typeface="Times New Roman"/>
                <a:ea typeface="黑体"/>
              </a:rPr>
              <a:t>不可能发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572000" y="4941720"/>
            <a:ext cx="21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黑体"/>
              </a:rPr>
              <a:t>-------</a:t>
            </a:r>
            <a:r>
              <a:rPr b="1" lang="zh-CN" sz="1800" spc="-1" strike="noStrike">
                <a:solidFill>
                  <a:srgbClr val="0000cc"/>
                </a:solidFill>
                <a:latin typeface="Times New Roman"/>
                <a:ea typeface="黑体"/>
              </a:rPr>
              <a:t>不可能发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348000" y="537372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---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可能发生、也可能不发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419640" y="5805360"/>
            <a:ext cx="41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---</a:t>
            </a:r>
            <a:r>
              <a:rPr b="1" lang="zh-CN" sz="1800" spc="-1" strike="noStrike">
                <a:solidFill>
                  <a:srgbClr val="ff00ff"/>
                </a:solidFill>
                <a:latin typeface="Times New Roman"/>
                <a:ea typeface="黑体"/>
              </a:rPr>
              <a:t>可能发生、也可能不发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WordArt 16"/>
          <p:cNvSpPr txBox="1"/>
          <p:nvPr/>
        </p:nvSpPr>
        <p:spPr>
          <a:xfrm>
            <a:off x="5586480" y="44280"/>
            <a:ext cx="13618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바탕"/>
              </a:rPr>
              <a:t>welcome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바탕"/>
              <a:ea typeface="바탕"/>
            </a:endParaRPr>
          </a:p>
        </p:txBody>
      </p:sp>
      <p:sp>
        <p:nvSpPr>
          <p:cNvPr id="73" name="灯片编号占位符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DB53-DD81-47A6-8C52-69CDC4A3658E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74" name="Group 12"/>
          <p:cNvGrpSpPr/>
          <p:nvPr/>
        </p:nvGrpSpPr>
        <p:grpSpPr>
          <a:xfrm>
            <a:off x="6227640" y="3429000"/>
            <a:ext cx="1913040" cy="863640"/>
            <a:chOff x="6227640" y="3429000"/>
            <a:chExt cx="1913040" cy="863640"/>
          </a:xfrm>
        </p:grpSpPr>
        <p:sp>
          <p:nvSpPr>
            <p:cNvPr id="75" name="AutoShape 13"/>
            <p:cNvSpPr/>
            <p:nvPr/>
          </p:nvSpPr>
          <p:spPr>
            <a:xfrm>
              <a:off x="6335640" y="3429000"/>
              <a:ext cx="392040" cy="863640"/>
            </a:xfrm>
            <a:custGeom>
              <a:avLst/>
              <a:gdLst>
                <a:gd name="textAreaLeft" fmla="*/ 0 w 392040"/>
                <a:gd name="textAreaRight" fmla="*/ 141480 w 3920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6" name="Rectangle 14"/>
            <p:cNvSpPr/>
            <p:nvPr/>
          </p:nvSpPr>
          <p:spPr>
            <a:xfrm>
              <a:off x="6227640" y="3657600"/>
              <a:ext cx="191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Times New Roman"/>
                </a:rPr>
                <a:t>必然事件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6877080" y="4437000"/>
            <a:ext cx="1785960" cy="863640"/>
            <a:chOff x="6877080" y="4437000"/>
            <a:chExt cx="1785960" cy="863640"/>
          </a:xfrm>
        </p:grpSpPr>
        <p:sp>
          <p:nvSpPr>
            <p:cNvPr id="78" name="AutoShape 16"/>
            <p:cNvSpPr/>
            <p:nvPr/>
          </p:nvSpPr>
          <p:spPr>
            <a:xfrm>
              <a:off x="6877080" y="4437000"/>
              <a:ext cx="392040" cy="863640"/>
            </a:xfrm>
            <a:custGeom>
              <a:avLst/>
              <a:gdLst>
                <a:gd name="textAreaLeft" fmla="*/ 0 w 392040"/>
                <a:gd name="textAreaRight" fmla="*/ 141480 w 3920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" name="Rectangle 17"/>
            <p:cNvSpPr/>
            <p:nvPr/>
          </p:nvSpPr>
          <p:spPr>
            <a:xfrm>
              <a:off x="7234200" y="4665600"/>
              <a:ext cx="14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Times New Roman"/>
                </a:rPr>
                <a:t>不可能事件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80" name="Group 18"/>
          <p:cNvGrpSpPr/>
          <p:nvPr/>
        </p:nvGrpSpPr>
        <p:grpSpPr>
          <a:xfrm>
            <a:off x="7500960" y="5300640"/>
            <a:ext cx="1643040" cy="863640"/>
            <a:chOff x="7500960" y="5300640"/>
            <a:chExt cx="1643040" cy="863640"/>
          </a:xfrm>
        </p:grpSpPr>
        <p:sp>
          <p:nvSpPr>
            <p:cNvPr id="81" name="AutoShape 19"/>
            <p:cNvSpPr/>
            <p:nvPr/>
          </p:nvSpPr>
          <p:spPr>
            <a:xfrm>
              <a:off x="7500960" y="5300640"/>
              <a:ext cx="392040" cy="863640"/>
            </a:xfrm>
            <a:custGeom>
              <a:avLst/>
              <a:gdLst>
                <a:gd name="textAreaLeft" fmla="*/ 0 w 392040"/>
                <a:gd name="textAreaRight" fmla="*/ 141480 w 3920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2" name="Rectangle 20"/>
            <p:cNvSpPr/>
            <p:nvPr/>
          </p:nvSpPr>
          <p:spPr>
            <a:xfrm>
              <a:off x="7893000" y="5529240"/>
              <a:ext cx="125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ff"/>
                  </a:solidFill>
                  <a:latin typeface="Times New Roman"/>
                </a:rPr>
                <a:t>随机事件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83" name="Text Box 23"/>
          <p:cNvSpPr/>
          <p:nvPr/>
        </p:nvSpPr>
        <p:spPr>
          <a:xfrm>
            <a:off x="1476360" y="0"/>
            <a:ext cx="57247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必然事件、不可能事件与随机事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26"/>
          <p:cNvSpPr/>
          <p:nvPr/>
        </p:nvSpPr>
        <p:spPr>
          <a:xfrm>
            <a:off x="2915280" y="692280"/>
            <a:ext cx="14000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定的条件下，必然会发生的事件叫做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必然事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27"/>
          <p:cNvSpPr/>
          <p:nvPr/>
        </p:nvSpPr>
        <p:spPr>
          <a:xfrm>
            <a:off x="3130200" y="1197000"/>
            <a:ext cx="15829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定的条件下，肯定不会发生的事件叫做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不可能事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3681360" y="1773360"/>
            <a:ext cx="140004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定的条件下，可能发生也可能不发生的事件叫做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随机事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29"/>
          <p:cNvSpPr/>
          <p:nvPr/>
        </p:nvSpPr>
        <p:spPr>
          <a:xfrm>
            <a:off x="3231000" y="2492280"/>
            <a:ext cx="270756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后我们用</a:t>
            </a:r>
            <a:r>
              <a:rPr b="1" lang="en-US" sz="2400" spc="-1" strike="noStrike">
                <a:solidFill>
                  <a:srgbClr val="f8081f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8081f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f8081f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f8081f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大写英文字母表示随机事件，简称为事件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75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40464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指出下列事件是必然事件，不可能事件，还是随机事件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1557360"/>
            <a:ext cx="6877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北京市明天有沙尘暴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实数时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手电筒的电池没电，灯泡发亮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个电影院某天的上座率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从分别标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张号签中任取一张，得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号签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6626160" y="1557360"/>
            <a:ext cx="16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随机事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626160" y="2205000"/>
            <a:ext cx="167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8081f"/>
                </a:solidFill>
                <a:latin typeface="Times New Roman"/>
              </a:rPr>
              <a:t>必然事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6548400" y="2852640"/>
            <a:ext cx="19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不可能事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664320" y="350028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随机事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6877080" y="436572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</a:rPr>
              <a:t>随机事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练习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有下列事件：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连续掷一枚硬币两次，两次都出现正面向上；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异性电荷，相互吸引；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标准大气压下，水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结冰。其中是随机事件的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指出下列事件是必然事件、不可能事件还是随机事件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一条公路上，某一小时内通过某一收费站的汽车超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辆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实数，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+1|+|a+2|=0;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483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北京地区每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份月平均气温低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份的月平均气温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在常温常压下，石墨能变成金刚石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发射一枚炮弹，命中目标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明天下雨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266400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同时掷两颗骰子，向上一面的两个点数之和不小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射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次，命中靶心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实数时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4x+4&lt;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其中，必然事件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不可能事件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随机事件有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250920" y="549360"/>
            <a:ext cx="8532720" cy="17593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给出下列事件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明天进行的某场足球赛的比分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: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下周一某地的最高气温与最低气温相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ºC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2760" y="2044440"/>
            <a:ext cx="8541000" cy="286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机事件在一次试验中可能发生可能不发生，是随机的，但在大量重复实验的情况下，它的发生有没有一定的规律性呢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D2D8-8DDE-4CAE-8C15-09D7BE777DAF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468360" y="620640"/>
            <a:ext cx="3960720" cy="703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4000" spc="-1" strike="noStrike">
                <a:solidFill>
                  <a:srgbClr val="000000"/>
                </a:solidFill>
                <a:latin typeface="Symbol"/>
                <a:ea typeface="Symbol"/>
              </a:rPr>
              <a:t>频率与概率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23:16:15Z</dcterms:created>
  <dc:creator/>
  <dc:description/>
  <cp:keywords/>
  <dc:language>en-US</dc:language>
  <cp:lastModifiedBy>Administrator</cp:lastModifiedBy>
  <cp:lastPrinted>1899-12-30T00:00:00Z</cp:lastPrinted>
  <dcterms:modified xsi:type="dcterms:W3CDTF">2021-03-19T02:37:26Z</dcterms:modified>
  <cp:revision>2485</cp:revision>
  <dc:subject/>
  <dc:title>随机事件及其概率（1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